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png" ContentType="image/png"/>
  <Override PartName="/ppt/media/image17.wmf" ContentType="image/x-wmf"/>
  <Override PartName="/ppt/media/image5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4.gif" ContentType="image/gif"/>
  <Override PartName="/ppt/media/image15.wmf" ContentType="image/x-wmf"/>
  <Override PartName="/ppt/media/image3.jpeg" ContentType="image/jpeg"/>
  <Override PartName="/ppt/media/image1.png" ContentType="image/png"/>
  <Override PartName="/ppt/media/image29.png" ContentType="image/png"/>
  <Override PartName="/ppt/media/image28.jpeg" ContentType="image/jpeg"/>
  <Override PartName="/ppt/media/image26.wmf" ContentType="image/x-wmf"/>
  <Override PartName="/ppt/media/image27.wmf" ContentType="image/x-wmf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0DFE-1051-4534-9975-A6EDA301DCC7}" type="slidenum">
              <a:rPr b="1" i="1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A008-6B13-4665-B214-BE6218B460BC}" type="slidenum">
              <a:rPr b="1" i="1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BFA8-4E15-4721-AC75-A267AE3F5AD0}" type="slidenum">
              <a:rPr b="1" i="1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B6FE8-1B58-4158-853E-55445A80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85DDF-1BDE-4B08-B0D6-642E1CEE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172880" y="677880"/>
            <a:ext cx="77914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38B8D-8A88-473A-B085-B02C2A99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1ECFE-7EEB-47E2-BAD0-F78ECC38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3B366-83E4-4432-8032-0869C9C5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A1C26-4FB7-48CA-B70E-D3ED0EBA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4A175-C446-47F3-A194-95484F7D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B87F8-5744-4909-844F-EE271D10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60CF6-D153-478C-9BE8-E2259B93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75FCF-96B1-435E-AB8C-F03C9AF1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3959D-538D-45F4-820C-0455938E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E4CFA-4658-413C-8BE7-61AEA864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B7C04-0346-4F7C-8C10-CC60624F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4F1AB-46AC-431F-A5C9-459F2C3C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172880" y="677880"/>
            <a:ext cx="77914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5763E-2E43-4175-8266-D34EDDF1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1E821-F8AC-4F17-A70C-E7CB3EC5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11A20-DEB4-4E6E-9D7B-47436381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F208B-BE74-4849-9AFF-BB99D3DE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818F8-9249-4EFF-BD86-C35ECC86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FC4CB-7E48-4739-94A9-FA1F3722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25D9F-46E1-41AC-AAD7-0EA9EE75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3E731-A1E6-4311-97E6-F796752B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F4548-221F-4F75-A7F6-D3218F3A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8D95E-B4A5-45DE-9C46-ADAD3346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42B8A-9BC6-407A-905B-22D8136A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328AD-1EC2-4F12-A77B-02E67A3F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172880" y="677880"/>
            <a:ext cx="77914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90DF9-697F-4A67-9DF8-88237B2D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8551E-5876-44B6-BF44-6E87F6E7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A8D66-D6D9-4874-9C34-E2AB8CC3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2F475-3671-404D-B42B-9B67CEB9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B11-CBCB-4322-BB91-3D509FA7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CA662-6C18-49D3-9E14-C625DE91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6A756-C183-42F1-9269-6A613B1C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67393-D0B5-424A-A876-96CC0E0A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96DFB-28E4-46D2-9263-2B7B371A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FF5A8-F9DA-4FD8-AE0E-F93FABE0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63BBD-E192-4600-99BF-334216E9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61A79-AE16-4E8A-9EE2-437727B8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EAE1A-9CA3-4058-A4A9-F7586B9B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1172880" y="677880"/>
            <a:ext cx="77914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9FD08-3010-4E08-85CD-813DE32F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816EE-82D0-4849-99FD-615E16C0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179-6FE8-450A-A05D-B3375832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A920C-66F5-4F6B-A4C5-2BB2191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DDF01-19B9-4D04-85D8-6CE80EB9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43278-CFC3-4285-AEBC-E56CC2BD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0CE23-D1EF-4733-AF48-E8C4660B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8036D-9532-4560-9DCB-A93E05AB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19F-C69A-43E6-AB4F-7ACC9CB2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558-0929-4747-B4A7-7F210B6A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EDC-0EEC-43CE-AF48-00E56C1A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72880" y="677880"/>
            <a:ext cx="77914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DE3-9E4D-46C9-8E93-C7B46DD8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23A-5095-4A42-B92F-D670AC2D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85A-A2AF-4CC8-A178-39CD05EB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353-6E97-469C-9158-6E887B4A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285-FD23-4444-BFA4-A422F0E9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320-9514-4E48-82D8-2B6030A8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C26-BAAD-4445-A859-49294AB7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7072-1F12-4553-9BAA-64890F19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1830-4D6B-4DBC-93DE-7426E476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1B2E-869F-4D4E-8E1A-5AD9045C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4FD1-2ED4-43F1-B183-B75C386D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E697-309B-4B76-8786-E6B66A16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2880" y="677880"/>
            <a:ext cx="77914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A6E4-B873-4979-8D0A-B79CFCA1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5BD2-0212-40D9-8E81-5D082F6A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28B7-FF8B-44A1-8C4C-C36F4FD3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7540-5F10-435C-B5BE-9203B709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9F24-331D-47E1-B31B-EEF0B792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1CC1-DD7C-454C-9019-D80D0894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18D6-37BA-43C8-838C-2CFD4934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A6D94-89EF-444F-9946-AB0C4870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BDF88-BEBC-45F9-92C3-AFDBF4D9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FF5D1-AE25-4F9A-89BF-54AA093C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55AA-7C33-4912-853A-EEE047E6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F76C-264F-47D5-8757-EF80F4B7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72880" y="677880"/>
            <a:ext cx="77914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9DE4-688C-4D01-8DBD-C6EB962A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FA0E3-7252-4669-9F69-EF87B9FA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EB670-7CC6-4EE0-BC41-04561FB3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01638-38AC-448C-80E8-3A662BEA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68E43-0321-4EB9-A4AC-3CFDCFD6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B806-CB78-4525-9143-D4E4E58C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BAE9-F301-44B5-8980-4F7C7CA3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33F9E-C99E-418C-9C38-93E3C0CD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A9F96-9E1F-40C1-B11F-1B0EE650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444DD-FB30-4398-89CD-7C87DE52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4E433-72D7-4ADD-BC7C-00A7EDDF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03467-612A-4623-80BD-407691F9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172880" y="677880"/>
            <a:ext cx="77914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B047-02D5-4F55-BA88-2A52CFA9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20580-3632-43A2-992E-ADC82E38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6ECEB-DD21-4E2C-A293-93E68CBE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1EE4-A7E6-430F-9628-B114CB36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CB205-64B0-49C5-87D6-84E2F504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F988-48D6-4A40-9246-41A385D8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2880" y="677880"/>
            <a:ext cx="77914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AC54E-A230-45A7-BF2F-C2721F7E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33D8F-CC5D-457F-BC1D-263F9BEA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4CE45-94B3-4ACA-AE1E-511F8A88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E80DC-F227-4A97-B0FE-F8B0902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46C85-B96C-44CB-ADC4-6D9D8547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06B51-49DE-43A8-9412-AF3FEB12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172880" y="677880"/>
            <a:ext cx="77914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DA148-34C3-44AC-9041-9C8E6FB7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238B1-CB2F-4CAF-9F17-15CE9FB5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8FC6-F445-4997-BFA1-AE9CCE6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69AA7-46B4-4BD3-9BB5-BC4655EC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B830F-6221-4093-8241-9E7CC223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981C8-26BB-4955-89DF-44FBA28E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6871B-4D21-4E46-90D8-A2624DEE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4AA59-6FB0-44AE-B57D-0D9DF857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BC64C-34FB-4BD7-8F87-CFC98877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ED020-5DA5-4586-9CE3-08B60B9F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04C9E-7E7F-48CA-A29C-CE664AFA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9E148-0627-4CC2-ADF8-D62A7C12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172880" y="677880"/>
            <a:ext cx="77914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47F5-5BD5-4937-A192-DA94D742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50ECF-B03A-4C65-B8F5-AD3AA7A7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A7CAD-D99D-4C91-BD88-B692C6E9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AECEC-2568-4B7F-821E-51632E38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3F694-40AC-4E8D-AA96-D60391D6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2A03D-9C8E-49A3-9A5D-10A1BE13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BC360-0B93-4B3B-A29C-EFEF192E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6E5BD-6401-4E7D-A43C-FD29E26A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8490C-2A56-4CD4-8426-45367B85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13515-C86B-4856-BE53-37D64704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2ADE3-182E-4747-A3B1-730D3E04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4362D-48E7-4C39-BA2A-6EA76A52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172880" y="677880"/>
            <a:ext cx="77914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65159-151C-4EE7-BC00-14218E42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47423-0EE4-442A-B1CC-6D15EA15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64544-7E7D-4F5D-A9E2-904383E8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B19F4-DF90-4442-BE75-FDCA9F39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7DAEA-E32B-4CA1-946D-05ED6E35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5CBC8-8D7A-43F7-9341-8BE6DFBA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5C7BE-B5E6-4154-8843-0875F271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82C34-2815-45FC-B1AE-2632901F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BC18B-1906-40EE-A107-64F75B74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2880" y="504000"/>
            <a:ext cx="779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255F3-B58C-449B-A976-259B645C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49280" y="53496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31960" y="53496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73120" y="9572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42840" y="95724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58760" y="88416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4080" y="38088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17600" y="128412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2880" y="6778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" name="组合 13"/>
          <p:cNvGrpSpPr/>
          <p:nvPr/>
        </p:nvGrpSpPr>
        <p:grpSpPr>
          <a:xfrm>
            <a:off x="7236000" y="100080"/>
            <a:ext cx="1790640" cy="520560"/>
            <a:chOff x="7236000" y="100080"/>
            <a:chExt cx="1790640" cy="520560"/>
          </a:xfrm>
        </p:grpSpPr>
        <p:pic>
          <p:nvPicPr>
            <p:cNvPr id="10" name="image1.png" descr=""/>
            <p:cNvPicPr/>
            <p:nvPr/>
          </p:nvPicPr>
          <p:blipFill>
            <a:blip r:embed="rId2"/>
            <a:stretch/>
          </p:blipFill>
          <p:spPr>
            <a:xfrm>
              <a:off x="7745760" y="100080"/>
              <a:ext cx="61740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image2.png" descr=""/>
            <p:cNvPicPr/>
            <p:nvPr/>
          </p:nvPicPr>
          <p:blipFill>
            <a:blip r:embed="rId3"/>
            <a:stretch/>
          </p:blipFill>
          <p:spPr>
            <a:xfrm>
              <a:off x="7236000" y="381240"/>
              <a:ext cx="1790640" cy="239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49280" y="53496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831960" y="53496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573120" y="9572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942840" y="95724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158760" y="88416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784080" y="38088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417600" y="128412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3" name="组合 13"/>
          <p:cNvGrpSpPr/>
          <p:nvPr/>
        </p:nvGrpSpPr>
        <p:grpSpPr>
          <a:xfrm>
            <a:off x="7236000" y="100080"/>
            <a:ext cx="1790640" cy="520560"/>
            <a:chOff x="7236000" y="100080"/>
            <a:chExt cx="1790640" cy="520560"/>
          </a:xfrm>
        </p:grpSpPr>
        <p:pic>
          <p:nvPicPr>
            <p:cNvPr id="464" name="image1.png" descr=""/>
            <p:cNvPicPr/>
            <p:nvPr/>
          </p:nvPicPr>
          <p:blipFill>
            <a:blip r:embed="rId2"/>
            <a:stretch/>
          </p:blipFill>
          <p:spPr>
            <a:xfrm>
              <a:off x="7745760" y="100080"/>
              <a:ext cx="61740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image2.png" descr=""/>
            <p:cNvPicPr/>
            <p:nvPr/>
          </p:nvPicPr>
          <p:blipFill>
            <a:blip r:embed="rId3"/>
            <a:stretch/>
          </p:blipFill>
          <p:spPr>
            <a:xfrm>
              <a:off x="7236000" y="381240"/>
              <a:ext cx="1790640" cy="2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72880" y="6778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CF50-4B53-48E4-AC69-B98CE9273410}" type="slidenum">
              <a:rPr b="1" i="1" lang="en-US" sz="3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449280" y="53496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831960" y="53496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573120" y="9572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942840" y="95724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158760" y="88416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784080" y="38088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417600" y="128412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" name="组合 13"/>
          <p:cNvGrpSpPr/>
          <p:nvPr/>
        </p:nvGrpSpPr>
        <p:grpSpPr>
          <a:xfrm>
            <a:off x="7236000" y="100080"/>
            <a:ext cx="1790640" cy="520560"/>
            <a:chOff x="7236000" y="100080"/>
            <a:chExt cx="1790640" cy="520560"/>
          </a:xfrm>
        </p:grpSpPr>
        <p:pic>
          <p:nvPicPr>
            <p:cNvPr id="515" name="image1.png" descr=""/>
            <p:cNvPicPr/>
            <p:nvPr/>
          </p:nvPicPr>
          <p:blipFill>
            <a:blip r:embed="rId2"/>
            <a:stretch/>
          </p:blipFill>
          <p:spPr>
            <a:xfrm>
              <a:off x="7745760" y="100080"/>
              <a:ext cx="61740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image2.png" descr=""/>
            <p:cNvPicPr/>
            <p:nvPr/>
          </p:nvPicPr>
          <p:blipFill>
            <a:blip r:embed="rId3"/>
            <a:stretch/>
          </p:blipFill>
          <p:spPr>
            <a:xfrm>
              <a:off x="7236000" y="381240"/>
              <a:ext cx="1790640" cy="2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72880" y="6778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846F-D754-4152-9DB9-2A396EF5795B}" type="slidenum">
              <a:rPr b="1" i="1" lang="en-US" sz="3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449280" y="53496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831960" y="53496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573120" y="9572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942840" y="95724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158760" y="88416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784080" y="38088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417600" y="128412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组合 13"/>
          <p:cNvGrpSpPr/>
          <p:nvPr/>
        </p:nvGrpSpPr>
        <p:grpSpPr>
          <a:xfrm>
            <a:off x="7236000" y="100080"/>
            <a:ext cx="1790640" cy="520560"/>
            <a:chOff x="7236000" y="100080"/>
            <a:chExt cx="1790640" cy="520560"/>
          </a:xfrm>
        </p:grpSpPr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7745760" y="100080"/>
              <a:ext cx="61740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image2.png" descr=""/>
            <p:cNvPicPr/>
            <p:nvPr/>
          </p:nvPicPr>
          <p:blipFill>
            <a:blip r:embed="rId3"/>
            <a:stretch/>
          </p:blipFill>
          <p:spPr>
            <a:xfrm>
              <a:off x="7236000" y="381240"/>
              <a:ext cx="1790640" cy="2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2880" y="6778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4D7E-61D4-40CA-98FC-5E042F8FDD7C}" type="slidenum">
              <a:rPr b="1" i="1" lang="en-US" sz="3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2880" y="6778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2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0AB9-C546-455D-AE1F-2596454D3624}" type="slidenum">
              <a:rPr b="1" i="1" lang="en-US" sz="32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49280" y="53496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31960" y="53496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73120" y="9572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42840" y="95724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58760" y="88416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84080" y="38088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17600" y="128412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组合 13"/>
          <p:cNvGrpSpPr/>
          <p:nvPr/>
        </p:nvGrpSpPr>
        <p:grpSpPr>
          <a:xfrm>
            <a:off x="7236000" y="100080"/>
            <a:ext cx="1790640" cy="520560"/>
            <a:chOff x="7236000" y="100080"/>
            <a:chExt cx="1790640" cy="520560"/>
          </a:xfrm>
        </p:grpSpPr>
        <p:pic>
          <p:nvPicPr>
            <p:cNvPr id="107" name="image1.png" descr=""/>
            <p:cNvPicPr/>
            <p:nvPr/>
          </p:nvPicPr>
          <p:blipFill>
            <a:blip r:embed="rId2"/>
            <a:stretch/>
          </p:blipFill>
          <p:spPr>
            <a:xfrm>
              <a:off x="7745760" y="100080"/>
              <a:ext cx="61740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image2.png" descr=""/>
            <p:cNvPicPr/>
            <p:nvPr/>
          </p:nvPicPr>
          <p:blipFill>
            <a:blip r:embed="rId3"/>
            <a:stretch/>
          </p:blipFill>
          <p:spPr>
            <a:xfrm>
              <a:off x="7236000" y="381240"/>
              <a:ext cx="1790640" cy="2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2880" y="6778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AE7E-1046-4073-9143-D38052D68C4A}" type="slidenum">
              <a:rPr b="1" i="1" lang="en-US" sz="3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49280" y="53496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31960" y="53496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73120" y="9572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42840" y="95724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8760" y="88416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84080" y="38088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17600" y="128412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组合 13"/>
          <p:cNvGrpSpPr/>
          <p:nvPr/>
        </p:nvGrpSpPr>
        <p:grpSpPr>
          <a:xfrm>
            <a:off x="7236000" y="100080"/>
            <a:ext cx="1790640" cy="520560"/>
            <a:chOff x="7236000" y="100080"/>
            <a:chExt cx="1790640" cy="520560"/>
          </a:xfrm>
        </p:grpSpPr>
        <p:pic>
          <p:nvPicPr>
            <p:cNvPr id="158" name="image1.png" descr=""/>
            <p:cNvPicPr/>
            <p:nvPr/>
          </p:nvPicPr>
          <p:blipFill>
            <a:blip r:embed="rId2"/>
            <a:stretch/>
          </p:blipFill>
          <p:spPr>
            <a:xfrm>
              <a:off x="7745760" y="100080"/>
              <a:ext cx="61740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image2.png" descr=""/>
            <p:cNvPicPr/>
            <p:nvPr/>
          </p:nvPicPr>
          <p:blipFill>
            <a:blip r:embed="rId3"/>
            <a:stretch/>
          </p:blipFill>
          <p:spPr>
            <a:xfrm>
              <a:off x="7236000" y="381240"/>
              <a:ext cx="1790640" cy="2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2880" y="6778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E2D8-6BE4-4A30-B65D-6053D1428282}" type="slidenum">
              <a:rPr b="1" i="1" lang="en-US" sz="3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449280" y="53496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831960" y="53496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73120" y="9572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942840" y="95724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58760" y="88416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84080" y="38088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417600" y="128412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" name="组合 13"/>
          <p:cNvGrpSpPr/>
          <p:nvPr/>
        </p:nvGrpSpPr>
        <p:grpSpPr>
          <a:xfrm>
            <a:off x="7236000" y="100080"/>
            <a:ext cx="1790640" cy="520560"/>
            <a:chOff x="7236000" y="100080"/>
            <a:chExt cx="1790640" cy="520560"/>
          </a:xfrm>
        </p:grpSpPr>
        <p:pic>
          <p:nvPicPr>
            <p:cNvPr id="209" name="image1.png" descr=""/>
            <p:cNvPicPr/>
            <p:nvPr/>
          </p:nvPicPr>
          <p:blipFill>
            <a:blip r:embed="rId2"/>
            <a:stretch/>
          </p:blipFill>
          <p:spPr>
            <a:xfrm>
              <a:off x="7745760" y="100080"/>
              <a:ext cx="61740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image2.png" descr=""/>
            <p:cNvPicPr/>
            <p:nvPr/>
          </p:nvPicPr>
          <p:blipFill>
            <a:blip r:embed="rId3"/>
            <a:stretch/>
          </p:blipFill>
          <p:spPr>
            <a:xfrm>
              <a:off x="7236000" y="381240"/>
              <a:ext cx="1790640" cy="2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2880" y="6778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A6B2-7D99-481A-AF27-015CEE4C2425}" type="slidenum">
              <a:rPr b="1" i="1" lang="en-US" sz="3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449280" y="53496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831960" y="53496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573120" y="9572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942840" y="95724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58760" y="88416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784080" y="38088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417600" y="128412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" name="组合 13"/>
          <p:cNvGrpSpPr/>
          <p:nvPr/>
        </p:nvGrpSpPr>
        <p:grpSpPr>
          <a:xfrm>
            <a:off x="7236000" y="100080"/>
            <a:ext cx="1790640" cy="520560"/>
            <a:chOff x="7236000" y="100080"/>
            <a:chExt cx="1790640" cy="520560"/>
          </a:xfrm>
        </p:grpSpPr>
        <p:pic>
          <p:nvPicPr>
            <p:cNvPr id="260" name="image1.png" descr=""/>
            <p:cNvPicPr/>
            <p:nvPr/>
          </p:nvPicPr>
          <p:blipFill>
            <a:blip r:embed="rId2"/>
            <a:stretch/>
          </p:blipFill>
          <p:spPr>
            <a:xfrm>
              <a:off x="7745760" y="100080"/>
              <a:ext cx="61740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image2.png" descr=""/>
            <p:cNvPicPr/>
            <p:nvPr/>
          </p:nvPicPr>
          <p:blipFill>
            <a:blip r:embed="rId3"/>
            <a:stretch/>
          </p:blipFill>
          <p:spPr>
            <a:xfrm>
              <a:off x="7236000" y="381240"/>
              <a:ext cx="1790640" cy="2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2880" y="6778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83F6-96C8-4180-BC6F-492C4B334B72}" type="slidenum">
              <a:rPr b="1" i="1" lang="en-US" sz="3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49280" y="53496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31960" y="53496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573120" y="9572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942840" y="95724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158760" y="88416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784080" y="38088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417600" y="128412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组合 13"/>
          <p:cNvGrpSpPr/>
          <p:nvPr/>
        </p:nvGrpSpPr>
        <p:grpSpPr>
          <a:xfrm>
            <a:off x="7236000" y="100080"/>
            <a:ext cx="1790640" cy="520560"/>
            <a:chOff x="7236000" y="100080"/>
            <a:chExt cx="1790640" cy="520560"/>
          </a:xfrm>
        </p:grpSpPr>
        <p:pic>
          <p:nvPicPr>
            <p:cNvPr id="311" name="image1.png" descr=""/>
            <p:cNvPicPr/>
            <p:nvPr/>
          </p:nvPicPr>
          <p:blipFill>
            <a:blip r:embed="rId2"/>
            <a:stretch/>
          </p:blipFill>
          <p:spPr>
            <a:xfrm>
              <a:off x="7745760" y="100080"/>
              <a:ext cx="61740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image2.png" descr=""/>
            <p:cNvPicPr/>
            <p:nvPr/>
          </p:nvPicPr>
          <p:blipFill>
            <a:blip r:embed="rId3"/>
            <a:stretch/>
          </p:blipFill>
          <p:spPr>
            <a:xfrm>
              <a:off x="7236000" y="381240"/>
              <a:ext cx="1790640" cy="2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2880" y="6778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7540-00A8-43CB-AD82-543D399AA33B}" type="slidenum">
              <a:rPr b="1" i="1" lang="en-US" sz="3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449280" y="53496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831960" y="53496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573120" y="9572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942840" y="95724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58760" y="88416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784080" y="38088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417600" y="128412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1" name="组合 13"/>
          <p:cNvGrpSpPr/>
          <p:nvPr/>
        </p:nvGrpSpPr>
        <p:grpSpPr>
          <a:xfrm>
            <a:off x="7236000" y="100080"/>
            <a:ext cx="1790640" cy="520560"/>
            <a:chOff x="7236000" y="100080"/>
            <a:chExt cx="1790640" cy="520560"/>
          </a:xfrm>
        </p:grpSpPr>
        <p:pic>
          <p:nvPicPr>
            <p:cNvPr id="362" name="image1.png" descr=""/>
            <p:cNvPicPr/>
            <p:nvPr/>
          </p:nvPicPr>
          <p:blipFill>
            <a:blip r:embed="rId2"/>
            <a:stretch/>
          </p:blipFill>
          <p:spPr>
            <a:xfrm>
              <a:off x="7745760" y="100080"/>
              <a:ext cx="61740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image2.png" descr=""/>
            <p:cNvPicPr/>
            <p:nvPr/>
          </p:nvPicPr>
          <p:blipFill>
            <a:blip r:embed="rId3"/>
            <a:stretch/>
          </p:blipFill>
          <p:spPr>
            <a:xfrm>
              <a:off x="7236000" y="381240"/>
              <a:ext cx="1790640" cy="2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2880" y="6778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CADF-44A0-4A3E-B4B2-D078FB4C5176}" type="slidenum">
              <a:rPr b="1" i="1" lang="en-US" sz="3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49280" y="53496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831960" y="53496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573120" y="9572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942840" y="95724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158760" y="88416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784080" y="38088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417600" y="128412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" name="组合 13"/>
          <p:cNvGrpSpPr/>
          <p:nvPr/>
        </p:nvGrpSpPr>
        <p:grpSpPr>
          <a:xfrm>
            <a:off x="7236000" y="100080"/>
            <a:ext cx="1790640" cy="520560"/>
            <a:chOff x="7236000" y="100080"/>
            <a:chExt cx="1790640" cy="520560"/>
          </a:xfrm>
        </p:grpSpPr>
        <p:pic>
          <p:nvPicPr>
            <p:cNvPr id="413" name="image1.png" descr=""/>
            <p:cNvPicPr/>
            <p:nvPr/>
          </p:nvPicPr>
          <p:blipFill>
            <a:blip r:embed="rId2"/>
            <a:stretch/>
          </p:blipFill>
          <p:spPr>
            <a:xfrm>
              <a:off x="7745760" y="100080"/>
              <a:ext cx="61740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image2.png" descr=""/>
            <p:cNvPicPr/>
            <p:nvPr/>
          </p:nvPicPr>
          <p:blipFill>
            <a:blip r:embed="rId3"/>
            <a:stretch/>
          </p:blipFill>
          <p:spPr>
            <a:xfrm>
              <a:off x="7236000" y="381240"/>
              <a:ext cx="1790640" cy="2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2880" y="6778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C9A1-CF46-44F2-92BB-107A1B216406}" type="slidenum">
              <a:rPr b="1" i="1" lang="en-US" sz="3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7" descr="W046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13372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10"/>
          <p:cNvSpPr/>
          <p:nvPr/>
        </p:nvSpPr>
        <p:spPr>
          <a:xfrm>
            <a:off x="2171880" y="2419200"/>
            <a:ext cx="694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主题</a:t>
            </a:r>
            <a:r>
              <a:rPr b="1" lang="en-US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1  </a:t>
            </a:r>
            <a:r>
              <a:rPr b="1" lang="zh-CN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溶液重点考向解读</a:t>
            </a:r>
            <a:endParaRPr b="1" i="1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               </a:t>
            </a:r>
            <a:r>
              <a:rPr b="1" lang="zh-CN" sz="48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知识串讲</a:t>
            </a:r>
            <a:endParaRPr b="1" i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1" name="Picture 7" descr=""/>
          <p:cNvPicPr/>
          <p:nvPr/>
        </p:nvPicPr>
        <p:blipFill>
          <a:blip r:embed="rId1"/>
          <a:stretch/>
        </p:blipFill>
        <p:spPr>
          <a:xfrm>
            <a:off x="5477040" y="1525680"/>
            <a:ext cx="3725640" cy="3098880"/>
          </a:xfrm>
          <a:prstGeom prst="rect">
            <a:avLst/>
          </a:prstGeom>
          <a:ln w="0">
            <a:noFill/>
          </a:ln>
        </p:spPr>
      </p:pic>
      <p:sp>
        <p:nvSpPr>
          <p:cNvPr id="1622" name="TextBox 5"/>
          <p:cNvSpPr/>
          <p:nvPr/>
        </p:nvSpPr>
        <p:spPr>
          <a:xfrm>
            <a:off x="1403280" y="593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Tahoma"/>
              </a:rPr>
              <a:t>从溶解度曲线图中获取信息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3" name="矩形 23"/>
          <p:cNvSpPr/>
          <p:nvPr/>
        </p:nvSpPr>
        <p:spPr>
          <a:xfrm>
            <a:off x="138240" y="1743120"/>
            <a:ext cx="531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物质的溶解度随温度变化的规律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4" name="矩形 24"/>
          <p:cNvSpPr/>
          <p:nvPr/>
        </p:nvSpPr>
        <p:spPr>
          <a:xfrm>
            <a:off x="138240" y="3189240"/>
            <a:ext cx="5867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若想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饱和溶液中获得晶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以采取的结晶方法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5" name="矩形 8"/>
          <p:cNvSpPr/>
          <p:nvPr/>
        </p:nvSpPr>
        <p:spPr>
          <a:xfrm>
            <a:off x="138240" y="4705200"/>
            <a:ext cx="8842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接近饱和的溶液变成饱和溶液，可以采取的方法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溶质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溶剂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温度。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矩形 9"/>
          <p:cNvSpPr/>
          <p:nvPr/>
        </p:nvSpPr>
        <p:spPr>
          <a:xfrm>
            <a:off x="1671480" y="2405160"/>
            <a:ext cx="3759480" cy="441360"/>
          </a:xfrm>
          <a:prstGeom prst="rect">
            <a:avLst/>
          </a:prstGeom>
          <a:gradFill rotWithShape="0">
            <a:gsLst>
              <a:gs pos="0">
                <a:srgbClr val="bdffeb"/>
              </a:gs>
              <a:gs pos="100000">
                <a:srgbClr val="ebfff9"/>
              </a:gs>
            </a:gsLst>
            <a:lin ang="16200000"/>
          </a:gradFill>
          <a:ln w="9360">
            <a:solidFill>
              <a:srgbClr val="a4eb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ahoma"/>
              </a:rPr>
              <a:t>溶解度随温度升高而增大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7" name="流程图: 过程 10"/>
          <p:cNvSpPr/>
          <p:nvPr/>
        </p:nvSpPr>
        <p:spPr>
          <a:xfrm>
            <a:off x="4710240" y="3935520"/>
            <a:ext cx="1152360" cy="415800"/>
          </a:xfrm>
          <a:prstGeom prst="flowChartProcess">
            <a:avLst/>
          </a:prstGeom>
          <a:gradFill rotWithShape="0">
            <a:gsLst>
              <a:gs pos="0">
                <a:srgbClr val="bdffeb"/>
              </a:gs>
              <a:gs pos="100000">
                <a:srgbClr val="ebfff9"/>
              </a:gs>
            </a:gsLst>
            <a:lin ang="16200000"/>
          </a:gradFill>
          <a:ln w="9360">
            <a:solidFill>
              <a:srgbClr val="a4eb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ahoma"/>
              </a:rPr>
              <a:t>降温结晶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8" name="流程图: 过程 11"/>
          <p:cNvSpPr/>
          <p:nvPr/>
        </p:nvSpPr>
        <p:spPr>
          <a:xfrm>
            <a:off x="1722600" y="5376960"/>
            <a:ext cx="1201680" cy="479160"/>
          </a:xfrm>
          <a:prstGeom prst="flowChartProcess">
            <a:avLst/>
          </a:prstGeom>
          <a:gradFill rotWithShape="0">
            <a:gsLst>
              <a:gs pos="0">
                <a:srgbClr val="bdffeb"/>
              </a:gs>
              <a:gs pos="100000">
                <a:srgbClr val="ebfff9"/>
              </a:gs>
            </a:gsLst>
            <a:lin ang="16200000"/>
          </a:gradFill>
          <a:ln w="9360">
            <a:solidFill>
              <a:srgbClr val="a4eb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增加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9" name="流程图: 过程 12"/>
          <p:cNvSpPr/>
          <p:nvPr/>
        </p:nvSpPr>
        <p:spPr>
          <a:xfrm>
            <a:off x="4100400" y="5321160"/>
            <a:ext cx="1217880" cy="479520"/>
          </a:xfrm>
          <a:prstGeom prst="flowChartProcess">
            <a:avLst/>
          </a:prstGeom>
          <a:gradFill rotWithShape="0">
            <a:gsLst>
              <a:gs pos="0">
                <a:srgbClr val="bdffeb"/>
              </a:gs>
              <a:gs pos="100000">
                <a:srgbClr val="ebfff9"/>
              </a:gs>
            </a:gsLst>
            <a:lin ang="16200000"/>
          </a:gradFill>
          <a:ln w="9360">
            <a:solidFill>
              <a:srgbClr val="a4eb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蒸发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0" name="流程图: 过程 13"/>
          <p:cNvSpPr/>
          <p:nvPr/>
        </p:nvSpPr>
        <p:spPr>
          <a:xfrm>
            <a:off x="6494400" y="5357880"/>
            <a:ext cx="1030320" cy="477720"/>
          </a:xfrm>
          <a:prstGeom prst="flowChartProcess">
            <a:avLst/>
          </a:prstGeom>
          <a:gradFill rotWithShape="0">
            <a:gsLst>
              <a:gs pos="0">
                <a:srgbClr val="bdffeb"/>
              </a:gs>
              <a:gs pos="100000">
                <a:srgbClr val="ebfff9"/>
              </a:gs>
            </a:gsLst>
            <a:lin ang="16200000"/>
          </a:gradFill>
          <a:ln w="9360">
            <a:solidFill>
              <a:srgbClr val="a4eb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升高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Picture 7" descr=""/>
          <p:cNvPicPr/>
          <p:nvPr/>
        </p:nvPicPr>
        <p:blipFill>
          <a:blip r:embed="rId1"/>
          <a:stretch/>
        </p:blipFill>
        <p:spPr>
          <a:xfrm>
            <a:off x="5392800" y="1557360"/>
            <a:ext cx="3727440" cy="3098880"/>
          </a:xfrm>
          <a:prstGeom prst="rect">
            <a:avLst/>
          </a:prstGeom>
          <a:ln w="0">
            <a:noFill/>
          </a:ln>
        </p:spPr>
      </p:pic>
      <p:sp>
        <p:nvSpPr>
          <p:cNvPr id="1632" name="TextBox 5"/>
          <p:cNvSpPr/>
          <p:nvPr/>
        </p:nvSpPr>
        <p:spPr>
          <a:xfrm>
            <a:off x="1547640" y="6192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Tahoma"/>
              </a:rPr>
              <a:t>从溶解度曲线图中获取信息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矩形 1"/>
          <p:cNvSpPr/>
          <p:nvPr/>
        </p:nvSpPr>
        <p:spPr>
          <a:xfrm>
            <a:off x="63360" y="2075040"/>
            <a:ext cx="53485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时，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0g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水中加入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g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物质，充分溶解后得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物质的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溶液，所得溶液的质量为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矩形 3"/>
          <p:cNvSpPr/>
          <p:nvPr/>
        </p:nvSpPr>
        <p:spPr>
          <a:xfrm>
            <a:off x="1006560" y="3273480"/>
            <a:ext cx="1081080" cy="598320"/>
          </a:xfrm>
          <a:prstGeom prst="rect">
            <a:avLst/>
          </a:prstGeom>
          <a:gradFill rotWithShape="0">
            <a:gsLst>
              <a:gs pos="0">
                <a:srgbClr val="bdffeb"/>
              </a:gs>
              <a:gs pos="100000">
                <a:srgbClr val="ebfff9"/>
              </a:gs>
            </a:gsLst>
            <a:lin ang="16200000"/>
          </a:gradFill>
          <a:ln w="9360">
            <a:solidFill>
              <a:srgbClr val="a4eb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饱和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矩形 9"/>
          <p:cNvSpPr/>
          <p:nvPr/>
        </p:nvSpPr>
        <p:spPr>
          <a:xfrm>
            <a:off x="1258920" y="3933720"/>
            <a:ext cx="1081080" cy="596880"/>
          </a:xfrm>
          <a:prstGeom prst="rect">
            <a:avLst/>
          </a:prstGeom>
          <a:gradFill rotWithShape="0">
            <a:gsLst>
              <a:gs pos="0">
                <a:srgbClr val="bdffeb"/>
              </a:gs>
              <a:gs pos="100000">
                <a:srgbClr val="ebfff9"/>
              </a:gs>
            </a:gsLst>
            <a:lin ang="16200000"/>
          </a:gradFill>
          <a:ln w="9360">
            <a:solidFill>
              <a:srgbClr val="a4eb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65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矩形 9"/>
          <p:cNvSpPr/>
          <p:nvPr/>
        </p:nvSpPr>
        <p:spPr>
          <a:xfrm>
            <a:off x="289080" y="1357200"/>
            <a:ext cx="802800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当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三种物质的饱和溶液从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降温到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， 溶液中溶质质量分数由大到小的顺序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7" name="Picture 4" descr=""/>
          <p:cNvPicPr/>
          <p:nvPr/>
        </p:nvPicPr>
        <p:blipFill>
          <a:blip r:embed="rId1"/>
          <a:stretch/>
        </p:blipFill>
        <p:spPr>
          <a:xfrm>
            <a:off x="1689120" y="2581200"/>
            <a:ext cx="4248000" cy="3530520"/>
          </a:xfrm>
          <a:prstGeom prst="rect">
            <a:avLst/>
          </a:prstGeom>
          <a:ln w="0">
            <a:noFill/>
          </a:ln>
        </p:spPr>
      </p:pic>
      <p:sp>
        <p:nvSpPr>
          <p:cNvPr id="1638" name="矩形 11"/>
          <p:cNvSpPr/>
          <p:nvPr/>
        </p:nvSpPr>
        <p:spPr>
          <a:xfrm>
            <a:off x="3706920" y="1824120"/>
            <a:ext cx="1014480" cy="314280"/>
          </a:xfrm>
          <a:prstGeom prst="rect">
            <a:avLst/>
          </a:prstGeom>
          <a:gradFill rotWithShape="0">
            <a:gsLst>
              <a:gs pos="0">
                <a:srgbClr val="bdffeb"/>
              </a:gs>
              <a:gs pos="100000">
                <a:srgbClr val="ebfff9"/>
              </a:gs>
            </a:gsLst>
            <a:lin ang="16200000"/>
          </a:gradFill>
          <a:ln w="9360">
            <a:solidFill>
              <a:srgbClr val="a4eb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B</a:t>
            </a:r>
            <a:r>
              <a:rPr b="1" lang="en-US" sz="2000" spc="-1" strike="noStrike">
                <a:solidFill>
                  <a:srgbClr val="c00000"/>
                </a:solidFill>
                <a:latin typeface="바탕"/>
                <a:ea typeface="바탕"/>
              </a:rPr>
              <a:t>&gt;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c00000"/>
                </a:solidFill>
                <a:latin typeface="바탕"/>
                <a:ea typeface="바탕"/>
              </a:rPr>
              <a:t>&gt;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C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直接连接符 8"/>
          <p:cNvSpPr/>
          <p:nvPr/>
        </p:nvSpPr>
        <p:spPr>
          <a:xfrm flipV="1">
            <a:off x="5129280" y="3346200"/>
            <a:ext cx="931680" cy="7452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直接连接符 14"/>
          <p:cNvSpPr/>
          <p:nvPr/>
        </p:nvSpPr>
        <p:spPr>
          <a:xfrm flipV="1">
            <a:off x="5116680" y="3346200"/>
            <a:ext cx="944280" cy="9810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矩形 19"/>
          <p:cNvSpPr/>
          <p:nvPr/>
        </p:nvSpPr>
        <p:spPr>
          <a:xfrm>
            <a:off x="6058080" y="2419200"/>
            <a:ext cx="266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Tahoma"/>
              </a:rPr>
              <a:t>t</a:t>
            </a:r>
            <a:r>
              <a:rPr b="1" lang="es-ES" sz="2400" spc="-1" strike="noStrike" baseline="-25000">
                <a:solidFill>
                  <a:srgbClr val="00b05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℃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的溶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解度关系：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A=B</a:t>
            </a:r>
            <a:r>
              <a:rPr b="1" lang="en-US" sz="2400" spc="-1" strike="noStrike">
                <a:solidFill>
                  <a:srgbClr val="00b050"/>
                </a:solidFill>
                <a:latin typeface="바탕"/>
                <a:ea typeface="바탕"/>
              </a:rPr>
              <a:t>&gt;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C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下箭头 24"/>
          <p:cNvSpPr/>
          <p:nvPr/>
        </p:nvSpPr>
        <p:spPr>
          <a:xfrm>
            <a:off x="7236000" y="3249720"/>
            <a:ext cx="288720" cy="3920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矩形 28"/>
          <p:cNvSpPr/>
          <p:nvPr/>
        </p:nvSpPr>
        <p:spPr>
          <a:xfrm>
            <a:off x="6266880" y="3660840"/>
            <a:ext cx="23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Tahoma"/>
              </a:rPr>
              <a:t>t</a:t>
            </a:r>
            <a:r>
              <a:rPr b="1" lang="es-ES" sz="2400" spc="-1" strike="noStrike" baseline="-25000">
                <a:solidFill>
                  <a:srgbClr val="00b05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℃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100g</a:t>
            </a:r>
            <a:r>
              <a:rPr b="1" lang="zh-CN" sz="2400" spc="-1" strike="noStrike">
                <a:solidFill>
                  <a:srgbClr val="c00000"/>
                </a:solidFill>
                <a:latin typeface="Tahoma"/>
              </a:rPr>
              <a:t>水中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所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溶解的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的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质量关系：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A=B</a:t>
            </a:r>
            <a:r>
              <a:rPr b="1" lang="en-US" sz="2400" spc="-1" strike="noStrike">
                <a:solidFill>
                  <a:srgbClr val="00b050"/>
                </a:solidFill>
                <a:latin typeface="바탕"/>
                <a:ea typeface="바탕"/>
              </a:rPr>
              <a:t>&gt;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C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直接连接符 26"/>
          <p:cNvSpPr/>
          <p:nvPr/>
        </p:nvSpPr>
        <p:spPr>
          <a:xfrm>
            <a:off x="4002120" y="3421080"/>
            <a:ext cx="917640" cy="0"/>
          </a:xfrm>
          <a:prstGeom prst="line">
            <a:avLst/>
          </a:prstGeom>
          <a:ln w="38160">
            <a:solidFill>
              <a:srgbClr val="e7bb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直接连接符 32"/>
          <p:cNvSpPr/>
          <p:nvPr/>
        </p:nvSpPr>
        <p:spPr>
          <a:xfrm>
            <a:off x="4002120" y="4513320"/>
            <a:ext cx="917640" cy="1440"/>
          </a:xfrm>
          <a:prstGeom prst="line">
            <a:avLst/>
          </a:prstGeom>
          <a:ln w="38160">
            <a:solidFill>
              <a:srgbClr val="e7bb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左大括号 43007"/>
          <p:cNvSpPr/>
          <p:nvPr/>
        </p:nvSpPr>
        <p:spPr>
          <a:xfrm>
            <a:off x="3602160" y="3422520"/>
            <a:ext cx="210960" cy="373320"/>
          </a:xfrm>
          <a:custGeom>
            <a:avLst/>
            <a:gdLst>
              <a:gd name="textAreaLeft" fmla="*/ 135000 w 210960"/>
              <a:gd name="textAreaRight" fmla="*/ 211320 w 210960"/>
              <a:gd name="textAreaTop" fmla="*/ 5400 h 373320"/>
              <a:gd name="textAreaBottom" fmla="*/ 367920 h 3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0"/>
                  <a:pt x="10800" y="1019"/>
                </a:cubicBezTo>
                <a:lnTo>
                  <a:pt x="10800" y="9781"/>
                </a:lnTo>
                <a:cubicBezTo>
                  <a:pt x="10800" y="10291"/>
                  <a:pt x="5400" y="10800"/>
                  <a:pt x="0" y="10800"/>
                </a:cubicBezTo>
                <a:cubicBezTo>
                  <a:pt x="5400" y="10800"/>
                  <a:pt x="10800" y="11310"/>
                  <a:pt x="10800" y="11819"/>
                </a:cubicBezTo>
                <a:lnTo>
                  <a:pt x="10800" y="20581"/>
                </a:lnTo>
                <a:cubicBezTo>
                  <a:pt x="10800" y="2109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e4a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左大括号 39"/>
          <p:cNvSpPr/>
          <p:nvPr/>
        </p:nvSpPr>
        <p:spPr>
          <a:xfrm>
            <a:off x="3209760" y="3386160"/>
            <a:ext cx="498600" cy="852480"/>
          </a:xfrm>
          <a:custGeom>
            <a:avLst/>
            <a:gdLst>
              <a:gd name="textAreaLeft" fmla="*/ 318600 w 498600"/>
              <a:gd name="textAreaRight" fmla="*/ 498960 w 498600"/>
              <a:gd name="textAreaTop" fmla="*/ 12960 h 852480"/>
              <a:gd name="textAreaBottom" fmla="*/ 839520 h 8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6"/>
                  <a:pt x="10800" y="1052"/>
                </a:cubicBezTo>
                <a:lnTo>
                  <a:pt x="10800" y="9748"/>
                </a:lnTo>
                <a:cubicBezTo>
                  <a:pt x="10800" y="10274"/>
                  <a:pt x="5400" y="10800"/>
                  <a:pt x="0" y="10800"/>
                </a:cubicBezTo>
                <a:cubicBezTo>
                  <a:pt x="5400" y="10800"/>
                  <a:pt x="10800" y="11326"/>
                  <a:pt x="10800" y="11852"/>
                </a:cubicBezTo>
                <a:lnTo>
                  <a:pt x="10800" y="20548"/>
                </a:lnTo>
                <a:cubicBezTo>
                  <a:pt x="10800" y="2107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e4a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矩形 40"/>
          <p:cNvSpPr/>
          <p:nvPr/>
        </p:nvSpPr>
        <p:spPr>
          <a:xfrm>
            <a:off x="289080" y="6111720"/>
            <a:ext cx="813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Tahoma"/>
              </a:rPr>
              <a:t>t</a:t>
            </a:r>
            <a:r>
              <a:rPr b="1" lang="es-ES" sz="2400" spc="-1" strike="noStrike" baseline="-25000">
                <a:solidFill>
                  <a:srgbClr val="00b05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℃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100g</a:t>
            </a:r>
            <a:r>
              <a:rPr b="1" lang="zh-CN" sz="2400" spc="-1" strike="noStrike">
                <a:solidFill>
                  <a:srgbClr val="c00000"/>
                </a:solidFill>
                <a:latin typeface="Tahoma"/>
              </a:rPr>
              <a:t>水中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所溶解的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b050"/>
                </a:solidFill>
                <a:latin typeface="Tahoma"/>
              </a:rPr>
              <a:t>的质量关系：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B</a:t>
            </a:r>
            <a:r>
              <a:rPr b="1" lang="en-US" sz="2400" spc="-1" strike="noStrike">
                <a:solidFill>
                  <a:srgbClr val="c00000"/>
                </a:solidFill>
                <a:latin typeface="바탕"/>
                <a:ea typeface="바탕"/>
              </a:rPr>
              <a:t>&gt;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c00000"/>
                </a:solidFill>
                <a:latin typeface="바탕"/>
                <a:ea typeface="바탕"/>
              </a:rPr>
              <a:t>&gt;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C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539280" y="1715760"/>
            <a:ext cx="833292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cc0066"/>
                </a:solidFill>
                <a:latin typeface="Tahoma"/>
              </a:rPr>
              <a:t>溶液的转化与结晶引起溶液性质的变化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0" name="Text Box 43"/>
          <p:cNvSpPr/>
          <p:nvPr/>
        </p:nvSpPr>
        <p:spPr>
          <a:xfrm>
            <a:off x="5056200" y="1595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矩形 1"/>
          <p:cNvSpPr/>
          <p:nvPr/>
        </p:nvSpPr>
        <p:spPr>
          <a:xfrm>
            <a:off x="866880" y="2963880"/>
            <a:ext cx="8064360" cy="1120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判断：不饱和溶液转化为饱和溶液，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溶质的质量分数一定变大（        ）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TextBox 3"/>
          <p:cNvSpPr/>
          <p:nvPr/>
        </p:nvSpPr>
        <p:spPr>
          <a:xfrm>
            <a:off x="6012000" y="349884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错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TextBox 5"/>
          <p:cNvSpPr/>
          <p:nvPr/>
        </p:nvSpPr>
        <p:spPr>
          <a:xfrm>
            <a:off x="2084400" y="623880"/>
            <a:ext cx="31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难点突破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/>
          </p:nvPr>
        </p:nvSpPr>
        <p:spPr>
          <a:xfrm>
            <a:off x="250920" y="1883880"/>
            <a:ext cx="864072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饱和溶液转化为饱和溶液时，溶液性质的变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一定条件下，不饱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溶液恰好转化为饱和溶液时，溶液性质的变化如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379440" y="3500280"/>
          <a:ext cx="8481960" cy="3016440"/>
        </p:xfrm>
        <a:graphic>
          <a:graphicData uri="http://schemas.openxmlformats.org/drawingml/2006/table">
            <a:tbl>
              <a:tblPr/>
              <a:tblGrid>
                <a:gridCol w="1541520"/>
                <a:gridCol w="1157040"/>
                <a:gridCol w="1233720"/>
                <a:gridCol w="1157040"/>
                <a:gridCol w="1928880"/>
                <a:gridCol w="1463760"/>
              </a:tblGrid>
              <a:tr h="1029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液组成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转化措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质质量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剂质量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液质量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质的质量分数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解度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加溶质 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蒸发溶剂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降低温度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6" name="Line 47"/>
          <p:cNvSpPr/>
          <p:nvPr/>
        </p:nvSpPr>
        <p:spPr>
          <a:xfrm>
            <a:off x="484200" y="3492360"/>
            <a:ext cx="1368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TextBox 2"/>
          <p:cNvSpPr/>
          <p:nvPr/>
        </p:nvSpPr>
        <p:spPr>
          <a:xfrm>
            <a:off x="3186000" y="4537080"/>
            <a:ext cx="10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不变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TextBox 8"/>
          <p:cNvSpPr/>
          <p:nvPr/>
        </p:nvSpPr>
        <p:spPr>
          <a:xfrm>
            <a:off x="1927080" y="457344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大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TextBox 9"/>
          <p:cNvSpPr/>
          <p:nvPr/>
        </p:nvSpPr>
        <p:spPr>
          <a:xfrm>
            <a:off x="4297320" y="458136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大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TextBox 10"/>
          <p:cNvSpPr/>
          <p:nvPr/>
        </p:nvSpPr>
        <p:spPr>
          <a:xfrm>
            <a:off x="5740560" y="458136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大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TextBox 11"/>
          <p:cNvSpPr/>
          <p:nvPr/>
        </p:nvSpPr>
        <p:spPr>
          <a:xfrm>
            <a:off x="7481880" y="4537080"/>
            <a:ext cx="10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不变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TextBox 12"/>
          <p:cNvSpPr/>
          <p:nvPr/>
        </p:nvSpPr>
        <p:spPr>
          <a:xfrm>
            <a:off x="3220920" y="527364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小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TextBox 13"/>
          <p:cNvSpPr/>
          <p:nvPr/>
        </p:nvSpPr>
        <p:spPr>
          <a:xfrm>
            <a:off x="1887480" y="527688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不变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TextBox 14"/>
          <p:cNvSpPr/>
          <p:nvPr/>
        </p:nvSpPr>
        <p:spPr>
          <a:xfrm>
            <a:off x="4321080" y="527040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小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5" name="TextBox 15"/>
          <p:cNvSpPr/>
          <p:nvPr/>
        </p:nvSpPr>
        <p:spPr>
          <a:xfrm>
            <a:off x="5740560" y="527040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大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6" name="TextBox 16"/>
          <p:cNvSpPr/>
          <p:nvPr/>
        </p:nvSpPr>
        <p:spPr>
          <a:xfrm>
            <a:off x="7481880" y="5257800"/>
            <a:ext cx="10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不变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7" name="TextBox 17"/>
          <p:cNvSpPr/>
          <p:nvPr/>
        </p:nvSpPr>
        <p:spPr>
          <a:xfrm>
            <a:off x="3220920" y="586116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不变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TextBox 18"/>
          <p:cNvSpPr/>
          <p:nvPr/>
        </p:nvSpPr>
        <p:spPr>
          <a:xfrm>
            <a:off x="1944720" y="587376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不变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9" name="TextBox 19"/>
          <p:cNvSpPr/>
          <p:nvPr/>
        </p:nvSpPr>
        <p:spPr>
          <a:xfrm>
            <a:off x="4384800" y="589104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不变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TextBox 20"/>
          <p:cNvSpPr/>
          <p:nvPr/>
        </p:nvSpPr>
        <p:spPr>
          <a:xfrm>
            <a:off x="5765760" y="586116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不变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TextBox 21"/>
          <p:cNvSpPr/>
          <p:nvPr/>
        </p:nvSpPr>
        <p:spPr>
          <a:xfrm>
            <a:off x="7485120" y="590076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小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TextBox 5"/>
          <p:cNvSpPr/>
          <p:nvPr/>
        </p:nvSpPr>
        <p:spPr>
          <a:xfrm>
            <a:off x="2084400" y="623880"/>
            <a:ext cx="31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难点突破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矩形 1"/>
          <p:cNvSpPr/>
          <p:nvPr/>
        </p:nvSpPr>
        <p:spPr>
          <a:xfrm>
            <a:off x="900000" y="3240000"/>
            <a:ext cx="8172720" cy="1081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判断：饱和溶液中析出晶体溶质的质量分数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定变小（     ）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TextBox 15"/>
          <p:cNvSpPr/>
          <p:nvPr/>
        </p:nvSpPr>
        <p:spPr>
          <a:xfrm>
            <a:off x="4211640" y="37814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错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39280" y="1715760"/>
            <a:ext cx="833292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cc0066"/>
                </a:solidFill>
                <a:latin typeface="Tahoma"/>
              </a:rPr>
              <a:t>溶液的转化与结晶引起溶液性质的变化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6" name="TextBox 5"/>
          <p:cNvSpPr/>
          <p:nvPr/>
        </p:nvSpPr>
        <p:spPr>
          <a:xfrm>
            <a:off x="1908000" y="631800"/>
            <a:ext cx="31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难点突破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TextBox 5"/>
          <p:cNvSpPr/>
          <p:nvPr/>
        </p:nvSpPr>
        <p:spPr>
          <a:xfrm>
            <a:off x="2084400" y="623880"/>
            <a:ext cx="31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难点突破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324000" y="1856880"/>
            <a:ext cx="857088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．饱和溶液在一定条件下析出晶体时，溶液性质的变化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9" name=""/>
          <p:cNvGraphicFramePr/>
          <p:nvPr/>
        </p:nvGraphicFramePr>
        <p:xfrm>
          <a:off x="324000" y="2997360"/>
          <a:ext cx="8691480" cy="3402000"/>
        </p:xfrm>
        <a:graphic>
          <a:graphicData uri="http://schemas.openxmlformats.org/drawingml/2006/table">
            <a:tbl>
              <a:tblPr/>
              <a:tblGrid>
                <a:gridCol w="2190600"/>
                <a:gridCol w="988920"/>
                <a:gridCol w="1201680"/>
                <a:gridCol w="1200240"/>
                <a:gridCol w="1789200"/>
                <a:gridCol w="1320840"/>
              </a:tblGrid>
              <a:tr h="1029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液组成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结晶方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质质量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剂质量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液质量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质的质量分数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解度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3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2℃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的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NO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饱和溶液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降温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1℃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℃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时，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恒温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蒸发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Cl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饱和溶液中的水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0" name="Line 45"/>
          <p:cNvSpPr/>
          <p:nvPr/>
        </p:nvSpPr>
        <p:spPr>
          <a:xfrm>
            <a:off x="324000" y="3213000"/>
            <a:ext cx="1944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TextBox 5"/>
          <p:cNvSpPr/>
          <p:nvPr/>
        </p:nvSpPr>
        <p:spPr>
          <a:xfrm>
            <a:off x="2562120" y="429264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小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TextBox 6"/>
          <p:cNvSpPr/>
          <p:nvPr/>
        </p:nvSpPr>
        <p:spPr>
          <a:xfrm>
            <a:off x="2538360" y="5429160"/>
            <a:ext cx="10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小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TextBox 7"/>
          <p:cNvSpPr/>
          <p:nvPr/>
        </p:nvSpPr>
        <p:spPr>
          <a:xfrm>
            <a:off x="3637080" y="440064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不变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TextBox 8"/>
          <p:cNvSpPr/>
          <p:nvPr/>
        </p:nvSpPr>
        <p:spPr>
          <a:xfrm>
            <a:off x="7740720" y="546264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不变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TextBox 9"/>
          <p:cNvSpPr/>
          <p:nvPr/>
        </p:nvSpPr>
        <p:spPr>
          <a:xfrm>
            <a:off x="4737240" y="441792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小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TextBox 10"/>
          <p:cNvSpPr/>
          <p:nvPr/>
        </p:nvSpPr>
        <p:spPr>
          <a:xfrm>
            <a:off x="3637080" y="546588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小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TextBox 11"/>
          <p:cNvSpPr/>
          <p:nvPr/>
        </p:nvSpPr>
        <p:spPr>
          <a:xfrm>
            <a:off x="4737240" y="542916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小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TextBox 12"/>
          <p:cNvSpPr/>
          <p:nvPr/>
        </p:nvSpPr>
        <p:spPr>
          <a:xfrm>
            <a:off x="6156360" y="429264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小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TextBox 13"/>
          <p:cNvSpPr/>
          <p:nvPr/>
        </p:nvSpPr>
        <p:spPr>
          <a:xfrm>
            <a:off x="7794720" y="428292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变小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TextBox 14"/>
          <p:cNvSpPr/>
          <p:nvPr/>
        </p:nvSpPr>
        <p:spPr>
          <a:xfrm>
            <a:off x="6156360" y="542916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不变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图片 231" descr="21世纪教育网 -- 中国最大型、最专业的中小学教育资源门户网站"/>
          <p:cNvPicPr/>
          <p:nvPr/>
        </p:nvPicPr>
        <p:blipFill>
          <a:blip r:embed="rId1"/>
          <a:stretch/>
        </p:blipFill>
        <p:spPr>
          <a:xfrm>
            <a:off x="5508720" y="1628640"/>
            <a:ext cx="3579840" cy="3111480"/>
          </a:xfrm>
          <a:prstGeom prst="rect">
            <a:avLst/>
          </a:prstGeom>
          <a:ln w="0">
            <a:noFill/>
          </a:ln>
        </p:spPr>
      </p:pic>
      <p:sp>
        <p:nvSpPr>
          <p:cNvPr id="1692" name="TextBox 3"/>
          <p:cNvSpPr/>
          <p:nvPr/>
        </p:nvSpPr>
        <p:spPr>
          <a:xfrm>
            <a:off x="1332000" y="6508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实践演练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3" name="TextBox 5"/>
          <p:cNvSpPr/>
          <p:nvPr/>
        </p:nvSpPr>
        <p:spPr>
          <a:xfrm>
            <a:off x="476280" y="1933560"/>
            <a:ext cx="485136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正误：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甲、乙两物质的溶液溶质质量分数相等（   ）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甲、乙两物质的饱和溶液含有等质量的溶质（  ）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甲、乙两物质的饱和溶液降温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甲析出晶体的质量大。（    ）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4" name="TextBox 1"/>
          <p:cNvSpPr/>
          <p:nvPr/>
        </p:nvSpPr>
        <p:spPr>
          <a:xfrm>
            <a:off x="3924360" y="2556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Tahoma"/>
              </a:rPr>
              <a:t>关键词：饱和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            </a:t>
            </a:r>
            <a:r>
              <a:rPr b="0" lang="zh-CN" sz="3200" spc="-1" strike="noStrike">
                <a:solidFill>
                  <a:srgbClr val="c00000"/>
                </a:solidFill>
                <a:latin typeface="Tahoma"/>
              </a:rPr>
              <a:t>等质量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5" name="Group 4"/>
          <p:cNvGrpSpPr/>
          <p:nvPr/>
        </p:nvGrpSpPr>
        <p:grpSpPr>
          <a:xfrm>
            <a:off x="1763640" y="333360"/>
            <a:ext cx="2327040" cy="863640"/>
            <a:chOff x="1763640" y="333360"/>
            <a:chExt cx="2327040" cy="863640"/>
          </a:xfrm>
        </p:grpSpPr>
        <p:sp>
          <p:nvSpPr>
            <p:cNvPr id="1696" name="横卷形 1"/>
            <p:cNvSpPr/>
            <p:nvPr/>
          </p:nvSpPr>
          <p:spPr>
            <a:xfrm>
              <a:off x="1763640" y="333360"/>
              <a:ext cx="2327040" cy="863640"/>
            </a:xfrm>
            <a:prstGeom prst="horizontalScroll">
              <a:avLst>
                <a:gd name="adj" fmla="val 125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Rectangle 6"/>
            <p:cNvSpPr/>
            <p:nvPr/>
          </p:nvSpPr>
          <p:spPr>
            <a:xfrm>
              <a:off x="2297160" y="3888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ffffff"/>
                  </a:solidFill>
                  <a:latin typeface="Tahoma"/>
                </a:rPr>
                <a:t>实验突破</a:t>
              </a:r>
              <a:endParaRPr b="1" i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98" name="Picture 7" descr="H:\全国版火线化学做PPT（71页）\命题点a.TIF"/>
          <p:cNvPicPr/>
          <p:nvPr/>
        </p:nvPicPr>
        <p:blipFill>
          <a:blip r:embed="rId1"/>
          <a:stretch/>
        </p:blipFill>
        <p:spPr>
          <a:xfrm>
            <a:off x="176040" y="1844640"/>
            <a:ext cx="7112160" cy="461880"/>
          </a:xfrm>
          <a:prstGeom prst="rect">
            <a:avLst/>
          </a:prstGeom>
          <a:ln w="0">
            <a:noFill/>
          </a:ln>
        </p:spPr>
      </p:pic>
      <p:sp>
        <p:nvSpPr>
          <p:cNvPr id="1699" name="Rectangle 9"/>
          <p:cNvSpPr/>
          <p:nvPr/>
        </p:nvSpPr>
        <p:spPr>
          <a:xfrm>
            <a:off x="692280" y="1813320"/>
            <a:ext cx="83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实验　一定溶质质量分数的氯化钠溶液的配制 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0" name="Object 10"/>
          <p:cNvGraphicFramePr/>
          <p:nvPr/>
        </p:nvGraphicFramePr>
        <p:xfrm>
          <a:off x="125280" y="2565360"/>
          <a:ext cx="8921880" cy="138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0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280" y="2565360"/>
                    <a:ext cx="89218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2" name="对象 2"/>
          <p:cNvGraphicFramePr/>
          <p:nvPr/>
        </p:nvGraphicFramePr>
        <p:xfrm>
          <a:off x="244440" y="3860640"/>
          <a:ext cx="8899560" cy="2687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03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4440" y="3860640"/>
                    <a:ext cx="889956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4" name="Object 6"/>
          <p:cNvGraphicFramePr/>
          <p:nvPr/>
        </p:nvGraphicFramePr>
        <p:xfrm>
          <a:off x="276120" y="1749600"/>
          <a:ext cx="9033120" cy="646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749600"/>
                    <a:ext cx="9033120" cy="64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6" name="Object 7"/>
          <p:cNvGraphicFramePr/>
          <p:nvPr/>
        </p:nvGraphicFramePr>
        <p:xfrm>
          <a:off x="385920" y="1392120"/>
          <a:ext cx="8923320" cy="69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0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" y="1392120"/>
                    <a:ext cx="89233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8" name="Object 8"/>
          <p:cNvGraphicFramePr/>
          <p:nvPr/>
        </p:nvGraphicFramePr>
        <p:xfrm>
          <a:off x="4500720" y="2265480"/>
          <a:ext cx="2582640" cy="600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0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2265480"/>
                    <a:ext cx="2582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0" name="Object 9"/>
          <p:cNvGraphicFramePr/>
          <p:nvPr/>
        </p:nvGraphicFramePr>
        <p:xfrm>
          <a:off x="3419640" y="2863800"/>
          <a:ext cx="2582640" cy="600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71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9640" y="2863800"/>
                    <a:ext cx="2582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2" name="Rectangle 10"/>
          <p:cNvSpPr/>
          <p:nvPr/>
        </p:nvSpPr>
        <p:spPr>
          <a:xfrm>
            <a:off x="2083680" y="428832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ahoma"/>
              </a:rPr>
              <a:t>5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Rectangle 11"/>
          <p:cNvSpPr/>
          <p:nvPr/>
        </p:nvSpPr>
        <p:spPr>
          <a:xfrm>
            <a:off x="2247840" y="468936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ahoma"/>
              </a:rPr>
              <a:t>玻璃棒</a:t>
            </a: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12"/>
          <p:cNvSpPr/>
          <p:nvPr/>
        </p:nvSpPr>
        <p:spPr>
          <a:xfrm>
            <a:off x="5294880" y="55090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ahoma"/>
              </a:rPr>
              <a:t>试剂名称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Rectangle 13"/>
          <p:cNvSpPr/>
          <p:nvPr/>
        </p:nvSpPr>
        <p:spPr>
          <a:xfrm>
            <a:off x="6840360" y="54964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ahoma"/>
              </a:rPr>
              <a:t>溶质质量分数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6" name="Group 4"/>
          <p:cNvGrpSpPr/>
          <p:nvPr/>
        </p:nvGrpSpPr>
        <p:grpSpPr>
          <a:xfrm>
            <a:off x="1763640" y="333360"/>
            <a:ext cx="2327040" cy="863640"/>
            <a:chOff x="1763640" y="333360"/>
            <a:chExt cx="2327040" cy="863640"/>
          </a:xfrm>
        </p:grpSpPr>
        <p:sp>
          <p:nvSpPr>
            <p:cNvPr id="1717" name="横卷形 11"/>
            <p:cNvSpPr/>
            <p:nvPr/>
          </p:nvSpPr>
          <p:spPr>
            <a:xfrm>
              <a:off x="1763640" y="333360"/>
              <a:ext cx="2327040" cy="863640"/>
            </a:xfrm>
            <a:prstGeom prst="horizontalScroll">
              <a:avLst>
                <a:gd name="adj" fmla="val 125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Rectangle 6"/>
            <p:cNvSpPr/>
            <p:nvPr/>
          </p:nvSpPr>
          <p:spPr>
            <a:xfrm>
              <a:off x="2297160" y="3888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ffffff"/>
                  </a:solidFill>
                  <a:latin typeface="Tahoma"/>
                </a:rPr>
                <a:t>实验突破</a:t>
              </a:r>
              <a:endParaRPr b="1" i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" descr=""/>
          <p:cNvPicPr/>
          <p:nvPr/>
        </p:nvPicPr>
        <p:blipFill>
          <a:blip r:embed="rId1"/>
          <a:srcRect l="17254" t="18662" r="14058" b="45800"/>
          <a:stretch/>
        </p:blipFill>
        <p:spPr>
          <a:xfrm>
            <a:off x="-181080" y="0"/>
            <a:ext cx="993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9" name="Object 2"/>
          <p:cNvGraphicFramePr/>
          <p:nvPr/>
        </p:nvGraphicFramePr>
        <p:xfrm>
          <a:off x="76320" y="1768320"/>
          <a:ext cx="9037440" cy="50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68320"/>
                    <a:ext cx="90374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1" name="Object 3"/>
          <p:cNvGraphicFramePr/>
          <p:nvPr/>
        </p:nvGraphicFramePr>
        <p:xfrm>
          <a:off x="1946160" y="2952720"/>
          <a:ext cx="309240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6160" y="2952720"/>
                    <a:ext cx="30924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3" name="Object 4"/>
          <p:cNvGraphicFramePr/>
          <p:nvPr/>
        </p:nvGraphicFramePr>
        <p:xfrm>
          <a:off x="6659640" y="3068640"/>
          <a:ext cx="3092400" cy="600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2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3068640"/>
                    <a:ext cx="30924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5" name="Rectangle 5"/>
          <p:cNvSpPr/>
          <p:nvPr/>
        </p:nvSpPr>
        <p:spPr>
          <a:xfrm>
            <a:off x="1992600" y="3724920"/>
            <a:ext cx="7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50 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Rectangle 6"/>
          <p:cNvSpPr/>
          <p:nvPr/>
        </p:nvSpPr>
        <p:spPr>
          <a:xfrm>
            <a:off x="2008080" y="51771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玻璃棒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27" name="Group 4"/>
          <p:cNvGrpSpPr/>
          <p:nvPr/>
        </p:nvGrpSpPr>
        <p:grpSpPr>
          <a:xfrm>
            <a:off x="1763640" y="333360"/>
            <a:ext cx="2327040" cy="863640"/>
            <a:chOff x="1763640" y="333360"/>
            <a:chExt cx="2327040" cy="863640"/>
          </a:xfrm>
        </p:grpSpPr>
        <p:sp>
          <p:nvSpPr>
            <p:cNvPr id="1728" name="横卷形 7"/>
            <p:cNvSpPr/>
            <p:nvPr/>
          </p:nvSpPr>
          <p:spPr>
            <a:xfrm>
              <a:off x="1763640" y="333360"/>
              <a:ext cx="2327040" cy="863640"/>
            </a:xfrm>
            <a:prstGeom prst="horizontalScroll">
              <a:avLst>
                <a:gd name="adj" fmla="val 125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9" name="Rectangle 6"/>
            <p:cNvSpPr/>
            <p:nvPr/>
          </p:nvSpPr>
          <p:spPr>
            <a:xfrm>
              <a:off x="2297160" y="3888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ffffff"/>
                  </a:solidFill>
                  <a:latin typeface="Tahoma"/>
                </a:rPr>
                <a:t>实验突破</a:t>
              </a:r>
              <a:endParaRPr b="1" i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0" name="Object 2"/>
          <p:cNvGraphicFramePr/>
          <p:nvPr/>
        </p:nvGraphicFramePr>
        <p:xfrm>
          <a:off x="162000" y="1557360"/>
          <a:ext cx="9010440" cy="508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557360"/>
                    <a:ext cx="901044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2" name="Group 4"/>
          <p:cNvGrpSpPr/>
          <p:nvPr/>
        </p:nvGrpSpPr>
        <p:grpSpPr>
          <a:xfrm>
            <a:off x="1763640" y="333360"/>
            <a:ext cx="2327040" cy="863640"/>
            <a:chOff x="1763640" y="333360"/>
            <a:chExt cx="2327040" cy="863640"/>
          </a:xfrm>
        </p:grpSpPr>
        <p:sp>
          <p:nvSpPr>
            <p:cNvPr id="1733" name="横卷形 3"/>
            <p:cNvSpPr/>
            <p:nvPr/>
          </p:nvSpPr>
          <p:spPr>
            <a:xfrm>
              <a:off x="1763640" y="333360"/>
              <a:ext cx="2327040" cy="863640"/>
            </a:xfrm>
            <a:prstGeom prst="horizontalScroll">
              <a:avLst>
                <a:gd name="adj" fmla="val 125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4" name="Rectangle 6"/>
            <p:cNvSpPr/>
            <p:nvPr/>
          </p:nvSpPr>
          <p:spPr>
            <a:xfrm>
              <a:off x="2297160" y="3888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ffffff"/>
                  </a:solidFill>
                  <a:latin typeface="Tahoma"/>
                </a:rPr>
                <a:t>实验突破</a:t>
              </a:r>
              <a:endParaRPr b="1" i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5" name="Object 2"/>
          <p:cNvGraphicFramePr/>
          <p:nvPr/>
        </p:nvGraphicFramePr>
        <p:xfrm>
          <a:off x="31680" y="2205000"/>
          <a:ext cx="8988480" cy="49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80" y="2205000"/>
                    <a:ext cx="898848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7" name="Group 4"/>
          <p:cNvGrpSpPr/>
          <p:nvPr/>
        </p:nvGrpSpPr>
        <p:grpSpPr>
          <a:xfrm>
            <a:off x="1763640" y="333360"/>
            <a:ext cx="2327040" cy="863640"/>
            <a:chOff x="1763640" y="333360"/>
            <a:chExt cx="2327040" cy="863640"/>
          </a:xfrm>
        </p:grpSpPr>
        <p:sp>
          <p:nvSpPr>
            <p:cNvPr id="1738" name="横卷形 3"/>
            <p:cNvSpPr/>
            <p:nvPr/>
          </p:nvSpPr>
          <p:spPr>
            <a:xfrm>
              <a:off x="1763640" y="333360"/>
              <a:ext cx="2327040" cy="863640"/>
            </a:xfrm>
            <a:prstGeom prst="horizontalScroll">
              <a:avLst>
                <a:gd name="adj" fmla="val 125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9" name="Rectangle 6"/>
            <p:cNvSpPr/>
            <p:nvPr/>
          </p:nvSpPr>
          <p:spPr>
            <a:xfrm>
              <a:off x="2297160" y="3888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ffffff"/>
                  </a:solidFill>
                  <a:latin typeface="Tahoma"/>
                </a:rPr>
                <a:t>实验突破</a:t>
              </a:r>
              <a:endParaRPr b="1" i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0" name="Object 4"/>
          <p:cNvGraphicFramePr/>
          <p:nvPr/>
        </p:nvGraphicFramePr>
        <p:xfrm>
          <a:off x="179280" y="1557360"/>
          <a:ext cx="8898120" cy="50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57360"/>
                    <a:ext cx="889812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2" name="Rectangle 5"/>
          <p:cNvSpPr/>
          <p:nvPr/>
        </p:nvSpPr>
        <p:spPr>
          <a:xfrm>
            <a:off x="4912200" y="5086800"/>
            <a:ext cx="8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6.5 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Rectangle 6"/>
          <p:cNvSpPr/>
          <p:nvPr/>
        </p:nvSpPr>
        <p:spPr>
          <a:xfrm>
            <a:off x="4089960" y="580752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搅拌，加速溶解 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4" name="Group 4"/>
          <p:cNvGrpSpPr/>
          <p:nvPr/>
        </p:nvGrpSpPr>
        <p:grpSpPr>
          <a:xfrm>
            <a:off x="1763640" y="333360"/>
            <a:ext cx="2327040" cy="863640"/>
            <a:chOff x="1763640" y="333360"/>
            <a:chExt cx="2327040" cy="863640"/>
          </a:xfrm>
        </p:grpSpPr>
        <p:sp>
          <p:nvSpPr>
            <p:cNvPr id="1745" name="横卷形 5"/>
            <p:cNvSpPr/>
            <p:nvPr/>
          </p:nvSpPr>
          <p:spPr>
            <a:xfrm>
              <a:off x="1763640" y="333360"/>
              <a:ext cx="2327040" cy="863640"/>
            </a:xfrm>
            <a:prstGeom prst="horizontalScroll">
              <a:avLst>
                <a:gd name="adj" fmla="val 125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6" name="Rectangle 6"/>
            <p:cNvSpPr/>
            <p:nvPr/>
          </p:nvSpPr>
          <p:spPr>
            <a:xfrm>
              <a:off x="2297160" y="3888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ffffff"/>
                  </a:solidFill>
                  <a:latin typeface="Tahoma"/>
                </a:rPr>
                <a:t>实验突破</a:t>
              </a:r>
              <a:endParaRPr b="1" i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7" name="Object 2"/>
          <p:cNvGraphicFramePr/>
          <p:nvPr/>
        </p:nvGraphicFramePr>
        <p:xfrm>
          <a:off x="108000" y="1714680"/>
          <a:ext cx="8923320" cy="41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14680"/>
                    <a:ext cx="892332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9" name="Rectangle 3"/>
          <p:cNvSpPr/>
          <p:nvPr/>
        </p:nvSpPr>
        <p:spPr>
          <a:xfrm>
            <a:off x="5762160" y="165780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ahoma"/>
              </a:rPr>
              <a:t>左盘应放氯化钠，右盘放砝码 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Rectangle 4"/>
          <p:cNvSpPr/>
          <p:nvPr/>
        </p:nvSpPr>
        <p:spPr>
          <a:xfrm>
            <a:off x="4608000" y="240624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ahoma"/>
              </a:rPr>
              <a:t>瓶盖正放了 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Rectangle 5"/>
          <p:cNvSpPr/>
          <p:nvPr/>
        </p:nvSpPr>
        <p:spPr>
          <a:xfrm>
            <a:off x="2348640" y="36745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ahoma"/>
              </a:rPr>
              <a:t>凹液面的最低处 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Rectangle 6"/>
          <p:cNvSpPr/>
          <p:nvPr/>
        </p:nvSpPr>
        <p:spPr>
          <a:xfrm>
            <a:off x="6622200" y="4943880"/>
            <a:ext cx="20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ahoma"/>
              </a:rPr>
              <a:t>④②③⑤①</a:t>
            </a: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3" name="Group 4"/>
          <p:cNvGrpSpPr/>
          <p:nvPr/>
        </p:nvGrpSpPr>
        <p:grpSpPr>
          <a:xfrm>
            <a:off x="1763640" y="333360"/>
            <a:ext cx="2327040" cy="863640"/>
            <a:chOff x="1763640" y="333360"/>
            <a:chExt cx="2327040" cy="863640"/>
          </a:xfrm>
        </p:grpSpPr>
        <p:sp>
          <p:nvSpPr>
            <p:cNvPr id="1754" name="横卷形 7"/>
            <p:cNvSpPr/>
            <p:nvPr/>
          </p:nvSpPr>
          <p:spPr>
            <a:xfrm>
              <a:off x="1763640" y="333360"/>
              <a:ext cx="2327040" cy="863640"/>
            </a:xfrm>
            <a:prstGeom prst="horizontalScroll">
              <a:avLst>
                <a:gd name="adj" fmla="val 125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5" name="Rectangle 6"/>
            <p:cNvSpPr/>
            <p:nvPr/>
          </p:nvSpPr>
          <p:spPr>
            <a:xfrm>
              <a:off x="2297160" y="3888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ffffff"/>
                  </a:solidFill>
                  <a:latin typeface="Tahoma"/>
                </a:rPr>
                <a:t>实验突破</a:t>
              </a:r>
              <a:endParaRPr b="1" i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6" name="Picture 3" descr="88efb61f15e6684b314e1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7" name="Text Box 4"/>
          <p:cNvSpPr/>
          <p:nvPr/>
        </p:nvSpPr>
        <p:spPr>
          <a:xfrm>
            <a:off x="1676520" y="1447920"/>
            <a:ext cx="579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Arial"/>
                <a:ea typeface="隶书"/>
              </a:rPr>
              <a:t>谢谢大家</a:t>
            </a:r>
            <a:endParaRPr b="1" i="1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8" name="Picture 5" descr="N_144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17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1"/>
          <p:cNvSpPr/>
          <p:nvPr/>
        </p:nvSpPr>
        <p:spPr>
          <a:xfrm>
            <a:off x="1332000" y="62064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溶液的形成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Box 2"/>
          <p:cNvSpPr/>
          <p:nvPr/>
        </p:nvSpPr>
        <p:spPr>
          <a:xfrm>
            <a:off x="287280" y="2027160"/>
            <a:ext cx="860580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【温馨提示】　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溶液不一定都是无色的，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溶液为蓝色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溶液为黄色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溶液为浅绿色。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种溶剂里可以溶解多种溶质。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能与水反应的物质放入水中，生成物为该溶液的溶质。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1" name="对象 1"/>
          <p:cNvGraphicFramePr/>
          <p:nvPr/>
        </p:nvGraphicFramePr>
        <p:xfrm>
          <a:off x="539640" y="836640"/>
          <a:ext cx="9433080" cy="53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2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836640"/>
                    <a:ext cx="943308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Object 2"/>
          <p:cNvGraphicFramePr/>
          <p:nvPr/>
        </p:nvGraphicFramePr>
        <p:xfrm>
          <a:off x="179280" y="1628640"/>
          <a:ext cx="8861400" cy="43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886140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5" name="Picture 3" descr=""/>
          <p:cNvPicPr/>
          <p:nvPr/>
        </p:nvPicPr>
        <p:blipFill>
          <a:blip r:embed="rId3"/>
          <a:stretch/>
        </p:blipFill>
        <p:spPr>
          <a:xfrm>
            <a:off x="2211480" y="3468600"/>
            <a:ext cx="5154480" cy="8557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4"/>
          <p:cNvSpPr/>
          <p:nvPr/>
        </p:nvSpPr>
        <p:spPr>
          <a:xfrm>
            <a:off x="7597080" y="354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不饱和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溶液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Rectangle 5"/>
          <p:cNvSpPr/>
          <p:nvPr/>
        </p:nvSpPr>
        <p:spPr>
          <a:xfrm>
            <a:off x="7577280" y="4761360"/>
            <a:ext cx="67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不溶液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饱和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8" name="Picture 6" descr=""/>
          <p:cNvPicPr/>
          <p:nvPr/>
        </p:nvPicPr>
        <p:blipFill>
          <a:blip r:embed="rId4"/>
          <a:stretch/>
        </p:blipFill>
        <p:spPr>
          <a:xfrm>
            <a:off x="2211480" y="4687920"/>
            <a:ext cx="5319720" cy="85248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18"/>
          <p:cNvSpPr/>
          <p:nvPr/>
        </p:nvSpPr>
        <p:spPr>
          <a:xfrm>
            <a:off x="1804680" y="237492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继续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Rectangle 19"/>
          <p:cNvSpPr/>
          <p:nvPr/>
        </p:nvSpPr>
        <p:spPr>
          <a:xfrm>
            <a:off x="4493160" y="1790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不能</a:t>
            </a: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Box 15"/>
          <p:cNvSpPr/>
          <p:nvPr/>
        </p:nvSpPr>
        <p:spPr>
          <a:xfrm>
            <a:off x="1476360" y="711360"/>
            <a:ext cx="72867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宋体"/>
              </a:rPr>
              <a:t>考点</a:t>
            </a:r>
            <a:r>
              <a:rPr b="1" i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i="1" lang="zh-CN" sz="2400" spc="-1" strike="noStrike">
                <a:solidFill>
                  <a:srgbClr val="ff0000"/>
                </a:solidFill>
                <a:latin typeface="宋体"/>
              </a:rPr>
              <a:t>　饱和溶液与不饱和溶液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对象 1"/>
          <p:cNvGraphicFramePr/>
          <p:nvPr/>
        </p:nvGraphicFramePr>
        <p:xfrm>
          <a:off x="-181080" y="1778040"/>
          <a:ext cx="9707760" cy="525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3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778040"/>
                    <a:ext cx="9707760" cy="52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888280" y="17697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溶质的质量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6062400" y="17697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溶液的质量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4175640" y="25628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溶质</a:t>
            </a: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5982120" y="262980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溶剂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3663720" y="55717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溶液的质量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5690880" y="559152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溶质质量分数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矩形 1"/>
          <p:cNvSpPr/>
          <p:nvPr/>
        </p:nvSpPr>
        <p:spPr>
          <a:xfrm>
            <a:off x="2000160" y="757080"/>
            <a:ext cx="323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考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溶质的质量分数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50000">
              <a:srgbClr val="ffffff"/>
            </a:gs>
            <a:gs pos="100000">
              <a:srgbClr val="aaaaa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1058"/>
          <p:cNvSpPr/>
          <p:nvPr/>
        </p:nvSpPr>
        <p:spPr>
          <a:xfrm>
            <a:off x="2482920" y="673200"/>
            <a:ext cx="36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溶解度曲线的综合应用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Rectangle 1061"/>
          <p:cNvSpPr/>
          <p:nvPr/>
        </p:nvSpPr>
        <p:spPr>
          <a:xfrm>
            <a:off x="212760" y="1620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溶解度曲线：是</a:t>
            </a: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溶解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随</a:t>
            </a:r>
            <a:r>
              <a:rPr b="1" lang="zh-CN" sz="3200" spc="-1" strike="noStrike">
                <a:solidFill>
                  <a:srgbClr val="c00000"/>
                </a:solidFill>
                <a:latin typeface="Tahoma"/>
              </a:rPr>
              <a:t>温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变化的曲线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1061"/>
          <p:cNvSpPr/>
          <p:nvPr/>
        </p:nvSpPr>
        <p:spPr>
          <a:xfrm>
            <a:off x="212760" y="2531880"/>
            <a:ext cx="879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点的含义：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ahoma"/>
              </a:rPr>
              <a:t>曲线上的点：表示该点对应温度下的溶解度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Tahoma"/>
              </a:rPr>
              <a:t>交点：</a:t>
            </a:r>
            <a:r>
              <a:rPr b="1" lang="zh-CN" sz="3200" spc="-1" strike="noStrike">
                <a:solidFill>
                  <a:srgbClr val="00601e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601e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601e"/>
                </a:solidFill>
                <a:latin typeface="Tahoma"/>
              </a:rPr>
              <a:t>）该温度下两物质的溶解度相等；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01e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601e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601e"/>
                </a:solidFill>
                <a:latin typeface="Tahoma"/>
              </a:rPr>
              <a:t>）该温度下两物质的饱和溶液的溶质质量分数相等；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"/>
          <p:cNvGrpSpPr/>
          <p:nvPr/>
        </p:nvGrpSpPr>
        <p:grpSpPr>
          <a:xfrm>
            <a:off x="4762440" y="777960"/>
            <a:ext cx="4101840" cy="1745640"/>
            <a:chOff x="4762440" y="777960"/>
            <a:chExt cx="4101840" cy="1745640"/>
          </a:xfrm>
        </p:grpSpPr>
        <p:grpSp>
          <p:nvGrpSpPr>
            <p:cNvPr id="645" name="Group 3"/>
            <p:cNvGrpSpPr/>
            <p:nvPr/>
          </p:nvGrpSpPr>
          <p:grpSpPr>
            <a:xfrm>
              <a:off x="4762440" y="777960"/>
              <a:ext cx="410040" cy="645840"/>
              <a:chOff x="4762440" y="777960"/>
              <a:chExt cx="410040" cy="645840"/>
            </a:xfrm>
          </p:grpSpPr>
          <p:grpSp>
            <p:nvGrpSpPr>
              <p:cNvPr id="646" name="Group 4"/>
              <p:cNvGrpSpPr/>
              <p:nvPr/>
            </p:nvGrpSpPr>
            <p:grpSpPr>
              <a:xfrm>
                <a:off x="4828320" y="777960"/>
                <a:ext cx="277920" cy="645840"/>
                <a:chOff x="4828320" y="777960"/>
                <a:chExt cx="277920" cy="645840"/>
              </a:xfrm>
            </p:grpSpPr>
            <p:sp>
              <p:nvSpPr>
                <p:cNvPr id="647" name="Rectangle 5"/>
                <p:cNvSpPr/>
                <p:nvPr/>
              </p:nvSpPr>
              <p:spPr>
                <a:xfrm>
                  <a:off x="4828320" y="777960"/>
                  <a:ext cx="2779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8" name="Rectangle 6"/>
                <p:cNvSpPr/>
                <p:nvPr/>
              </p:nvSpPr>
              <p:spPr>
                <a:xfrm>
                  <a:off x="4828320" y="966600"/>
                  <a:ext cx="277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9" name="Rectangle 7"/>
              <p:cNvSpPr/>
              <p:nvPr/>
            </p:nvSpPr>
            <p:spPr>
              <a:xfrm>
                <a:off x="4762440" y="777960"/>
                <a:ext cx="410040" cy="500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0" name="Group 8"/>
            <p:cNvGrpSpPr/>
            <p:nvPr/>
          </p:nvGrpSpPr>
          <p:grpSpPr>
            <a:xfrm>
              <a:off x="5172480" y="777960"/>
              <a:ext cx="410040" cy="500400"/>
              <a:chOff x="5172480" y="777960"/>
              <a:chExt cx="410040" cy="500400"/>
            </a:xfrm>
          </p:grpSpPr>
          <p:sp>
            <p:nvSpPr>
              <p:cNvPr id="651" name="Rectangle 9"/>
              <p:cNvSpPr/>
              <p:nvPr/>
            </p:nvSpPr>
            <p:spPr>
              <a:xfrm>
                <a:off x="5238000" y="777960"/>
                <a:ext cx="27828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Rectangle 10"/>
              <p:cNvSpPr/>
              <p:nvPr/>
            </p:nvSpPr>
            <p:spPr>
              <a:xfrm>
                <a:off x="5172480" y="777960"/>
                <a:ext cx="410040" cy="500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Group 11"/>
            <p:cNvGrpSpPr/>
            <p:nvPr/>
          </p:nvGrpSpPr>
          <p:grpSpPr>
            <a:xfrm>
              <a:off x="5582880" y="777960"/>
              <a:ext cx="409680" cy="500400"/>
              <a:chOff x="5582880" y="777960"/>
              <a:chExt cx="409680" cy="500400"/>
            </a:xfrm>
          </p:grpSpPr>
          <p:sp>
            <p:nvSpPr>
              <p:cNvPr id="654" name="Rectangle 12"/>
              <p:cNvSpPr/>
              <p:nvPr/>
            </p:nvSpPr>
            <p:spPr>
              <a:xfrm>
                <a:off x="5648400" y="777960"/>
                <a:ext cx="27828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13"/>
              <p:cNvSpPr/>
              <p:nvPr/>
            </p:nvSpPr>
            <p:spPr>
              <a:xfrm>
                <a:off x="5582880" y="777960"/>
                <a:ext cx="409680" cy="500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6" name="Group 14"/>
            <p:cNvGrpSpPr/>
            <p:nvPr/>
          </p:nvGrpSpPr>
          <p:grpSpPr>
            <a:xfrm>
              <a:off x="5992920" y="777960"/>
              <a:ext cx="410040" cy="500400"/>
              <a:chOff x="5992920" y="777960"/>
              <a:chExt cx="410040" cy="500400"/>
            </a:xfrm>
          </p:grpSpPr>
          <p:sp>
            <p:nvSpPr>
              <p:cNvPr id="657" name="Rectangle 15"/>
              <p:cNvSpPr/>
              <p:nvPr/>
            </p:nvSpPr>
            <p:spPr>
              <a:xfrm>
                <a:off x="6058800" y="777960"/>
                <a:ext cx="27828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8" name="Rectangle 16"/>
              <p:cNvSpPr/>
              <p:nvPr/>
            </p:nvSpPr>
            <p:spPr>
              <a:xfrm>
                <a:off x="5992920" y="777960"/>
                <a:ext cx="410040" cy="500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9" name="Group 17"/>
            <p:cNvGrpSpPr/>
            <p:nvPr/>
          </p:nvGrpSpPr>
          <p:grpSpPr>
            <a:xfrm>
              <a:off x="6402960" y="777960"/>
              <a:ext cx="410040" cy="500400"/>
              <a:chOff x="6402960" y="777960"/>
              <a:chExt cx="410040" cy="500400"/>
            </a:xfrm>
          </p:grpSpPr>
          <p:sp>
            <p:nvSpPr>
              <p:cNvPr id="660" name="Rectangle 18"/>
              <p:cNvSpPr/>
              <p:nvPr/>
            </p:nvSpPr>
            <p:spPr>
              <a:xfrm>
                <a:off x="6468840" y="777960"/>
                <a:ext cx="2779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Rectangle 19"/>
              <p:cNvSpPr/>
              <p:nvPr/>
            </p:nvSpPr>
            <p:spPr>
              <a:xfrm>
                <a:off x="6402960" y="777960"/>
                <a:ext cx="410040" cy="500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2" name="Group 20"/>
            <p:cNvGrpSpPr/>
            <p:nvPr/>
          </p:nvGrpSpPr>
          <p:grpSpPr>
            <a:xfrm>
              <a:off x="6813360" y="777960"/>
              <a:ext cx="410040" cy="500400"/>
              <a:chOff x="6813360" y="777960"/>
              <a:chExt cx="410040" cy="500400"/>
            </a:xfrm>
          </p:grpSpPr>
          <p:sp>
            <p:nvSpPr>
              <p:cNvPr id="663" name="Rectangle 21"/>
              <p:cNvSpPr/>
              <p:nvPr/>
            </p:nvSpPr>
            <p:spPr>
              <a:xfrm>
                <a:off x="6879240" y="777960"/>
                <a:ext cx="2779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Rectangle 22"/>
              <p:cNvSpPr/>
              <p:nvPr/>
            </p:nvSpPr>
            <p:spPr>
              <a:xfrm>
                <a:off x="6813360" y="777960"/>
                <a:ext cx="410040" cy="500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5" name="Group 23"/>
            <p:cNvGrpSpPr/>
            <p:nvPr/>
          </p:nvGrpSpPr>
          <p:grpSpPr>
            <a:xfrm>
              <a:off x="7223760" y="777960"/>
              <a:ext cx="410040" cy="500400"/>
              <a:chOff x="7223760" y="777960"/>
              <a:chExt cx="410040" cy="500400"/>
            </a:xfrm>
          </p:grpSpPr>
          <p:sp>
            <p:nvSpPr>
              <p:cNvPr id="666" name="Rectangle 24"/>
              <p:cNvSpPr/>
              <p:nvPr/>
            </p:nvSpPr>
            <p:spPr>
              <a:xfrm>
                <a:off x="7289280" y="777960"/>
                <a:ext cx="27828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7" name="Rectangle 25"/>
              <p:cNvSpPr/>
              <p:nvPr/>
            </p:nvSpPr>
            <p:spPr>
              <a:xfrm>
                <a:off x="7223760" y="777960"/>
                <a:ext cx="410040" cy="500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8" name="Group 26"/>
            <p:cNvGrpSpPr/>
            <p:nvPr/>
          </p:nvGrpSpPr>
          <p:grpSpPr>
            <a:xfrm>
              <a:off x="7633800" y="777960"/>
              <a:ext cx="409680" cy="500400"/>
              <a:chOff x="7633800" y="777960"/>
              <a:chExt cx="409680" cy="500400"/>
            </a:xfrm>
          </p:grpSpPr>
          <p:sp>
            <p:nvSpPr>
              <p:cNvPr id="669" name="Rectangle 27"/>
              <p:cNvSpPr/>
              <p:nvPr/>
            </p:nvSpPr>
            <p:spPr>
              <a:xfrm>
                <a:off x="7699320" y="777960"/>
                <a:ext cx="27828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0" name="Rectangle 28"/>
              <p:cNvSpPr/>
              <p:nvPr/>
            </p:nvSpPr>
            <p:spPr>
              <a:xfrm>
                <a:off x="7633800" y="777960"/>
                <a:ext cx="409680" cy="500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71" name="Group 29"/>
            <p:cNvGrpSpPr/>
            <p:nvPr/>
          </p:nvGrpSpPr>
          <p:grpSpPr>
            <a:xfrm>
              <a:off x="8043840" y="777960"/>
              <a:ext cx="410040" cy="500400"/>
              <a:chOff x="8043840" y="777960"/>
              <a:chExt cx="410040" cy="500400"/>
            </a:xfrm>
          </p:grpSpPr>
          <p:sp>
            <p:nvSpPr>
              <p:cNvPr id="672" name="Rectangle 30"/>
              <p:cNvSpPr/>
              <p:nvPr/>
            </p:nvSpPr>
            <p:spPr>
              <a:xfrm>
                <a:off x="8109720" y="777960"/>
                <a:ext cx="27828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3" name="Rectangle 31"/>
              <p:cNvSpPr/>
              <p:nvPr/>
            </p:nvSpPr>
            <p:spPr>
              <a:xfrm>
                <a:off x="8043840" y="777960"/>
                <a:ext cx="410040" cy="500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74" name="Group 32"/>
            <p:cNvGrpSpPr/>
            <p:nvPr/>
          </p:nvGrpSpPr>
          <p:grpSpPr>
            <a:xfrm>
              <a:off x="8454240" y="777960"/>
              <a:ext cx="410040" cy="500400"/>
              <a:chOff x="8454240" y="777960"/>
              <a:chExt cx="410040" cy="500400"/>
            </a:xfrm>
          </p:grpSpPr>
          <p:sp>
            <p:nvSpPr>
              <p:cNvPr id="675" name="Rectangle 33"/>
              <p:cNvSpPr/>
              <p:nvPr/>
            </p:nvSpPr>
            <p:spPr>
              <a:xfrm>
                <a:off x="8520120" y="777960"/>
                <a:ext cx="2779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6" name="Rectangle 34"/>
              <p:cNvSpPr/>
              <p:nvPr/>
            </p:nvSpPr>
            <p:spPr>
              <a:xfrm>
                <a:off x="8454240" y="777960"/>
                <a:ext cx="410040" cy="500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77" name="Group 35"/>
            <p:cNvGrpSpPr/>
            <p:nvPr/>
          </p:nvGrpSpPr>
          <p:grpSpPr>
            <a:xfrm>
              <a:off x="4762440" y="1278360"/>
              <a:ext cx="410040" cy="414720"/>
              <a:chOff x="4762440" y="1278360"/>
              <a:chExt cx="410040" cy="414720"/>
            </a:xfrm>
          </p:grpSpPr>
          <p:sp>
            <p:nvSpPr>
              <p:cNvPr id="678" name="Rectangle 36"/>
              <p:cNvSpPr/>
              <p:nvPr/>
            </p:nvSpPr>
            <p:spPr>
              <a:xfrm>
                <a:off x="4828320" y="1278360"/>
                <a:ext cx="27792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9" name="Rectangle 37"/>
              <p:cNvSpPr/>
              <p:nvPr/>
            </p:nvSpPr>
            <p:spPr>
              <a:xfrm>
                <a:off x="4762440" y="127836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80" name="Group 38"/>
            <p:cNvGrpSpPr/>
            <p:nvPr/>
          </p:nvGrpSpPr>
          <p:grpSpPr>
            <a:xfrm>
              <a:off x="5172480" y="1278360"/>
              <a:ext cx="410040" cy="414720"/>
              <a:chOff x="5172480" y="1278360"/>
              <a:chExt cx="410040" cy="414720"/>
            </a:xfrm>
          </p:grpSpPr>
          <p:sp>
            <p:nvSpPr>
              <p:cNvPr id="681" name="Rectangle 39"/>
              <p:cNvSpPr/>
              <p:nvPr/>
            </p:nvSpPr>
            <p:spPr>
              <a:xfrm>
                <a:off x="5238000" y="1278360"/>
                <a:ext cx="2782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2" name="Rectangle 40"/>
              <p:cNvSpPr/>
              <p:nvPr/>
            </p:nvSpPr>
            <p:spPr>
              <a:xfrm>
                <a:off x="5172480" y="127836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83" name="Group 41"/>
            <p:cNvGrpSpPr/>
            <p:nvPr/>
          </p:nvGrpSpPr>
          <p:grpSpPr>
            <a:xfrm>
              <a:off x="5582880" y="1278360"/>
              <a:ext cx="409680" cy="414720"/>
              <a:chOff x="5582880" y="1278360"/>
              <a:chExt cx="409680" cy="414720"/>
            </a:xfrm>
          </p:grpSpPr>
          <p:sp>
            <p:nvSpPr>
              <p:cNvPr id="684" name="Rectangle 42"/>
              <p:cNvSpPr/>
              <p:nvPr/>
            </p:nvSpPr>
            <p:spPr>
              <a:xfrm>
                <a:off x="5648400" y="1278360"/>
                <a:ext cx="2782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5" name="Rectangle 43"/>
              <p:cNvSpPr/>
              <p:nvPr/>
            </p:nvSpPr>
            <p:spPr>
              <a:xfrm>
                <a:off x="5582880" y="1278360"/>
                <a:ext cx="40968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86" name="Group 44"/>
            <p:cNvGrpSpPr/>
            <p:nvPr/>
          </p:nvGrpSpPr>
          <p:grpSpPr>
            <a:xfrm>
              <a:off x="5992920" y="1278360"/>
              <a:ext cx="410040" cy="414720"/>
              <a:chOff x="5992920" y="1278360"/>
              <a:chExt cx="410040" cy="414720"/>
            </a:xfrm>
          </p:grpSpPr>
          <p:sp>
            <p:nvSpPr>
              <p:cNvPr id="687" name="Rectangle 45"/>
              <p:cNvSpPr/>
              <p:nvPr/>
            </p:nvSpPr>
            <p:spPr>
              <a:xfrm>
                <a:off x="6058800" y="1278360"/>
                <a:ext cx="2782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8" name="Rectangle 46"/>
              <p:cNvSpPr/>
              <p:nvPr/>
            </p:nvSpPr>
            <p:spPr>
              <a:xfrm>
                <a:off x="5992920" y="127836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89" name="Group 47"/>
            <p:cNvGrpSpPr/>
            <p:nvPr/>
          </p:nvGrpSpPr>
          <p:grpSpPr>
            <a:xfrm>
              <a:off x="6402960" y="1278360"/>
              <a:ext cx="410040" cy="414720"/>
              <a:chOff x="6402960" y="1278360"/>
              <a:chExt cx="410040" cy="414720"/>
            </a:xfrm>
          </p:grpSpPr>
          <p:sp>
            <p:nvSpPr>
              <p:cNvPr id="690" name="Rectangle 48"/>
              <p:cNvSpPr/>
              <p:nvPr/>
            </p:nvSpPr>
            <p:spPr>
              <a:xfrm>
                <a:off x="6468840" y="1278360"/>
                <a:ext cx="27792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1" name="Rectangle 49"/>
              <p:cNvSpPr/>
              <p:nvPr/>
            </p:nvSpPr>
            <p:spPr>
              <a:xfrm>
                <a:off x="6402960" y="127836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2" name="Group 50"/>
            <p:cNvGrpSpPr/>
            <p:nvPr/>
          </p:nvGrpSpPr>
          <p:grpSpPr>
            <a:xfrm>
              <a:off x="6813360" y="1278360"/>
              <a:ext cx="410040" cy="414720"/>
              <a:chOff x="6813360" y="1278360"/>
              <a:chExt cx="410040" cy="414720"/>
            </a:xfrm>
          </p:grpSpPr>
          <p:sp>
            <p:nvSpPr>
              <p:cNvPr id="693" name="Rectangle 51"/>
              <p:cNvSpPr/>
              <p:nvPr/>
            </p:nvSpPr>
            <p:spPr>
              <a:xfrm>
                <a:off x="6879240" y="1278360"/>
                <a:ext cx="27792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4" name="Rectangle 52"/>
              <p:cNvSpPr/>
              <p:nvPr/>
            </p:nvSpPr>
            <p:spPr>
              <a:xfrm>
                <a:off x="6813360" y="127836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5" name="Group 53"/>
            <p:cNvGrpSpPr/>
            <p:nvPr/>
          </p:nvGrpSpPr>
          <p:grpSpPr>
            <a:xfrm>
              <a:off x="7223760" y="1278360"/>
              <a:ext cx="410040" cy="414720"/>
              <a:chOff x="7223760" y="1278360"/>
              <a:chExt cx="410040" cy="414720"/>
            </a:xfrm>
          </p:grpSpPr>
          <p:sp>
            <p:nvSpPr>
              <p:cNvPr id="696" name="Rectangle 54"/>
              <p:cNvSpPr/>
              <p:nvPr/>
            </p:nvSpPr>
            <p:spPr>
              <a:xfrm>
                <a:off x="7289280" y="1278360"/>
                <a:ext cx="2782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7" name="Rectangle 55"/>
              <p:cNvSpPr/>
              <p:nvPr/>
            </p:nvSpPr>
            <p:spPr>
              <a:xfrm>
                <a:off x="7223760" y="127836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8" name="Group 56"/>
            <p:cNvGrpSpPr/>
            <p:nvPr/>
          </p:nvGrpSpPr>
          <p:grpSpPr>
            <a:xfrm>
              <a:off x="7633800" y="1278360"/>
              <a:ext cx="409680" cy="414720"/>
              <a:chOff x="7633800" y="1278360"/>
              <a:chExt cx="409680" cy="414720"/>
            </a:xfrm>
          </p:grpSpPr>
          <p:sp>
            <p:nvSpPr>
              <p:cNvPr id="699" name="Rectangle 57"/>
              <p:cNvSpPr/>
              <p:nvPr/>
            </p:nvSpPr>
            <p:spPr>
              <a:xfrm>
                <a:off x="7699320" y="1278360"/>
                <a:ext cx="2782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0" name="Rectangle 58"/>
              <p:cNvSpPr/>
              <p:nvPr/>
            </p:nvSpPr>
            <p:spPr>
              <a:xfrm>
                <a:off x="7633800" y="1278360"/>
                <a:ext cx="40968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1" name="Group 59"/>
            <p:cNvGrpSpPr/>
            <p:nvPr/>
          </p:nvGrpSpPr>
          <p:grpSpPr>
            <a:xfrm>
              <a:off x="8043840" y="1278360"/>
              <a:ext cx="410040" cy="414720"/>
              <a:chOff x="8043840" y="1278360"/>
              <a:chExt cx="410040" cy="414720"/>
            </a:xfrm>
          </p:grpSpPr>
          <p:sp>
            <p:nvSpPr>
              <p:cNvPr id="702" name="Rectangle 60"/>
              <p:cNvSpPr/>
              <p:nvPr/>
            </p:nvSpPr>
            <p:spPr>
              <a:xfrm>
                <a:off x="8109720" y="1278360"/>
                <a:ext cx="2782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3" name="Rectangle 61"/>
              <p:cNvSpPr/>
              <p:nvPr/>
            </p:nvSpPr>
            <p:spPr>
              <a:xfrm>
                <a:off x="8043840" y="127836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4" name="Group 62"/>
            <p:cNvGrpSpPr/>
            <p:nvPr/>
          </p:nvGrpSpPr>
          <p:grpSpPr>
            <a:xfrm>
              <a:off x="8454240" y="1278360"/>
              <a:ext cx="410040" cy="414720"/>
              <a:chOff x="8454240" y="1278360"/>
              <a:chExt cx="410040" cy="414720"/>
            </a:xfrm>
          </p:grpSpPr>
          <p:sp>
            <p:nvSpPr>
              <p:cNvPr id="705" name="Rectangle 63"/>
              <p:cNvSpPr/>
              <p:nvPr/>
            </p:nvSpPr>
            <p:spPr>
              <a:xfrm>
                <a:off x="8520120" y="1278360"/>
                <a:ext cx="27792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6" name="Rectangle 64"/>
              <p:cNvSpPr/>
              <p:nvPr/>
            </p:nvSpPr>
            <p:spPr>
              <a:xfrm>
                <a:off x="8454240" y="127836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7" name="Group 65"/>
            <p:cNvGrpSpPr/>
            <p:nvPr/>
          </p:nvGrpSpPr>
          <p:grpSpPr>
            <a:xfrm>
              <a:off x="4762440" y="1693440"/>
              <a:ext cx="410040" cy="414720"/>
              <a:chOff x="4762440" y="1693440"/>
              <a:chExt cx="410040" cy="414720"/>
            </a:xfrm>
          </p:grpSpPr>
          <p:sp>
            <p:nvSpPr>
              <p:cNvPr id="708" name="Rectangle 66"/>
              <p:cNvSpPr/>
              <p:nvPr/>
            </p:nvSpPr>
            <p:spPr>
              <a:xfrm>
                <a:off x="4828320" y="1693440"/>
                <a:ext cx="27792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9" name="Rectangle 67"/>
              <p:cNvSpPr/>
              <p:nvPr/>
            </p:nvSpPr>
            <p:spPr>
              <a:xfrm>
                <a:off x="4762440" y="169344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0" name="Group 68"/>
            <p:cNvGrpSpPr/>
            <p:nvPr/>
          </p:nvGrpSpPr>
          <p:grpSpPr>
            <a:xfrm>
              <a:off x="5172480" y="1693440"/>
              <a:ext cx="410040" cy="414720"/>
              <a:chOff x="5172480" y="1693440"/>
              <a:chExt cx="410040" cy="414720"/>
            </a:xfrm>
          </p:grpSpPr>
          <p:sp>
            <p:nvSpPr>
              <p:cNvPr id="711" name="Rectangle 69"/>
              <p:cNvSpPr/>
              <p:nvPr/>
            </p:nvSpPr>
            <p:spPr>
              <a:xfrm>
                <a:off x="5238000" y="1693440"/>
                <a:ext cx="2782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Rectangle 70"/>
              <p:cNvSpPr/>
              <p:nvPr/>
            </p:nvSpPr>
            <p:spPr>
              <a:xfrm>
                <a:off x="5172480" y="169344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3" name="Group 71"/>
            <p:cNvGrpSpPr/>
            <p:nvPr/>
          </p:nvGrpSpPr>
          <p:grpSpPr>
            <a:xfrm>
              <a:off x="5582880" y="1693440"/>
              <a:ext cx="409680" cy="414720"/>
              <a:chOff x="5582880" y="1693440"/>
              <a:chExt cx="409680" cy="414720"/>
            </a:xfrm>
          </p:grpSpPr>
          <p:sp>
            <p:nvSpPr>
              <p:cNvPr id="714" name="Rectangle 72"/>
              <p:cNvSpPr/>
              <p:nvPr/>
            </p:nvSpPr>
            <p:spPr>
              <a:xfrm>
                <a:off x="5648400" y="1693440"/>
                <a:ext cx="2782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5" name="Rectangle 73"/>
              <p:cNvSpPr/>
              <p:nvPr/>
            </p:nvSpPr>
            <p:spPr>
              <a:xfrm>
                <a:off x="5582880" y="1693440"/>
                <a:ext cx="40968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6" name="Group 74"/>
            <p:cNvGrpSpPr/>
            <p:nvPr/>
          </p:nvGrpSpPr>
          <p:grpSpPr>
            <a:xfrm>
              <a:off x="5992920" y="1693440"/>
              <a:ext cx="410040" cy="414720"/>
              <a:chOff x="5992920" y="1693440"/>
              <a:chExt cx="410040" cy="414720"/>
            </a:xfrm>
          </p:grpSpPr>
          <p:sp>
            <p:nvSpPr>
              <p:cNvPr id="717" name="Rectangle 75"/>
              <p:cNvSpPr/>
              <p:nvPr/>
            </p:nvSpPr>
            <p:spPr>
              <a:xfrm>
                <a:off x="6058800" y="1693440"/>
                <a:ext cx="2782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8" name="Rectangle 76"/>
              <p:cNvSpPr/>
              <p:nvPr/>
            </p:nvSpPr>
            <p:spPr>
              <a:xfrm>
                <a:off x="5992920" y="169344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9" name="Group 77"/>
            <p:cNvGrpSpPr/>
            <p:nvPr/>
          </p:nvGrpSpPr>
          <p:grpSpPr>
            <a:xfrm>
              <a:off x="6402960" y="1693440"/>
              <a:ext cx="410040" cy="414720"/>
              <a:chOff x="6402960" y="1693440"/>
              <a:chExt cx="410040" cy="414720"/>
            </a:xfrm>
          </p:grpSpPr>
          <p:sp>
            <p:nvSpPr>
              <p:cNvPr id="720" name="Rectangle 78"/>
              <p:cNvSpPr/>
              <p:nvPr/>
            </p:nvSpPr>
            <p:spPr>
              <a:xfrm>
                <a:off x="6468840" y="1693440"/>
                <a:ext cx="27792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1" name="Rectangle 79"/>
              <p:cNvSpPr/>
              <p:nvPr/>
            </p:nvSpPr>
            <p:spPr>
              <a:xfrm>
                <a:off x="6402960" y="169344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22" name="Group 80"/>
            <p:cNvGrpSpPr/>
            <p:nvPr/>
          </p:nvGrpSpPr>
          <p:grpSpPr>
            <a:xfrm>
              <a:off x="6813360" y="1693440"/>
              <a:ext cx="410040" cy="414720"/>
              <a:chOff x="6813360" y="1693440"/>
              <a:chExt cx="410040" cy="414720"/>
            </a:xfrm>
          </p:grpSpPr>
          <p:sp>
            <p:nvSpPr>
              <p:cNvPr id="723" name="Rectangle 81"/>
              <p:cNvSpPr/>
              <p:nvPr/>
            </p:nvSpPr>
            <p:spPr>
              <a:xfrm>
                <a:off x="6879240" y="1693440"/>
                <a:ext cx="27792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4" name="Rectangle 82"/>
              <p:cNvSpPr/>
              <p:nvPr/>
            </p:nvSpPr>
            <p:spPr>
              <a:xfrm>
                <a:off x="6813360" y="169344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25" name="Group 83"/>
            <p:cNvGrpSpPr/>
            <p:nvPr/>
          </p:nvGrpSpPr>
          <p:grpSpPr>
            <a:xfrm>
              <a:off x="7223760" y="1693440"/>
              <a:ext cx="410040" cy="414720"/>
              <a:chOff x="7223760" y="1693440"/>
              <a:chExt cx="410040" cy="414720"/>
            </a:xfrm>
          </p:grpSpPr>
          <p:sp>
            <p:nvSpPr>
              <p:cNvPr id="726" name="Rectangle 84"/>
              <p:cNvSpPr/>
              <p:nvPr/>
            </p:nvSpPr>
            <p:spPr>
              <a:xfrm>
                <a:off x="7289280" y="1693440"/>
                <a:ext cx="2782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7" name="Rectangle 85"/>
              <p:cNvSpPr/>
              <p:nvPr/>
            </p:nvSpPr>
            <p:spPr>
              <a:xfrm>
                <a:off x="7223760" y="169344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28" name="Group 86"/>
            <p:cNvGrpSpPr/>
            <p:nvPr/>
          </p:nvGrpSpPr>
          <p:grpSpPr>
            <a:xfrm>
              <a:off x="7633800" y="1693440"/>
              <a:ext cx="409680" cy="414720"/>
              <a:chOff x="7633800" y="1693440"/>
              <a:chExt cx="409680" cy="414720"/>
            </a:xfrm>
          </p:grpSpPr>
          <p:sp>
            <p:nvSpPr>
              <p:cNvPr id="729" name="Rectangle 87"/>
              <p:cNvSpPr/>
              <p:nvPr/>
            </p:nvSpPr>
            <p:spPr>
              <a:xfrm>
                <a:off x="7699320" y="1693440"/>
                <a:ext cx="2782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0" name="Rectangle 88"/>
              <p:cNvSpPr/>
              <p:nvPr/>
            </p:nvSpPr>
            <p:spPr>
              <a:xfrm>
                <a:off x="7633800" y="1693440"/>
                <a:ext cx="40968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1" name="Group 89"/>
            <p:cNvGrpSpPr/>
            <p:nvPr/>
          </p:nvGrpSpPr>
          <p:grpSpPr>
            <a:xfrm>
              <a:off x="8043840" y="1693440"/>
              <a:ext cx="410040" cy="414720"/>
              <a:chOff x="8043840" y="1693440"/>
              <a:chExt cx="410040" cy="414720"/>
            </a:xfrm>
          </p:grpSpPr>
          <p:sp>
            <p:nvSpPr>
              <p:cNvPr id="732" name="Rectangle 90"/>
              <p:cNvSpPr/>
              <p:nvPr/>
            </p:nvSpPr>
            <p:spPr>
              <a:xfrm>
                <a:off x="8109720" y="1693440"/>
                <a:ext cx="2782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Rectangle 91"/>
              <p:cNvSpPr/>
              <p:nvPr/>
            </p:nvSpPr>
            <p:spPr>
              <a:xfrm>
                <a:off x="8043840" y="169344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4" name="Group 92"/>
            <p:cNvGrpSpPr/>
            <p:nvPr/>
          </p:nvGrpSpPr>
          <p:grpSpPr>
            <a:xfrm>
              <a:off x="8454240" y="1693440"/>
              <a:ext cx="410040" cy="414720"/>
              <a:chOff x="8454240" y="1693440"/>
              <a:chExt cx="410040" cy="414720"/>
            </a:xfrm>
          </p:grpSpPr>
          <p:sp>
            <p:nvSpPr>
              <p:cNvPr id="735" name="Rectangle 93"/>
              <p:cNvSpPr/>
              <p:nvPr/>
            </p:nvSpPr>
            <p:spPr>
              <a:xfrm>
                <a:off x="8520120" y="1693440"/>
                <a:ext cx="27792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Rectangle 94"/>
              <p:cNvSpPr/>
              <p:nvPr/>
            </p:nvSpPr>
            <p:spPr>
              <a:xfrm>
                <a:off x="8454240" y="1693440"/>
                <a:ext cx="410040" cy="41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7" name="Group 95"/>
            <p:cNvGrpSpPr/>
            <p:nvPr/>
          </p:nvGrpSpPr>
          <p:grpSpPr>
            <a:xfrm>
              <a:off x="4762440" y="2108520"/>
              <a:ext cx="410040" cy="415080"/>
              <a:chOff x="4762440" y="2108520"/>
              <a:chExt cx="410040" cy="415080"/>
            </a:xfrm>
          </p:grpSpPr>
          <p:sp>
            <p:nvSpPr>
              <p:cNvPr id="738" name="Rectangle 96"/>
              <p:cNvSpPr/>
              <p:nvPr/>
            </p:nvSpPr>
            <p:spPr>
              <a:xfrm>
                <a:off x="4828320" y="2108520"/>
                <a:ext cx="27792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Rectangle 97"/>
              <p:cNvSpPr/>
              <p:nvPr/>
            </p:nvSpPr>
            <p:spPr>
              <a:xfrm>
                <a:off x="4762440" y="2108520"/>
                <a:ext cx="410040" cy="41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0" name="Group 98"/>
            <p:cNvGrpSpPr/>
            <p:nvPr/>
          </p:nvGrpSpPr>
          <p:grpSpPr>
            <a:xfrm>
              <a:off x="5172480" y="2108520"/>
              <a:ext cx="410040" cy="415080"/>
              <a:chOff x="5172480" y="2108520"/>
              <a:chExt cx="410040" cy="415080"/>
            </a:xfrm>
          </p:grpSpPr>
          <p:sp>
            <p:nvSpPr>
              <p:cNvPr id="741" name="Rectangle 99"/>
              <p:cNvSpPr/>
              <p:nvPr/>
            </p:nvSpPr>
            <p:spPr>
              <a:xfrm>
                <a:off x="5238000" y="2108520"/>
                <a:ext cx="27828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2" name="Rectangle 100"/>
              <p:cNvSpPr/>
              <p:nvPr/>
            </p:nvSpPr>
            <p:spPr>
              <a:xfrm>
                <a:off x="5172480" y="2108520"/>
                <a:ext cx="410040" cy="41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3" name="Group 101"/>
            <p:cNvGrpSpPr/>
            <p:nvPr/>
          </p:nvGrpSpPr>
          <p:grpSpPr>
            <a:xfrm>
              <a:off x="5582880" y="2108520"/>
              <a:ext cx="409680" cy="415080"/>
              <a:chOff x="5582880" y="2108520"/>
              <a:chExt cx="409680" cy="415080"/>
            </a:xfrm>
          </p:grpSpPr>
          <p:sp>
            <p:nvSpPr>
              <p:cNvPr id="744" name="Rectangle 102"/>
              <p:cNvSpPr/>
              <p:nvPr/>
            </p:nvSpPr>
            <p:spPr>
              <a:xfrm>
                <a:off x="5648400" y="2108520"/>
                <a:ext cx="27828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Rectangle 103"/>
              <p:cNvSpPr/>
              <p:nvPr/>
            </p:nvSpPr>
            <p:spPr>
              <a:xfrm>
                <a:off x="5582880" y="2108520"/>
                <a:ext cx="409680" cy="41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6" name="Group 104"/>
            <p:cNvGrpSpPr/>
            <p:nvPr/>
          </p:nvGrpSpPr>
          <p:grpSpPr>
            <a:xfrm>
              <a:off x="5992920" y="2108520"/>
              <a:ext cx="410040" cy="415080"/>
              <a:chOff x="5992920" y="2108520"/>
              <a:chExt cx="410040" cy="415080"/>
            </a:xfrm>
          </p:grpSpPr>
          <p:sp>
            <p:nvSpPr>
              <p:cNvPr id="747" name="Rectangle 105"/>
              <p:cNvSpPr/>
              <p:nvPr/>
            </p:nvSpPr>
            <p:spPr>
              <a:xfrm>
                <a:off x="6058800" y="2108520"/>
                <a:ext cx="27828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8" name="Rectangle 106"/>
              <p:cNvSpPr/>
              <p:nvPr/>
            </p:nvSpPr>
            <p:spPr>
              <a:xfrm>
                <a:off x="5992920" y="2108520"/>
                <a:ext cx="410040" cy="41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9" name="Group 107"/>
            <p:cNvGrpSpPr/>
            <p:nvPr/>
          </p:nvGrpSpPr>
          <p:grpSpPr>
            <a:xfrm>
              <a:off x="6402960" y="2108520"/>
              <a:ext cx="410040" cy="415080"/>
              <a:chOff x="6402960" y="2108520"/>
              <a:chExt cx="410040" cy="415080"/>
            </a:xfrm>
          </p:grpSpPr>
          <p:sp>
            <p:nvSpPr>
              <p:cNvPr id="750" name="Rectangle 108"/>
              <p:cNvSpPr/>
              <p:nvPr/>
            </p:nvSpPr>
            <p:spPr>
              <a:xfrm>
                <a:off x="6468840" y="2108520"/>
                <a:ext cx="27792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1" name="Rectangle 109"/>
              <p:cNvSpPr/>
              <p:nvPr/>
            </p:nvSpPr>
            <p:spPr>
              <a:xfrm>
                <a:off x="6402960" y="2108520"/>
                <a:ext cx="410040" cy="41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52" name="Group 110"/>
            <p:cNvGrpSpPr/>
            <p:nvPr/>
          </p:nvGrpSpPr>
          <p:grpSpPr>
            <a:xfrm>
              <a:off x="6813360" y="2108520"/>
              <a:ext cx="410040" cy="415080"/>
              <a:chOff x="6813360" y="2108520"/>
              <a:chExt cx="410040" cy="415080"/>
            </a:xfrm>
          </p:grpSpPr>
          <p:sp>
            <p:nvSpPr>
              <p:cNvPr id="753" name="Rectangle 111"/>
              <p:cNvSpPr/>
              <p:nvPr/>
            </p:nvSpPr>
            <p:spPr>
              <a:xfrm>
                <a:off x="6879240" y="2108520"/>
                <a:ext cx="27792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4" name="Rectangle 112"/>
              <p:cNvSpPr/>
              <p:nvPr/>
            </p:nvSpPr>
            <p:spPr>
              <a:xfrm>
                <a:off x="6813360" y="2108520"/>
                <a:ext cx="410040" cy="41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55" name="Group 113"/>
            <p:cNvGrpSpPr/>
            <p:nvPr/>
          </p:nvGrpSpPr>
          <p:grpSpPr>
            <a:xfrm>
              <a:off x="7223760" y="2108520"/>
              <a:ext cx="410040" cy="415080"/>
              <a:chOff x="7223760" y="2108520"/>
              <a:chExt cx="410040" cy="415080"/>
            </a:xfrm>
          </p:grpSpPr>
          <p:sp>
            <p:nvSpPr>
              <p:cNvPr id="756" name="Rectangle 114"/>
              <p:cNvSpPr/>
              <p:nvPr/>
            </p:nvSpPr>
            <p:spPr>
              <a:xfrm>
                <a:off x="7289280" y="2108520"/>
                <a:ext cx="27828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7" name="Rectangle 115"/>
              <p:cNvSpPr/>
              <p:nvPr/>
            </p:nvSpPr>
            <p:spPr>
              <a:xfrm>
                <a:off x="7223760" y="2108520"/>
                <a:ext cx="410040" cy="41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58" name="Group 116"/>
            <p:cNvGrpSpPr/>
            <p:nvPr/>
          </p:nvGrpSpPr>
          <p:grpSpPr>
            <a:xfrm>
              <a:off x="7633800" y="2108520"/>
              <a:ext cx="409680" cy="415080"/>
              <a:chOff x="7633800" y="2108520"/>
              <a:chExt cx="409680" cy="415080"/>
            </a:xfrm>
          </p:grpSpPr>
          <p:sp>
            <p:nvSpPr>
              <p:cNvPr id="759" name="Rectangle 117"/>
              <p:cNvSpPr/>
              <p:nvPr/>
            </p:nvSpPr>
            <p:spPr>
              <a:xfrm>
                <a:off x="7699320" y="2108520"/>
                <a:ext cx="27828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0" name="Rectangle 118"/>
              <p:cNvSpPr/>
              <p:nvPr/>
            </p:nvSpPr>
            <p:spPr>
              <a:xfrm>
                <a:off x="7633800" y="2108520"/>
                <a:ext cx="409680" cy="41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61" name="Group 119"/>
            <p:cNvGrpSpPr/>
            <p:nvPr/>
          </p:nvGrpSpPr>
          <p:grpSpPr>
            <a:xfrm>
              <a:off x="8043840" y="2108520"/>
              <a:ext cx="410040" cy="415080"/>
              <a:chOff x="8043840" y="2108520"/>
              <a:chExt cx="410040" cy="415080"/>
            </a:xfrm>
          </p:grpSpPr>
          <p:sp>
            <p:nvSpPr>
              <p:cNvPr id="762" name="Rectangle 120"/>
              <p:cNvSpPr/>
              <p:nvPr/>
            </p:nvSpPr>
            <p:spPr>
              <a:xfrm>
                <a:off x="8109720" y="2108520"/>
                <a:ext cx="27828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3" name="Rectangle 121"/>
              <p:cNvSpPr/>
              <p:nvPr/>
            </p:nvSpPr>
            <p:spPr>
              <a:xfrm>
                <a:off x="8043840" y="2108520"/>
                <a:ext cx="410040" cy="41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64" name="Group 122"/>
            <p:cNvGrpSpPr/>
            <p:nvPr/>
          </p:nvGrpSpPr>
          <p:grpSpPr>
            <a:xfrm>
              <a:off x="8454240" y="2108520"/>
              <a:ext cx="410040" cy="415080"/>
              <a:chOff x="8454240" y="2108520"/>
              <a:chExt cx="410040" cy="415080"/>
            </a:xfrm>
          </p:grpSpPr>
          <p:sp>
            <p:nvSpPr>
              <p:cNvPr id="765" name="Rectangle 123"/>
              <p:cNvSpPr/>
              <p:nvPr/>
            </p:nvSpPr>
            <p:spPr>
              <a:xfrm>
                <a:off x="8520120" y="2108520"/>
                <a:ext cx="27792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Rectangle 124"/>
              <p:cNvSpPr/>
              <p:nvPr/>
            </p:nvSpPr>
            <p:spPr>
              <a:xfrm>
                <a:off x="8454240" y="2108520"/>
                <a:ext cx="410040" cy="415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67" name="Group 125"/>
          <p:cNvGrpSpPr/>
          <p:nvPr/>
        </p:nvGrpSpPr>
        <p:grpSpPr>
          <a:xfrm>
            <a:off x="4757760" y="779400"/>
            <a:ext cx="4111560" cy="1752840"/>
            <a:chOff x="4757760" y="779400"/>
            <a:chExt cx="4111560" cy="1752840"/>
          </a:xfrm>
        </p:grpSpPr>
        <p:grpSp>
          <p:nvGrpSpPr>
            <p:cNvPr id="768" name="Group 126"/>
            <p:cNvGrpSpPr/>
            <p:nvPr/>
          </p:nvGrpSpPr>
          <p:grpSpPr>
            <a:xfrm>
              <a:off x="4762080" y="782280"/>
              <a:ext cx="4101840" cy="1746000"/>
              <a:chOff x="4762080" y="782280"/>
              <a:chExt cx="4101840" cy="1746000"/>
            </a:xfrm>
          </p:grpSpPr>
          <p:grpSp>
            <p:nvGrpSpPr>
              <p:cNvPr id="769" name="Group 127"/>
              <p:cNvGrpSpPr/>
              <p:nvPr/>
            </p:nvGrpSpPr>
            <p:grpSpPr>
              <a:xfrm>
                <a:off x="4762080" y="782280"/>
                <a:ext cx="410040" cy="646560"/>
                <a:chOff x="4762080" y="782280"/>
                <a:chExt cx="410040" cy="646560"/>
              </a:xfrm>
            </p:grpSpPr>
            <p:grpSp>
              <p:nvGrpSpPr>
                <p:cNvPr id="770" name="Group 128"/>
                <p:cNvGrpSpPr/>
                <p:nvPr/>
              </p:nvGrpSpPr>
              <p:grpSpPr>
                <a:xfrm>
                  <a:off x="4827960" y="782280"/>
                  <a:ext cx="277920" cy="646560"/>
                  <a:chOff x="4827960" y="782280"/>
                  <a:chExt cx="277920" cy="646560"/>
                </a:xfrm>
              </p:grpSpPr>
              <p:sp>
                <p:nvSpPr>
                  <p:cNvPr id="771" name="Rectangle 129"/>
                  <p:cNvSpPr/>
                  <p:nvPr/>
                </p:nvSpPr>
                <p:spPr>
                  <a:xfrm>
                    <a:off x="4827960" y="782280"/>
                    <a:ext cx="277920" cy="196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2" name="Rectangle 130"/>
                  <p:cNvSpPr/>
                  <p:nvPr/>
                </p:nvSpPr>
                <p:spPr>
                  <a:xfrm>
                    <a:off x="4827960" y="971280"/>
                    <a:ext cx="277920" cy="45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73" name="Rectangle 131"/>
                <p:cNvSpPr/>
                <p:nvPr/>
              </p:nvSpPr>
              <p:spPr>
                <a:xfrm>
                  <a:off x="4762080" y="782280"/>
                  <a:ext cx="410040" cy="50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74" name="Group 132"/>
              <p:cNvGrpSpPr/>
              <p:nvPr/>
            </p:nvGrpSpPr>
            <p:grpSpPr>
              <a:xfrm>
                <a:off x="5172120" y="782280"/>
                <a:ext cx="410040" cy="500400"/>
                <a:chOff x="5172120" y="782280"/>
                <a:chExt cx="410040" cy="500400"/>
              </a:xfrm>
            </p:grpSpPr>
            <p:sp>
              <p:nvSpPr>
                <p:cNvPr id="775" name="Rectangle 133"/>
                <p:cNvSpPr/>
                <p:nvPr/>
              </p:nvSpPr>
              <p:spPr>
                <a:xfrm>
                  <a:off x="5237640" y="782280"/>
                  <a:ext cx="27828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76" name="Rectangle 134"/>
                <p:cNvSpPr/>
                <p:nvPr/>
              </p:nvSpPr>
              <p:spPr>
                <a:xfrm>
                  <a:off x="5172120" y="782280"/>
                  <a:ext cx="41004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77" name="Group 135"/>
              <p:cNvGrpSpPr/>
              <p:nvPr/>
            </p:nvGrpSpPr>
            <p:grpSpPr>
              <a:xfrm>
                <a:off x="5582520" y="782280"/>
                <a:ext cx="409680" cy="500400"/>
                <a:chOff x="5582520" y="782280"/>
                <a:chExt cx="409680" cy="500400"/>
              </a:xfrm>
            </p:grpSpPr>
            <p:sp>
              <p:nvSpPr>
                <p:cNvPr id="778" name="Rectangle 136"/>
                <p:cNvSpPr/>
                <p:nvPr/>
              </p:nvSpPr>
              <p:spPr>
                <a:xfrm>
                  <a:off x="5648040" y="782280"/>
                  <a:ext cx="27828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79" name="Rectangle 137"/>
                <p:cNvSpPr/>
                <p:nvPr/>
              </p:nvSpPr>
              <p:spPr>
                <a:xfrm>
                  <a:off x="5582520" y="782280"/>
                  <a:ext cx="40968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80" name="Group 138"/>
              <p:cNvGrpSpPr/>
              <p:nvPr/>
            </p:nvGrpSpPr>
            <p:grpSpPr>
              <a:xfrm>
                <a:off x="5992560" y="782280"/>
                <a:ext cx="410040" cy="500400"/>
                <a:chOff x="5992560" y="782280"/>
                <a:chExt cx="410040" cy="500400"/>
              </a:xfrm>
            </p:grpSpPr>
            <p:sp>
              <p:nvSpPr>
                <p:cNvPr id="781" name="Rectangle 139"/>
                <p:cNvSpPr/>
                <p:nvPr/>
              </p:nvSpPr>
              <p:spPr>
                <a:xfrm>
                  <a:off x="6058440" y="782280"/>
                  <a:ext cx="27828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2" name="Rectangle 140"/>
                <p:cNvSpPr/>
                <p:nvPr/>
              </p:nvSpPr>
              <p:spPr>
                <a:xfrm>
                  <a:off x="5992560" y="782280"/>
                  <a:ext cx="41004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83" name="Group 141"/>
              <p:cNvGrpSpPr/>
              <p:nvPr/>
            </p:nvGrpSpPr>
            <p:grpSpPr>
              <a:xfrm>
                <a:off x="6402600" y="782280"/>
                <a:ext cx="410040" cy="500400"/>
                <a:chOff x="6402600" y="782280"/>
                <a:chExt cx="410040" cy="500400"/>
              </a:xfrm>
            </p:grpSpPr>
            <p:sp>
              <p:nvSpPr>
                <p:cNvPr id="784" name="Rectangle 142"/>
                <p:cNvSpPr/>
                <p:nvPr/>
              </p:nvSpPr>
              <p:spPr>
                <a:xfrm>
                  <a:off x="6468480" y="782280"/>
                  <a:ext cx="27792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5" name="Rectangle 143"/>
                <p:cNvSpPr/>
                <p:nvPr/>
              </p:nvSpPr>
              <p:spPr>
                <a:xfrm>
                  <a:off x="6402600" y="782280"/>
                  <a:ext cx="41004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86" name="Group 144"/>
              <p:cNvGrpSpPr/>
              <p:nvPr/>
            </p:nvGrpSpPr>
            <p:grpSpPr>
              <a:xfrm>
                <a:off x="6813000" y="782280"/>
                <a:ext cx="410040" cy="500400"/>
                <a:chOff x="6813000" y="782280"/>
                <a:chExt cx="410040" cy="500400"/>
              </a:xfrm>
            </p:grpSpPr>
            <p:sp>
              <p:nvSpPr>
                <p:cNvPr id="787" name="Rectangle 145"/>
                <p:cNvSpPr/>
                <p:nvPr/>
              </p:nvSpPr>
              <p:spPr>
                <a:xfrm>
                  <a:off x="6878880" y="782280"/>
                  <a:ext cx="27792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8" name="Rectangle 146"/>
                <p:cNvSpPr/>
                <p:nvPr/>
              </p:nvSpPr>
              <p:spPr>
                <a:xfrm>
                  <a:off x="6813000" y="782280"/>
                  <a:ext cx="41004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89" name="Group 147"/>
              <p:cNvGrpSpPr/>
              <p:nvPr/>
            </p:nvGrpSpPr>
            <p:grpSpPr>
              <a:xfrm>
                <a:off x="7223400" y="782280"/>
                <a:ext cx="410040" cy="500400"/>
                <a:chOff x="7223400" y="782280"/>
                <a:chExt cx="410040" cy="500400"/>
              </a:xfrm>
            </p:grpSpPr>
            <p:sp>
              <p:nvSpPr>
                <p:cNvPr id="790" name="Rectangle 148"/>
                <p:cNvSpPr/>
                <p:nvPr/>
              </p:nvSpPr>
              <p:spPr>
                <a:xfrm>
                  <a:off x="7288920" y="782280"/>
                  <a:ext cx="27828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Rectangle 149"/>
                <p:cNvSpPr/>
                <p:nvPr/>
              </p:nvSpPr>
              <p:spPr>
                <a:xfrm>
                  <a:off x="7223400" y="782280"/>
                  <a:ext cx="41004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92" name="Group 150"/>
              <p:cNvGrpSpPr/>
              <p:nvPr/>
            </p:nvGrpSpPr>
            <p:grpSpPr>
              <a:xfrm>
                <a:off x="7633440" y="782280"/>
                <a:ext cx="409680" cy="500400"/>
                <a:chOff x="7633440" y="782280"/>
                <a:chExt cx="409680" cy="500400"/>
              </a:xfrm>
            </p:grpSpPr>
            <p:sp>
              <p:nvSpPr>
                <p:cNvPr id="793" name="Rectangle 151"/>
                <p:cNvSpPr/>
                <p:nvPr/>
              </p:nvSpPr>
              <p:spPr>
                <a:xfrm>
                  <a:off x="7698960" y="782280"/>
                  <a:ext cx="27828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4" name="Rectangle 152"/>
                <p:cNvSpPr/>
                <p:nvPr/>
              </p:nvSpPr>
              <p:spPr>
                <a:xfrm>
                  <a:off x="7633440" y="782280"/>
                  <a:ext cx="40968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95" name="Group 153"/>
              <p:cNvGrpSpPr/>
              <p:nvPr/>
            </p:nvGrpSpPr>
            <p:grpSpPr>
              <a:xfrm>
                <a:off x="8043480" y="782280"/>
                <a:ext cx="410040" cy="500400"/>
                <a:chOff x="8043480" y="782280"/>
                <a:chExt cx="410040" cy="500400"/>
              </a:xfrm>
            </p:grpSpPr>
            <p:sp>
              <p:nvSpPr>
                <p:cNvPr id="796" name="Rectangle 154"/>
                <p:cNvSpPr/>
                <p:nvPr/>
              </p:nvSpPr>
              <p:spPr>
                <a:xfrm>
                  <a:off x="8109360" y="782280"/>
                  <a:ext cx="27828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7" name="Rectangle 155"/>
                <p:cNvSpPr/>
                <p:nvPr/>
              </p:nvSpPr>
              <p:spPr>
                <a:xfrm>
                  <a:off x="8043480" y="782280"/>
                  <a:ext cx="41004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98" name="Group 156"/>
              <p:cNvGrpSpPr/>
              <p:nvPr/>
            </p:nvGrpSpPr>
            <p:grpSpPr>
              <a:xfrm>
                <a:off x="8453880" y="782280"/>
                <a:ext cx="410040" cy="500400"/>
                <a:chOff x="8453880" y="782280"/>
                <a:chExt cx="410040" cy="500400"/>
              </a:xfrm>
            </p:grpSpPr>
            <p:sp>
              <p:nvSpPr>
                <p:cNvPr id="799" name="Rectangle 157"/>
                <p:cNvSpPr/>
                <p:nvPr/>
              </p:nvSpPr>
              <p:spPr>
                <a:xfrm>
                  <a:off x="8519760" y="782280"/>
                  <a:ext cx="27792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0" name="Rectangle 158"/>
                <p:cNvSpPr/>
                <p:nvPr/>
              </p:nvSpPr>
              <p:spPr>
                <a:xfrm>
                  <a:off x="8453880" y="782280"/>
                  <a:ext cx="41004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01" name="Group 159"/>
              <p:cNvGrpSpPr/>
              <p:nvPr/>
            </p:nvGrpSpPr>
            <p:grpSpPr>
              <a:xfrm>
                <a:off x="4762080" y="1282680"/>
                <a:ext cx="410040" cy="415080"/>
                <a:chOff x="4762080" y="1282680"/>
                <a:chExt cx="410040" cy="415080"/>
              </a:xfrm>
            </p:grpSpPr>
            <p:sp>
              <p:nvSpPr>
                <p:cNvPr id="802" name="Rectangle 160"/>
                <p:cNvSpPr/>
                <p:nvPr/>
              </p:nvSpPr>
              <p:spPr>
                <a:xfrm>
                  <a:off x="4827960" y="1282680"/>
                  <a:ext cx="27792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3" name="Rectangle 161"/>
                <p:cNvSpPr/>
                <p:nvPr/>
              </p:nvSpPr>
              <p:spPr>
                <a:xfrm>
                  <a:off x="4762080" y="128268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04" name="Group 162"/>
              <p:cNvGrpSpPr/>
              <p:nvPr/>
            </p:nvGrpSpPr>
            <p:grpSpPr>
              <a:xfrm>
                <a:off x="5172120" y="1282680"/>
                <a:ext cx="410040" cy="415080"/>
                <a:chOff x="5172120" y="1282680"/>
                <a:chExt cx="410040" cy="415080"/>
              </a:xfrm>
            </p:grpSpPr>
            <p:sp>
              <p:nvSpPr>
                <p:cNvPr id="805" name="Rectangle 163"/>
                <p:cNvSpPr/>
                <p:nvPr/>
              </p:nvSpPr>
              <p:spPr>
                <a:xfrm>
                  <a:off x="5237640" y="128268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6" name="Rectangle 164"/>
                <p:cNvSpPr/>
                <p:nvPr/>
              </p:nvSpPr>
              <p:spPr>
                <a:xfrm>
                  <a:off x="5172120" y="128268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07" name="Group 165"/>
              <p:cNvGrpSpPr/>
              <p:nvPr/>
            </p:nvGrpSpPr>
            <p:grpSpPr>
              <a:xfrm>
                <a:off x="5582520" y="1282680"/>
                <a:ext cx="409680" cy="415080"/>
                <a:chOff x="5582520" y="1282680"/>
                <a:chExt cx="409680" cy="415080"/>
              </a:xfrm>
            </p:grpSpPr>
            <p:sp>
              <p:nvSpPr>
                <p:cNvPr id="808" name="Rectangle 166"/>
                <p:cNvSpPr/>
                <p:nvPr/>
              </p:nvSpPr>
              <p:spPr>
                <a:xfrm>
                  <a:off x="5648040" y="128268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9" name="Rectangle 167"/>
                <p:cNvSpPr/>
                <p:nvPr/>
              </p:nvSpPr>
              <p:spPr>
                <a:xfrm>
                  <a:off x="5582520" y="1282680"/>
                  <a:ext cx="40968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10" name="Group 168"/>
              <p:cNvGrpSpPr/>
              <p:nvPr/>
            </p:nvGrpSpPr>
            <p:grpSpPr>
              <a:xfrm>
                <a:off x="5992560" y="1282680"/>
                <a:ext cx="410040" cy="415080"/>
                <a:chOff x="5992560" y="1282680"/>
                <a:chExt cx="410040" cy="415080"/>
              </a:xfrm>
            </p:grpSpPr>
            <p:sp>
              <p:nvSpPr>
                <p:cNvPr id="811" name="Rectangle 169"/>
                <p:cNvSpPr/>
                <p:nvPr/>
              </p:nvSpPr>
              <p:spPr>
                <a:xfrm>
                  <a:off x="6058440" y="128268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2" name="Rectangle 170"/>
                <p:cNvSpPr/>
                <p:nvPr/>
              </p:nvSpPr>
              <p:spPr>
                <a:xfrm>
                  <a:off x="5992560" y="128268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13" name="Group 171"/>
              <p:cNvGrpSpPr/>
              <p:nvPr/>
            </p:nvGrpSpPr>
            <p:grpSpPr>
              <a:xfrm>
                <a:off x="6402600" y="1282680"/>
                <a:ext cx="410040" cy="415080"/>
                <a:chOff x="6402600" y="1282680"/>
                <a:chExt cx="410040" cy="415080"/>
              </a:xfrm>
            </p:grpSpPr>
            <p:sp>
              <p:nvSpPr>
                <p:cNvPr id="814" name="Rectangle 172"/>
                <p:cNvSpPr/>
                <p:nvPr/>
              </p:nvSpPr>
              <p:spPr>
                <a:xfrm>
                  <a:off x="6468480" y="1282680"/>
                  <a:ext cx="27792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5" name="Rectangle 173"/>
                <p:cNvSpPr/>
                <p:nvPr/>
              </p:nvSpPr>
              <p:spPr>
                <a:xfrm>
                  <a:off x="6402600" y="128268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16" name="Group 174"/>
              <p:cNvGrpSpPr/>
              <p:nvPr/>
            </p:nvGrpSpPr>
            <p:grpSpPr>
              <a:xfrm>
                <a:off x="6813000" y="1282680"/>
                <a:ext cx="410040" cy="415080"/>
                <a:chOff x="6813000" y="1282680"/>
                <a:chExt cx="410040" cy="415080"/>
              </a:xfrm>
            </p:grpSpPr>
            <p:sp>
              <p:nvSpPr>
                <p:cNvPr id="817" name="Rectangle 175"/>
                <p:cNvSpPr/>
                <p:nvPr/>
              </p:nvSpPr>
              <p:spPr>
                <a:xfrm>
                  <a:off x="6878880" y="1282680"/>
                  <a:ext cx="27792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8" name="Rectangle 176"/>
                <p:cNvSpPr/>
                <p:nvPr/>
              </p:nvSpPr>
              <p:spPr>
                <a:xfrm>
                  <a:off x="6813000" y="128268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19" name="Group 177"/>
              <p:cNvGrpSpPr/>
              <p:nvPr/>
            </p:nvGrpSpPr>
            <p:grpSpPr>
              <a:xfrm>
                <a:off x="7223400" y="1282680"/>
                <a:ext cx="410040" cy="415080"/>
                <a:chOff x="7223400" y="1282680"/>
                <a:chExt cx="410040" cy="415080"/>
              </a:xfrm>
            </p:grpSpPr>
            <p:sp>
              <p:nvSpPr>
                <p:cNvPr id="820" name="Rectangle 178"/>
                <p:cNvSpPr/>
                <p:nvPr/>
              </p:nvSpPr>
              <p:spPr>
                <a:xfrm>
                  <a:off x="7288920" y="128268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21" name="Rectangle 179"/>
                <p:cNvSpPr/>
                <p:nvPr/>
              </p:nvSpPr>
              <p:spPr>
                <a:xfrm>
                  <a:off x="7223400" y="128268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22" name="Group 180"/>
              <p:cNvGrpSpPr/>
              <p:nvPr/>
            </p:nvGrpSpPr>
            <p:grpSpPr>
              <a:xfrm>
                <a:off x="7633440" y="1282680"/>
                <a:ext cx="409680" cy="415080"/>
                <a:chOff x="7633440" y="1282680"/>
                <a:chExt cx="409680" cy="415080"/>
              </a:xfrm>
            </p:grpSpPr>
            <p:sp>
              <p:nvSpPr>
                <p:cNvPr id="823" name="Rectangle 181"/>
                <p:cNvSpPr/>
                <p:nvPr/>
              </p:nvSpPr>
              <p:spPr>
                <a:xfrm>
                  <a:off x="7698960" y="128268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24" name="Rectangle 182"/>
                <p:cNvSpPr/>
                <p:nvPr/>
              </p:nvSpPr>
              <p:spPr>
                <a:xfrm>
                  <a:off x="7633440" y="1282680"/>
                  <a:ext cx="40968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25" name="Group 183"/>
              <p:cNvGrpSpPr/>
              <p:nvPr/>
            </p:nvGrpSpPr>
            <p:grpSpPr>
              <a:xfrm>
                <a:off x="8043480" y="1282680"/>
                <a:ext cx="410040" cy="415080"/>
                <a:chOff x="8043480" y="1282680"/>
                <a:chExt cx="410040" cy="415080"/>
              </a:xfrm>
            </p:grpSpPr>
            <p:sp>
              <p:nvSpPr>
                <p:cNvPr id="826" name="Rectangle 184"/>
                <p:cNvSpPr/>
                <p:nvPr/>
              </p:nvSpPr>
              <p:spPr>
                <a:xfrm>
                  <a:off x="8109360" y="128268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27" name="Rectangle 185"/>
                <p:cNvSpPr/>
                <p:nvPr/>
              </p:nvSpPr>
              <p:spPr>
                <a:xfrm>
                  <a:off x="8043480" y="128268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28" name="Group 186"/>
              <p:cNvGrpSpPr/>
              <p:nvPr/>
            </p:nvGrpSpPr>
            <p:grpSpPr>
              <a:xfrm>
                <a:off x="8453880" y="1282680"/>
                <a:ext cx="410040" cy="415080"/>
                <a:chOff x="8453880" y="1282680"/>
                <a:chExt cx="410040" cy="415080"/>
              </a:xfrm>
            </p:grpSpPr>
            <p:sp>
              <p:nvSpPr>
                <p:cNvPr id="829" name="Rectangle 187"/>
                <p:cNvSpPr/>
                <p:nvPr/>
              </p:nvSpPr>
              <p:spPr>
                <a:xfrm>
                  <a:off x="8519760" y="1282680"/>
                  <a:ext cx="27792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0" name="Rectangle 188"/>
                <p:cNvSpPr/>
                <p:nvPr/>
              </p:nvSpPr>
              <p:spPr>
                <a:xfrm>
                  <a:off x="8453880" y="128268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31" name="Group 189"/>
              <p:cNvGrpSpPr/>
              <p:nvPr/>
            </p:nvGrpSpPr>
            <p:grpSpPr>
              <a:xfrm>
                <a:off x="4762080" y="1698120"/>
                <a:ext cx="410040" cy="415080"/>
                <a:chOff x="4762080" y="1698120"/>
                <a:chExt cx="410040" cy="415080"/>
              </a:xfrm>
            </p:grpSpPr>
            <p:sp>
              <p:nvSpPr>
                <p:cNvPr id="832" name="Rectangle 190"/>
                <p:cNvSpPr/>
                <p:nvPr/>
              </p:nvSpPr>
              <p:spPr>
                <a:xfrm>
                  <a:off x="4827960" y="1698120"/>
                  <a:ext cx="27792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3" name="Rectangle 191"/>
                <p:cNvSpPr/>
                <p:nvPr/>
              </p:nvSpPr>
              <p:spPr>
                <a:xfrm>
                  <a:off x="4762080" y="169812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34" name="Group 192"/>
              <p:cNvGrpSpPr/>
              <p:nvPr/>
            </p:nvGrpSpPr>
            <p:grpSpPr>
              <a:xfrm>
                <a:off x="5172120" y="1698120"/>
                <a:ext cx="410040" cy="415080"/>
                <a:chOff x="5172120" y="1698120"/>
                <a:chExt cx="410040" cy="415080"/>
              </a:xfrm>
            </p:grpSpPr>
            <p:sp>
              <p:nvSpPr>
                <p:cNvPr id="835" name="Rectangle 193"/>
                <p:cNvSpPr/>
                <p:nvPr/>
              </p:nvSpPr>
              <p:spPr>
                <a:xfrm>
                  <a:off x="5237640" y="169812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6" name="Rectangle 194"/>
                <p:cNvSpPr/>
                <p:nvPr/>
              </p:nvSpPr>
              <p:spPr>
                <a:xfrm>
                  <a:off x="5172120" y="169812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37" name="Group 195"/>
              <p:cNvGrpSpPr/>
              <p:nvPr/>
            </p:nvGrpSpPr>
            <p:grpSpPr>
              <a:xfrm>
                <a:off x="5582520" y="1698120"/>
                <a:ext cx="409680" cy="415080"/>
                <a:chOff x="5582520" y="1698120"/>
                <a:chExt cx="409680" cy="415080"/>
              </a:xfrm>
            </p:grpSpPr>
            <p:sp>
              <p:nvSpPr>
                <p:cNvPr id="838" name="Rectangle 196"/>
                <p:cNvSpPr/>
                <p:nvPr/>
              </p:nvSpPr>
              <p:spPr>
                <a:xfrm>
                  <a:off x="5648040" y="169812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Rectangle 197"/>
                <p:cNvSpPr/>
                <p:nvPr/>
              </p:nvSpPr>
              <p:spPr>
                <a:xfrm>
                  <a:off x="5582520" y="1698120"/>
                  <a:ext cx="40968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0" name="Group 198"/>
              <p:cNvGrpSpPr/>
              <p:nvPr/>
            </p:nvGrpSpPr>
            <p:grpSpPr>
              <a:xfrm>
                <a:off x="5992560" y="1698120"/>
                <a:ext cx="410040" cy="415080"/>
                <a:chOff x="5992560" y="1698120"/>
                <a:chExt cx="410040" cy="415080"/>
              </a:xfrm>
            </p:grpSpPr>
            <p:sp>
              <p:nvSpPr>
                <p:cNvPr id="841" name="Rectangle 199"/>
                <p:cNvSpPr/>
                <p:nvPr/>
              </p:nvSpPr>
              <p:spPr>
                <a:xfrm>
                  <a:off x="6058440" y="169812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2" name="Rectangle 200"/>
                <p:cNvSpPr/>
                <p:nvPr/>
              </p:nvSpPr>
              <p:spPr>
                <a:xfrm>
                  <a:off x="5992560" y="169812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3" name="Group 201"/>
              <p:cNvGrpSpPr/>
              <p:nvPr/>
            </p:nvGrpSpPr>
            <p:grpSpPr>
              <a:xfrm>
                <a:off x="6402600" y="1698120"/>
                <a:ext cx="410040" cy="415080"/>
                <a:chOff x="6402600" y="1698120"/>
                <a:chExt cx="410040" cy="415080"/>
              </a:xfrm>
            </p:grpSpPr>
            <p:sp>
              <p:nvSpPr>
                <p:cNvPr id="844" name="Rectangle 202"/>
                <p:cNvSpPr/>
                <p:nvPr/>
              </p:nvSpPr>
              <p:spPr>
                <a:xfrm>
                  <a:off x="6468480" y="1698120"/>
                  <a:ext cx="27792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5" name="Rectangle 203"/>
                <p:cNvSpPr/>
                <p:nvPr/>
              </p:nvSpPr>
              <p:spPr>
                <a:xfrm>
                  <a:off x="6402600" y="169812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6" name="Group 204"/>
              <p:cNvGrpSpPr/>
              <p:nvPr/>
            </p:nvGrpSpPr>
            <p:grpSpPr>
              <a:xfrm>
                <a:off x="6813000" y="1698120"/>
                <a:ext cx="410040" cy="415080"/>
                <a:chOff x="6813000" y="1698120"/>
                <a:chExt cx="410040" cy="415080"/>
              </a:xfrm>
            </p:grpSpPr>
            <p:sp>
              <p:nvSpPr>
                <p:cNvPr id="847" name="Rectangle 205"/>
                <p:cNvSpPr/>
                <p:nvPr/>
              </p:nvSpPr>
              <p:spPr>
                <a:xfrm>
                  <a:off x="6878880" y="1698120"/>
                  <a:ext cx="27792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8" name="Rectangle 206"/>
                <p:cNvSpPr/>
                <p:nvPr/>
              </p:nvSpPr>
              <p:spPr>
                <a:xfrm>
                  <a:off x="6813000" y="169812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9" name="Group 207"/>
              <p:cNvGrpSpPr/>
              <p:nvPr/>
            </p:nvGrpSpPr>
            <p:grpSpPr>
              <a:xfrm>
                <a:off x="7223400" y="1698120"/>
                <a:ext cx="410040" cy="415080"/>
                <a:chOff x="7223400" y="1698120"/>
                <a:chExt cx="410040" cy="415080"/>
              </a:xfrm>
            </p:grpSpPr>
            <p:sp>
              <p:nvSpPr>
                <p:cNvPr id="850" name="Rectangle 208"/>
                <p:cNvSpPr/>
                <p:nvPr/>
              </p:nvSpPr>
              <p:spPr>
                <a:xfrm>
                  <a:off x="7288920" y="169812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1" name="Rectangle 209"/>
                <p:cNvSpPr/>
                <p:nvPr/>
              </p:nvSpPr>
              <p:spPr>
                <a:xfrm>
                  <a:off x="7223400" y="169812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52" name="Group 210"/>
              <p:cNvGrpSpPr/>
              <p:nvPr/>
            </p:nvGrpSpPr>
            <p:grpSpPr>
              <a:xfrm>
                <a:off x="7633440" y="1698120"/>
                <a:ext cx="409680" cy="415080"/>
                <a:chOff x="7633440" y="1698120"/>
                <a:chExt cx="409680" cy="415080"/>
              </a:xfrm>
            </p:grpSpPr>
            <p:sp>
              <p:nvSpPr>
                <p:cNvPr id="853" name="Rectangle 211"/>
                <p:cNvSpPr/>
                <p:nvPr/>
              </p:nvSpPr>
              <p:spPr>
                <a:xfrm>
                  <a:off x="7698960" y="169812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4" name="Rectangle 212"/>
                <p:cNvSpPr/>
                <p:nvPr/>
              </p:nvSpPr>
              <p:spPr>
                <a:xfrm>
                  <a:off x="7633440" y="1698120"/>
                  <a:ext cx="40968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55" name="Group 213"/>
              <p:cNvGrpSpPr/>
              <p:nvPr/>
            </p:nvGrpSpPr>
            <p:grpSpPr>
              <a:xfrm>
                <a:off x="8043480" y="1698120"/>
                <a:ext cx="410040" cy="415080"/>
                <a:chOff x="8043480" y="1698120"/>
                <a:chExt cx="410040" cy="415080"/>
              </a:xfrm>
            </p:grpSpPr>
            <p:sp>
              <p:nvSpPr>
                <p:cNvPr id="856" name="Rectangle 214"/>
                <p:cNvSpPr/>
                <p:nvPr/>
              </p:nvSpPr>
              <p:spPr>
                <a:xfrm>
                  <a:off x="8109360" y="169812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7" name="Rectangle 215"/>
                <p:cNvSpPr/>
                <p:nvPr/>
              </p:nvSpPr>
              <p:spPr>
                <a:xfrm>
                  <a:off x="8043480" y="169812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58" name="Group 216"/>
              <p:cNvGrpSpPr/>
              <p:nvPr/>
            </p:nvGrpSpPr>
            <p:grpSpPr>
              <a:xfrm>
                <a:off x="8453880" y="1698120"/>
                <a:ext cx="410040" cy="415080"/>
                <a:chOff x="8453880" y="1698120"/>
                <a:chExt cx="410040" cy="415080"/>
              </a:xfrm>
            </p:grpSpPr>
            <p:sp>
              <p:nvSpPr>
                <p:cNvPr id="859" name="Rectangle 217"/>
                <p:cNvSpPr/>
                <p:nvPr/>
              </p:nvSpPr>
              <p:spPr>
                <a:xfrm>
                  <a:off x="8519760" y="1698120"/>
                  <a:ext cx="27792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0" name="Rectangle 218"/>
                <p:cNvSpPr/>
                <p:nvPr/>
              </p:nvSpPr>
              <p:spPr>
                <a:xfrm>
                  <a:off x="8453880" y="169812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61" name="Group 219"/>
              <p:cNvGrpSpPr/>
              <p:nvPr/>
            </p:nvGrpSpPr>
            <p:grpSpPr>
              <a:xfrm>
                <a:off x="4762080" y="2113200"/>
                <a:ext cx="410040" cy="415080"/>
                <a:chOff x="4762080" y="2113200"/>
                <a:chExt cx="410040" cy="415080"/>
              </a:xfrm>
            </p:grpSpPr>
            <p:sp>
              <p:nvSpPr>
                <p:cNvPr id="862" name="Rectangle 220"/>
                <p:cNvSpPr/>
                <p:nvPr/>
              </p:nvSpPr>
              <p:spPr>
                <a:xfrm>
                  <a:off x="4827960" y="2113200"/>
                  <a:ext cx="27792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Rectangle 221"/>
                <p:cNvSpPr/>
                <p:nvPr/>
              </p:nvSpPr>
              <p:spPr>
                <a:xfrm>
                  <a:off x="4762080" y="211320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64" name="Group 222"/>
              <p:cNvGrpSpPr/>
              <p:nvPr/>
            </p:nvGrpSpPr>
            <p:grpSpPr>
              <a:xfrm>
                <a:off x="5172120" y="2113200"/>
                <a:ext cx="410040" cy="415080"/>
                <a:chOff x="5172120" y="2113200"/>
                <a:chExt cx="410040" cy="415080"/>
              </a:xfrm>
            </p:grpSpPr>
            <p:sp>
              <p:nvSpPr>
                <p:cNvPr id="865" name="Rectangle 223"/>
                <p:cNvSpPr/>
                <p:nvPr/>
              </p:nvSpPr>
              <p:spPr>
                <a:xfrm>
                  <a:off x="5237640" y="211320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Rectangle 224"/>
                <p:cNvSpPr/>
                <p:nvPr/>
              </p:nvSpPr>
              <p:spPr>
                <a:xfrm>
                  <a:off x="5172120" y="211320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67" name="Group 225"/>
              <p:cNvGrpSpPr/>
              <p:nvPr/>
            </p:nvGrpSpPr>
            <p:grpSpPr>
              <a:xfrm>
                <a:off x="5582520" y="2113200"/>
                <a:ext cx="409680" cy="415080"/>
                <a:chOff x="5582520" y="2113200"/>
                <a:chExt cx="409680" cy="415080"/>
              </a:xfrm>
            </p:grpSpPr>
            <p:sp>
              <p:nvSpPr>
                <p:cNvPr id="868" name="Rectangle 226"/>
                <p:cNvSpPr/>
                <p:nvPr/>
              </p:nvSpPr>
              <p:spPr>
                <a:xfrm>
                  <a:off x="5648040" y="211320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9" name="Rectangle 227"/>
                <p:cNvSpPr/>
                <p:nvPr/>
              </p:nvSpPr>
              <p:spPr>
                <a:xfrm>
                  <a:off x="5582520" y="2113200"/>
                  <a:ext cx="40968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70" name="Group 228"/>
              <p:cNvGrpSpPr/>
              <p:nvPr/>
            </p:nvGrpSpPr>
            <p:grpSpPr>
              <a:xfrm>
                <a:off x="5992560" y="2113200"/>
                <a:ext cx="410040" cy="415080"/>
                <a:chOff x="5992560" y="2113200"/>
                <a:chExt cx="410040" cy="415080"/>
              </a:xfrm>
            </p:grpSpPr>
            <p:sp>
              <p:nvSpPr>
                <p:cNvPr id="871" name="Rectangle 229"/>
                <p:cNvSpPr/>
                <p:nvPr/>
              </p:nvSpPr>
              <p:spPr>
                <a:xfrm>
                  <a:off x="6058440" y="211320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2" name="Rectangle 230"/>
                <p:cNvSpPr/>
                <p:nvPr/>
              </p:nvSpPr>
              <p:spPr>
                <a:xfrm>
                  <a:off x="5992560" y="211320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73" name="Group 231"/>
              <p:cNvGrpSpPr/>
              <p:nvPr/>
            </p:nvGrpSpPr>
            <p:grpSpPr>
              <a:xfrm>
                <a:off x="6402600" y="2113200"/>
                <a:ext cx="410040" cy="415080"/>
                <a:chOff x="6402600" y="2113200"/>
                <a:chExt cx="410040" cy="415080"/>
              </a:xfrm>
            </p:grpSpPr>
            <p:sp>
              <p:nvSpPr>
                <p:cNvPr id="874" name="Rectangle 232"/>
                <p:cNvSpPr/>
                <p:nvPr/>
              </p:nvSpPr>
              <p:spPr>
                <a:xfrm>
                  <a:off x="6468480" y="2113200"/>
                  <a:ext cx="27792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5" name="Rectangle 233"/>
                <p:cNvSpPr/>
                <p:nvPr/>
              </p:nvSpPr>
              <p:spPr>
                <a:xfrm>
                  <a:off x="6402600" y="211320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76" name="Group 234"/>
              <p:cNvGrpSpPr/>
              <p:nvPr/>
            </p:nvGrpSpPr>
            <p:grpSpPr>
              <a:xfrm>
                <a:off x="6813000" y="2113200"/>
                <a:ext cx="410040" cy="415080"/>
                <a:chOff x="6813000" y="2113200"/>
                <a:chExt cx="410040" cy="415080"/>
              </a:xfrm>
            </p:grpSpPr>
            <p:sp>
              <p:nvSpPr>
                <p:cNvPr id="877" name="Rectangle 235"/>
                <p:cNvSpPr/>
                <p:nvPr/>
              </p:nvSpPr>
              <p:spPr>
                <a:xfrm>
                  <a:off x="6878880" y="2113200"/>
                  <a:ext cx="27792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8" name="Rectangle 236"/>
                <p:cNvSpPr/>
                <p:nvPr/>
              </p:nvSpPr>
              <p:spPr>
                <a:xfrm>
                  <a:off x="6813000" y="211320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79" name="Group 237"/>
              <p:cNvGrpSpPr/>
              <p:nvPr/>
            </p:nvGrpSpPr>
            <p:grpSpPr>
              <a:xfrm>
                <a:off x="7223400" y="2113200"/>
                <a:ext cx="410040" cy="415080"/>
                <a:chOff x="7223400" y="2113200"/>
                <a:chExt cx="410040" cy="415080"/>
              </a:xfrm>
            </p:grpSpPr>
            <p:sp>
              <p:nvSpPr>
                <p:cNvPr id="880" name="Rectangle 238"/>
                <p:cNvSpPr/>
                <p:nvPr/>
              </p:nvSpPr>
              <p:spPr>
                <a:xfrm>
                  <a:off x="7288920" y="211320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1" name="Rectangle 239"/>
                <p:cNvSpPr/>
                <p:nvPr/>
              </p:nvSpPr>
              <p:spPr>
                <a:xfrm>
                  <a:off x="7223400" y="211320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2" name="Group 240"/>
              <p:cNvGrpSpPr/>
              <p:nvPr/>
            </p:nvGrpSpPr>
            <p:grpSpPr>
              <a:xfrm>
                <a:off x="7633440" y="2113200"/>
                <a:ext cx="409680" cy="415080"/>
                <a:chOff x="7633440" y="2113200"/>
                <a:chExt cx="409680" cy="415080"/>
              </a:xfrm>
            </p:grpSpPr>
            <p:sp>
              <p:nvSpPr>
                <p:cNvPr id="883" name="Rectangle 241"/>
                <p:cNvSpPr/>
                <p:nvPr/>
              </p:nvSpPr>
              <p:spPr>
                <a:xfrm>
                  <a:off x="7698960" y="211320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2"/>
                <p:cNvSpPr/>
                <p:nvPr/>
              </p:nvSpPr>
              <p:spPr>
                <a:xfrm>
                  <a:off x="7633440" y="2113200"/>
                  <a:ext cx="40968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3"/>
              <p:cNvGrpSpPr/>
              <p:nvPr/>
            </p:nvGrpSpPr>
            <p:grpSpPr>
              <a:xfrm>
                <a:off x="8043480" y="2113200"/>
                <a:ext cx="410040" cy="415080"/>
                <a:chOff x="8043480" y="2113200"/>
                <a:chExt cx="410040" cy="415080"/>
              </a:xfrm>
            </p:grpSpPr>
            <p:sp>
              <p:nvSpPr>
                <p:cNvPr id="886" name="Rectangle 244"/>
                <p:cNvSpPr/>
                <p:nvPr/>
              </p:nvSpPr>
              <p:spPr>
                <a:xfrm>
                  <a:off x="8109360" y="2113200"/>
                  <a:ext cx="2782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5"/>
                <p:cNvSpPr/>
                <p:nvPr/>
              </p:nvSpPr>
              <p:spPr>
                <a:xfrm>
                  <a:off x="8043480" y="211320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6"/>
              <p:cNvGrpSpPr/>
              <p:nvPr/>
            </p:nvGrpSpPr>
            <p:grpSpPr>
              <a:xfrm>
                <a:off x="8453880" y="2113200"/>
                <a:ext cx="410040" cy="415080"/>
                <a:chOff x="8453880" y="2113200"/>
                <a:chExt cx="410040" cy="415080"/>
              </a:xfrm>
            </p:grpSpPr>
            <p:sp>
              <p:nvSpPr>
                <p:cNvPr id="889" name="Rectangle 247"/>
                <p:cNvSpPr/>
                <p:nvPr/>
              </p:nvSpPr>
              <p:spPr>
                <a:xfrm>
                  <a:off x="8519760" y="2113200"/>
                  <a:ext cx="27792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8"/>
                <p:cNvSpPr/>
                <p:nvPr/>
              </p:nvSpPr>
              <p:spPr>
                <a:xfrm>
                  <a:off x="8453880" y="2113200"/>
                  <a:ext cx="410040" cy="41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91" name="Rectangle 249"/>
            <p:cNvSpPr/>
            <p:nvPr/>
          </p:nvSpPr>
          <p:spPr>
            <a:xfrm>
              <a:off x="4757760" y="779400"/>
              <a:ext cx="4111560" cy="1752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2" name="Freeform 250"/>
          <p:cNvSpPr/>
          <p:nvPr/>
        </p:nvSpPr>
        <p:spPr>
          <a:xfrm>
            <a:off x="4761000" y="866880"/>
            <a:ext cx="4098960" cy="1015920"/>
          </a:xfrm>
          <a:custGeom>
            <a:avLst/>
            <a:gdLst>
              <a:gd name="textAreaLeft" fmla="*/ 0 w 4098960"/>
              <a:gd name="textAreaRight" fmla="*/ 4099320 w 409896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582" h="640">
                <a:moveTo>
                  <a:pt x="0" y="0"/>
                </a:moveTo>
                <a:lnTo>
                  <a:pt x="256" y="46"/>
                </a:lnTo>
                <a:lnTo>
                  <a:pt x="393" y="73"/>
                </a:lnTo>
                <a:lnTo>
                  <a:pt x="531" y="119"/>
                </a:lnTo>
                <a:lnTo>
                  <a:pt x="668" y="164"/>
                </a:lnTo>
                <a:lnTo>
                  <a:pt x="772" y="206"/>
                </a:lnTo>
                <a:lnTo>
                  <a:pt x="1042" y="300"/>
                </a:lnTo>
                <a:lnTo>
                  <a:pt x="1301" y="382"/>
                </a:lnTo>
                <a:lnTo>
                  <a:pt x="1555" y="457"/>
                </a:lnTo>
                <a:lnTo>
                  <a:pt x="1818" y="511"/>
                </a:lnTo>
                <a:lnTo>
                  <a:pt x="2065" y="546"/>
                </a:lnTo>
                <a:lnTo>
                  <a:pt x="2347" y="593"/>
                </a:lnTo>
                <a:lnTo>
                  <a:pt x="2582" y="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Text Box 251"/>
          <p:cNvSpPr/>
          <p:nvPr/>
        </p:nvSpPr>
        <p:spPr>
          <a:xfrm>
            <a:off x="4376880" y="1998720"/>
            <a:ext cx="528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Text Box 252"/>
          <p:cNvSpPr/>
          <p:nvPr/>
        </p:nvSpPr>
        <p:spPr>
          <a:xfrm>
            <a:off x="4411800" y="1541520"/>
            <a:ext cx="1031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1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Text Box 253"/>
          <p:cNvSpPr/>
          <p:nvPr/>
        </p:nvSpPr>
        <p:spPr>
          <a:xfrm>
            <a:off x="4411800" y="1160640"/>
            <a:ext cx="10317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15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254"/>
          <p:cNvSpPr/>
          <p:nvPr/>
        </p:nvSpPr>
        <p:spPr>
          <a:xfrm>
            <a:off x="4411800" y="698400"/>
            <a:ext cx="1031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2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Text Box 255"/>
          <p:cNvSpPr/>
          <p:nvPr/>
        </p:nvSpPr>
        <p:spPr>
          <a:xfrm>
            <a:off x="8300880" y="2540160"/>
            <a:ext cx="3430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Text Box 256"/>
          <p:cNvSpPr/>
          <p:nvPr/>
        </p:nvSpPr>
        <p:spPr>
          <a:xfrm>
            <a:off x="7462800" y="2532240"/>
            <a:ext cx="3430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Text Box 257"/>
          <p:cNvSpPr/>
          <p:nvPr/>
        </p:nvSpPr>
        <p:spPr>
          <a:xfrm>
            <a:off x="6243480" y="2532240"/>
            <a:ext cx="3430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Text Box 258"/>
          <p:cNvSpPr/>
          <p:nvPr/>
        </p:nvSpPr>
        <p:spPr>
          <a:xfrm>
            <a:off x="4681440" y="2532240"/>
            <a:ext cx="3430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Text Box 259"/>
          <p:cNvSpPr/>
          <p:nvPr/>
        </p:nvSpPr>
        <p:spPr>
          <a:xfrm>
            <a:off x="4986360" y="2532240"/>
            <a:ext cx="4572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Text Box 260"/>
          <p:cNvSpPr/>
          <p:nvPr/>
        </p:nvSpPr>
        <p:spPr>
          <a:xfrm>
            <a:off x="5443560" y="2532240"/>
            <a:ext cx="3427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Text Box 261"/>
          <p:cNvSpPr/>
          <p:nvPr/>
        </p:nvSpPr>
        <p:spPr>
          <a:xfrm>
            <a:off x="6662880" y="2532240"/>
            <a:ext cx="4572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Text Box 262"/>
          <p:cNvSpPr/>
          <p:nvPr/>
        </p:nvSpPr>
        <p:spPr>
          <a:xfrm>
            <a:off x="7043760" y="2532240"/>
            <a:ext cx="4572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Text Box 263"/>
          <p:cNvSpPr/>
          <p:nvPr/>
        </p:nvSpPr>
        <p:spPr>
          <a:xfrm>
            <a:off x="7881840" y="2532240"/>
            <a:ext cx="571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Text Box 264"/>
          <p:cNvSpPr/>
          <p:nvPr/>
        </p:nvSpPr>
        <p:spPr>
          <a:xfrm>
            <a:off x="8636040" y="2290680"/>
            <a:ext cx="507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Text Box 265"/>
          <p:cNvSpPr/>
          <p:nvPr/>
        </p:nvSpPr>
        <p:spPr>
          <a:xfrm>
            <a:off x="5824440" y="2532240"/>
            <a:ext cx="3812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8" name="Group 266"/>
          <p:cNvGrpSpPr/>
          <p:nvPr/>
        </p:nvGrpSpPr>
        <p:grpSpPr>
          <a:xfrm>
            <a:off x="4038480" y="457200"/>
            <a:ext cx="571680" cy="853560"/>
            <a:chOff x="4038480" y="457200"/>
            <a:chExt cx="571680" cy="853560"/>
          </a:xfrm>
        </p:grpSpPr>
        <p:sp>
          <p:nvSpPr>
            <p:cNvPr id="909" name="Text Box 267"/>
            <p:cNvSpPr/>
            <p:nvPr/>
          </p:nvSpPr>
          <p:spPr>
            <a:xfrm>
              <a:off x="4038480" y="457200"/>
              <a:ext cx="57168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 fontScale="92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0000"/>
                  </a:solidFill>
                  <a:latin typeface="Times New Roman"/>
                </a:rPr>
                <a:t>溶解度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endParaRPr b="1" i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Text Box 268"/>
            <p:cNvSpPr/>
            <p:nvPr/>
          </p:nvSpPr>
          <p:spPr>
            <a:xfrm>
              <a:off x="4191120" y="914040"/>
              <a:ext cx="342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1" i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1" name="Rectangle 269"/>
          <p:cNvSpPr/>
          <p:nvPr/>
        </p:nvSpPr>
        <p:spPr>
          <a:xfrm>
            <a:off x="4757760" y="774720"/>
            <a:ext cx="4111560" cy="1752480"/>
          </a:xfrm>
          <a:prstGeom prst="rect">
            <a:avLst/>
          </a:prstGeom>
          <a:noFill/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Text Box 270"/>
          <p:cNvSpPr/>
          <p:nvPr/>
        </p:nvSpPr>
        <p:spPr>
          <a:xfrm>
            <a:off x="4376880" y="1998720"/>
            <a:ext cx="528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Text Box 271"/>
          <p:cNvSpPr/>
          <p:nvPr/>
        </p:nvSpPr>
        <p:spPr>
          <a:xfrm>
            <a:off x="4411800" y="1541520"/>
            <a:ext cx="1031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1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Text Box 272"/>
          <p:cNvSpPr/>
          <p:nvPr/>
        </p:nvSpPr>
        <p:spPr>
          <a:xfrm>
            <a:off x="4411800" y="1160640"/>
            <a:ext cx="10317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15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Text Box 273"/>
          <p:cNvSpPr/>
          <p:nvPr/>
        </p:nvSpPr>
        <p:spPr>
          <a:xfrm>
            <a:off x="4411800" y="698400"/>
            <a:ext cx="1031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2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Text Box 274"/>
          <p:cNvSpPr/>
          <p:nvPr/>
        </p:nvSpPr>
        <p:spPr>
          <a:xfrm>
            <a:off x="8300880" y="2540160"/>
            <a:ext cx="3430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Text Box 275"/>
          <p:cNvSpPr/>
          <p:nvPr/>
        </p:nvSpPr>
        <p:spPr>
          <a:xfrm>
            <a:off x="7462800" y="2532240"/>
            <a:ext cx="3430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Text Box 276"/>
          <p:cNvSpPr/>
          <p:nvPr/>
        </p:nvSpPr>
        <p:spPr>
          <a:xfrm>
            <a:off x="6243480" y="2532240"/>
            <a:ext cx="3430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Text Box 277"/>
          <p:cNvSpPr/>
          <p:nvPr/>
        </p:nvSpPr>
        <p:spPr>
          <a:xfrm>
            <a:off x="4681440" y="2532240"/>
            <a:ext cx="3430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Text Box 278"/>
          <p:cNvSpPr/>
          <p:nvPr/>
        </p:nvSpPr>
        <p:spPr>
          <a:xfrm>
            <a:off x="4986360" y="2532240"/>
            <a:ext cx="4572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Text Box 279"/>
          <p:cNvSpPr/>
          <p:nvPr/>
        </p:nvSpPr>
        <p:spPr>
          <a:xfrm>
            <a:off x="5443560" y="2532240"/>
            <a:ext cx="3427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Text Box 280"/>
          <p:cNvSpPr/>
          <p:nvPr/>
        </p:nvSpPr>
        <p:spPr>
          <a:xfrm>
            <a:off x="6662880" y="2532240"/>
            <a:ext cx="4572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Text Box 281"/>
          <p:cNvSpPr/>
          <p:nvPr/>
        </p:nvSpPr>
        <p:spPr>
          <a:xfrm>
            <a:off x="7043760" y="2532240"/>
            <a:ext cx="4572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Text Box 282"/>
          <p:cNvSpPr/>
          <p:nvPr/>
        </p:nvSpPr>
        <p:spPr>
          <a:xfrm>
            <a:off x="7881840" y="2532240"/>
            <a:ext cx="571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Text Box 283"/>
          <p:cNvSpPr/>
          <p:nvPr/>
        </p:nvSpPr>
        <p:spPr>
          <a:xfrm>
            <a:off x="8636040" y="2290680"/>
            <a:ext cx="507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Text Box 284"/>
          <p:cNvSpPr/>
          <p:nvPr/>
        </p:nvSpPr>
        <p:spPr>
          <a:xfrm>
            <a:off x="5824440" y="2532240"/>
            <a:ext cx="3812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Text Box 285"/>
          <p:cNvSpPr/>
          <p:nvPr/>
        </p:nvSpPr>
        <p:spPr>
          <a:xfrm>
            <a:off x="8493120" y="2508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温度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/℃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8" name="Group 286"/>
          <p:cNvGrpSpPr/>
          <p:nvPr/>
        </p:nvGrpSpPr>
        <p:grpSpPr>
          <a:xfrm>
            <a:off x="-114480" y="152280"/>
            <a:ext cx="5753160" cy="6705720"/>
            <a:chOff x="-114480" y="152280"/>
            <a:chExt cx="5753160" cy="6705720"/>
          </a:xfrm>
        </p:grpSpPr>
        <p:grpSp>
          <p:nvGrpSpPr>
            <p:cNvPr id="929" name="Group 287"/>
            <p:cNvGrpSpPr/>
            <p:nvPr/>
          </p:nvGrpSpPr>
          <p:grpSpPr>
            <a:xfrm>
              <a:off x="-114480" y="152280"/>
              <a:ext cx="4388040" cy="6705720"/>
              <a:chOff x="-114480" y="152280"/>
              <a:chExt cx="4388040" cy="6705720"/>
            </a:xfrm>
          </p:grpSpPr>
          <p:sp>
            <p:nvSpPr>
              <p:cNvPr id="930" name="Text Box 288"/>
              <p:cNvSpPr/>
              <p:nvPr/>
            </p:nvSpPr>
            <p:spPr>
              <a:xfrm>
                <a:off x="3733920" y="6554880"/>
                <a:ext cx="5396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1" i="1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9"/>
              <p:cNvGrpSpPr/>
              <p:nvPr/>
            </p:nvGrpSpPr>
            <p:grpSpPr>
              <a:xfrm>
                <a:off x="-114480" y="152280"/>
                <a:ext cx="4076640" cy="6705720"/>
                <a:chOff x="-114480" y="152280"/>
                <a:chExt cx="4076640" cy="6705720"/>
              </a:xfrm>
            </p:grpSpPr>
            <p:grpSp>
              <p:nvGrpSpPr>
                <p:cNvPr id="932" name="Group 290"/>
                <p:cNvGrpSpPr/>
                <p:nvPr/>
              </p:nvGrpSpPr>
              <p:grpSpPr>
                <a:xfrm>
                  <a:off x="228600" y="152280"/>
                  <a:ext cx="3733560" cy="6705720"/>
                  <a:chOff x="228600" y="152280"/>
                  <a:chExt cx="3733560" cy="6705720"/>
                </a:xfrm>
              </p:grpSpPr>
              <p:grpSp>
                <p:nvGrpSpPr>
                  <p:cNvPr id="933" name="Group 291"/>
                  <p:cNvGrpSpPr/>
                  <p:nvPr/>
                </p:nvGrpSpPr>
                <p:grpSpPr>
                  <a:xfrm>
                    <a:off x="1933560" y="3654360"/>
                    <a:ext cx="336600" cy="312840"/>
                    <a:chOff x="1933560" y="3654360"/>
                    <a:chExt cx="336600" cy="312840"/>
                  </a:xfrm>
                </p:grpSpPr>
                <p:sp>
                  <p:nvSpPr>
                    <p:cNvPr id="934" name="Rectangle 292"/>
                    <p:cNvSpPr/>
                    <p:nvPr/>
                  </p:nvSpPr>
                  <p:spPr>
                    <a:xfrm>
                      <a:off x="1987560" y="3654360"/>
                      <a:ext cx="22824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3"/>
                    <p:cNvSpPr/>
                    <p:nvPr/>
                  </p:nvSpPr>
                  <p:spPr>
                    <a:xfrm>
                      <a:off x="1933560" y="36543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4"/>
                  <p:cNvGrpSpPr/>
                  <p:nvPr/>
                </p:nvGrpSpPr>
                <p:grpSpPr>
                  <a:xfrm>
                    <a:off x="1933560" y="3340080"/>
                    <a:ext cx="336600" cy="314280"/>
                    <a:chOff x="1933560" y="3340080"/>
                    <a:chExt cx="336600" cy="314280"/>
                  </a:xfrm>
                </p:grpSpPr>
                <p:sp>
                  <p:nvSpPr>
                    <p:cNvPr id="937" name="Rectangle 295"/>
                    <p:cNvSpPr/>
                    <p:nvPr/>
                  </p:nvSpPr>
                  <p:spPr>
                    <a:xfrm>
                      <a:off x="1987560" y="334008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6"/>
                    <p:cNvSpPr/>
                    <p:nvPr/>
                  </p:nvSpPr>
                  <p:spPr>
                    <a:xfrm>
                      <a:off x="1933560" y="33400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7"/>
                  <p:cNvGrpSpPr/>
                  <p:nvPr/>
                </p:nvGrpSpPr>
                <p:grpSpPr>
                  <a:xfrm>
                    <a:off x="2270160" y="3340080"/>
                    <a:ext cx="338040" cy="314280"/>
                    <a:chOff x="2270160" y="3340080"/>
                    <a:chExt cx="338040" cy="314280"/>
                  </a:xfrm>
                </p:grpSpPr>
                <p:sp>
                  <p:nvSpPr>
                    <p:cNvPr id="940" name="Rectangle 298"/>
                    <p:cNvSpPr/>
                    <p:nvPr/>
                  </p:nvSpPr>
                  <p:spPr>
                    <a:xfrm>
                      <a:off x="2324160" y="3340080"/>
                      <a:ext cx="22968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9"/>
                    <p:cNvSpPr/>
                    <p:nvPr/>
                  </p:nvSpPr>
                  <p:spPr>
                    <a:xfrm>
                      <a:off x="2270160" y="334008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300"/>
                  <p:cNvGrpSpPr/>
                  <p:nvPr/>
                </p:nvGrpSpPr>
                <p:grpSpPr>
                  <a:xfrm>
                    <a:off x="1933560" y="5907240"/>
                    <a:ext cx="336600" cy="312480"/>
                    <a:chOff x="1933560" y="5907240"/>
                    <a:chExt cx="336600" cy="312480"/>
                  </a:xfrm>
                </p:grpSpPr>
                <p:sp>
                  <p:nvSpPr>
                    <p:cNvPr id="943" name="Rectangle 301"/>
                    <p:cNvSpPr/>
                    <p:nvPr/>
                  </p:nvSpPr>
                  <p:spPr>
                    <a:xfrm>
                      <a:off x="1987560" y="5907240"/>
                      <a:ext cx="228240" cy="31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2"/>
                    <p:cNvSpPr/>
                    <p:nvPr/>
                  </p:nvSpPr>
                  <p:spPr>
                    <a:xfrm>
                      <a:off x="1933560" y="5907240"/>
                      <a:ext cx="336600" cy="312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3"/>
                  <p:cNvGrpSpPr/>
                  <p:nvPr/>
                </p:nvGrpSpPr>
                <p:grpSpPr>
                  <a:xfrm>
                    <a:off x="1933560" y="5592600"/>
                    <a:ext cx="336600" cy="314640"/>
                    <a:chOff x="1933560" y="5592600"/>
                    <a:chExt cx="336600" cy="314640"/>
                  </a:xfrm>
                </p:grpSpPr>
                <p:sp>
                  <p:nvSpPr>
                    <p:cNvPr id="946" name="Rectangle 304"/>
                    <p:cNvSpPr/>
                    <p:nvPr/>
                  </p:nvSpPr>
                  <p:spPr>
                    <a:xfrm>
                      <a:off x="1987560" y="5592600"/>
                      <a:ext cx="228240" cy="31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5"/>
                    <p:cNvSpPr/>
                    <p:nvPr/>
                  </p:nvSpPr>
                  <p:spPr>
                    <a:xfrm>
                      <a:off x="1933560" y="5592600"/>
                      <a:ext cx="336600" cy="3146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6"/>
                  <p:cNvGrpSpPr/>
                  <p:nvPr/>
                </p:nvGrpSpPr>
                <p:grpSpPr>
                  <a:xfrm>
                    <a:off x="2270160" y="5592600"/>
                    <a:ext cx="338040" cy="314640"/>
                    <a:chOff x="2270160" y="5592600"/>
                    <a:chExt cx="338040" cy="314640"/>
                  </a:xfrm>
                </p:grpSpPr>
                <p:sp>
                  <p:nvSpPr>
                    <p:cNvPr id="949" name="Rectangle 307"/>
                    <p:cNvSpPr/>
                    <p:nvPr/>
                  </p:nvSpPr>
                  <p:spPr>
                    <a:xfrm>
                      <a:off x="2324160" y="5592600"/>
                      <a:ext cx="229680" cy="31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8"/>
                    <p:cNvSpPr/>
                    <p:nvPr/>
                  </p:nvSpPr>
                  <p:spPr>
                    <a:xfrm>
                      <a:off x="2270160" y="5592600"/>
                      <a:ext cx="338040" cy="3146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9"/>
                  <p:cNvGrpSpPr/>
                  <p:nvPr/>
                </p:nvGrpSpPr>
                <p:grpSpPr>
                  <a:xfrm>
                    <a:off x="2270160" y="5907240"/>
                    <a:ext cx="338040" cy="312480"/>
                    <a:chOff x="2270160" y="5907240"/>
                    <a:chExt cx="338040" cy="312480"/>
                  </a:xfrm>
                </p:grpSpPr>
                <p:sp>
                  <p:nvSpPr>
                    <p:cNvPr id="952" name="Rectangle 310"/>
                    <p:cNvSpPr/>
                    <p:nvPr/>
                  </p:nvSpPr>
                  <p:spPr>
                    <a:xfrm>
                      <a:off x="2324160" y="5907240"/>
                      <a:ext cx="229680" cy="31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1"/>
                    <p:cNvSpPr/>
                    <p:nvPr/>
                  </p:nvSpPr>
                  <p:spPr>
                    <a:xfrm>
                      <a:off x="2270160" y="5907240"/>
                      <a:ext cx="338040" cy="312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954" name="Text Box 312"/>
                  <p:cNvSpPr/>
                  <p:nvPr/>
                </p:nvSpPr>
                <p:spPr>
                  <a:xfrm>
                    <a:off x="2000160" y="5927760"/>
                    <a:ext cx="68580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硼酸</a:t>
                    </a: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5" name="Text Box 313"/>
                  <p:cNvSpPr/>
                  <p:nvPr/>
                </p:nvSpPr>
                <p:spPr>
                  <a:xfrm>
                    <a:off x="933480" y="673200"/>
                    <a:ext cx="342720" cy="69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rmAutofit fontScale="82000"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硝酸铵</a:t>
                    </a: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6" name="Text Box 314"/>
                  <p:cNvSpPr/>
                  <p:nvPr/>
                </p:nvSpPr>
                <p:spPr>
                  <a:xfrm>
                    <a:off x="2152440" y="2255760"/>
                    <a:ext cx="457200" cy="79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rmAutofit fontScale="87000"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ff00ff"/>
                        </a:solidFill>
                        <a:latin typeface="Times New Roman"/>
                      </a:rPr>
                      <a:t>硝酸钠</a:t>
                    </a: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7" name="Text Box 315"/>
                  <p:cNvSpPr/>
                  <p:nvPr/>
                </p:nvSpPr>
                <p:spPr>
                  <a:xfrm>
                    <a:off x="1923840" y="3398760"/>
                    <a:ext cx="457200" cy="79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rmAutofit fontScale="87000"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硝酸钾</a:t>
                    </a: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8" name="Text Box 316"/>
                  <p:cNvSpPr/>
                  <p:nvPr/>
                </p:nvSpPr>
                <p:spPr>
                  <a:xfrm>
                    <a:off x="2381040" y="4419720"/>
                    <a:ext cx="91440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333399"/>
                        </a:solidFill>
                        <a:latin typeface="Times New Roman"/>
                      </a:rPr>
                      <a:t>氯化铵</a:t>
                    </a: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9" name="Text Box 317"/>
                  <p:cNvSpPr/>
                  <p:nvPr/>
                </p:nvSpPr>
                <p:spPr>
                  <a:xfrm>
                    <a:off x="2609640" y="4730760"/>
                    <a:ext cx="685800" cy="29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氯化钾</a:t>
                    </a: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0" name="Text Box 318"/>
                  <p:cNvSpPr/>
                  <p:nvPr/>
                </p:nvSpPr>
                <p:spPr>
                  <a:xfrm>
                    <a:off x="2457360" y="5181480"/>
                    <a:ext cx="80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氯化钠</a:t>
                    </a:r>
                    <a:endParaRPr b="1" i="1" lang="en-US" sz="1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1" name="Freeform 319"/>
                  <p:cNvSpPr/>
                  <p:nvPr/>
                </p:nvSpPr>
                <p:spPr>
                  <a:xfrm>
                    <a:off x="609480" y="838080"/>
                    <a:ext cx="3352680" cy="3353040"/>
                  </a:xfrm>
                  <a:custGeom>
                    <a:avLst/>
                    <a:gdLst>
                      <a:gd name="textAreaLeft" fmla="*/ 0 w 3352680"/>
                      <a:gd name="textAreaRight" fmla="*/ 3353040 w 3352680"/>
                      <a:gd name="textAreaTop" fmla="*/ 0 h 3353040"/>
                      <a:gd name="textAreaBottom" fmla="*/ 3353400 h 3353040"/>
                    </a:gdLst>
                    <a:ahLst/>
                    <a:rect l="textAreaLeft" t="textAreaTop" r="textAreaRight" b="textAreaBottom"/>
                    <a:pathLst>
                      <a:path w="4545" h="5010">
                        <a:moveTo>
                          <a:pt x="0" y="5010"/>
                        </a:moveTo>
                        <a:lnTo>
                          <a:pt x="465" y="4650"/>
                        </a:lnTo>
                        <a:lnTo>
                          <a:pt x="975" y="4245"/>
                        </a:lnTo>
                        <a:lnTo>
                          <a:pt x="1470" y="3855"/>
                        </a:lnTo>
                        <a:lnTo>
                          <a:pt x="1920" y="3450"/>
                        </a:lnTo>
                        <a:lnTo>
                          <a:pt x="2475" y="2910"/>
                        </a:lnTo>
                        <a:lnTo>
                          <a:pt x="2760" y="2610"/>
                        </a:lnTo>
                        <a:lnTo>
                          <a:pt x="2985" y="2295"/>
                        </a:lnTo>
                        <a:lnTo>
                          <a:pt x="3195" y="2025"/>
                        </a:lnTo>
                        <a:lnTo>
                          <a:pt x="3315" y="1860"/>
                        </a:lnTo>
                        <a:lnTo>
                          <a:pt x="3645" y="1395"/>
                        </a:lnTo>
                        <a:lnTo>
                          <a:pt x="4020" y="870"/>
                        </a:lnTo>
                        <a:lnTo>
                          <a:pt x="4290" y="435"/>
                        </a:lnTo>
                        <a:lnTo>
                          <a:pt x="4545" y="0"/>
                        </a:lnTo>
                      </a:path>
                    </a:pathLst>
                  </a:custGeom>
                  <a:noFill/>
                  <a:ln w="93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2" name="Freeform 320"/>
                  <p:cNvSpPr/>
                  <p:nvPr/>
                </p:nvSpPr>
                <p:spPr>
                  <a:xfrm>
                    <a:off x="609480" y="228600"/>
                    <a:ext cx="685800" cy="2514600"/>
                  </a:xfrm>
                  <a:custGeom>
                    <a:avLst/>
                    <a:gdLst>
                      <a:gd name="textAreaLeft" fmla="*/ 0 w 685800"/>
                      <a:gd name="textAreaRight" fmla="*/ 686160 w 685800"/>
                      <a:gd name="textAreaTop" fmla="*/ 0 h 2514600"/>
                      <a:gd name="textAreaBottom" fmla="*/ 2514960 h 2514600"/>
                    </a:gdLst>
                    <a:ahLst/>
                    <a:rect l="textAreaLeft" t="textAreaTop" r="textAreaRight" b="textAreaBottom"/>
                    <a:pathLst>
                      <a:path w="491" h="1631">
                        <a:moveTo>
                          <a:pt x="0" y="1631"/>
                        </a:moveTo>
                        <a:lnTo>
                          <a:pt x="140" y="1378"/>
                        </a:lnTo>
                        <a:lnTo>
                          <a:pt x="221" y="1184"/>
                        </a:lnTo>
                        <a:lnTo>
                          <a:pt x="282" y="976"/>
                        </a:lnTo>
                        <a:lnTo>
                          <a:pt x="327" y="777"/>
                        </a:lnTo>
                        <a:lnTo>
                          <a:pt x="372" y="612"/>
                        </a:lnTo>
                        <a:lnTo>
                          <a:pt x="418" y="411"/>
                        </a:lnTo>
                        <a:lnTo>
                          <a:pt x="464" y="201"/>
                        </a:lnTo>
                        <a:lnTo>
                          <a:pt x="491" y="0"/>
                        </a:lnTo>
                      </a:path>
                    </a:pathLst>
                  </a:custGeom>
                  <a:noFill/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3" name="Freeform 321"/>
                  <p:cNvSpPr/>
                  <p:nvPr/>
                </p:nvSpPr>
                <p:spPr>
                  <a:xfrm>
                    <a:off x="609480" y="214200"/>
                    <a:ext cx="2994120" cy="5958000"/>
                  </a:xfrm>
                  <a:custGeom>
                    <a:avLst/>
                    <a:gdLst>
                      <a:gd name="textAreaLeft" fmla="*/ 0 w 2994120"/>
                      <a:gd name="textAreaRight" fmla="*/ 2994480 w 2994120"/>
                      <a:gd name="textAreaTop" fmla="*/ 0 h 5958000"/>
                      <a:gd name="textAreaBottom" fmla="*/ 5958360 h 5958000"/>
                    </a:gdLst>
                    <a:ahLst/>
                    <a:rect l="textAreaLeft" t="textAreaTop" r="textAreaRight" b="textAreaBottom"/>
                    <a:pathLst>
                      <a:path w="1886" h="3753">
                        <a:moveTo>
                          <a:pt x="0" y="3753"/>
                        </a:moveTo>
                        <a:lnTo>
                          <a:pt x="193" y="3597"/>
                        </a:lnTo>
                        <a:lnTo>
                          <a:pt x="323" y="3481"/>
                        </a:lnTo>
                        <a:lnTo>
                          <a:pt x="413" y="3384"/>
                        </a:lnTo>
                        <a:lnTo>
                          <a:pt x="502" y="3294"/>
                        </a:lnTo>
                        <a:lnTo>
                          <a:pt x="564" y="3203"/>
                        </a:lnTo>
                        <a:lnTo>
                          <a:pt x="695" y="2997"/>
                        </a:lnTo>
                        <a:lnTo>
                          <a:pt x="834" y="2724"/>
                        </a:lnTo>
                        <a:lnTo>
                          <a:pt x="926" y="2560"/>
                        </a:lnTo>
                        <a:lnTo>
                          <a:pt x="1017" y="2377"/>
                        </a:lnTo>
                        <a:lnTo>
                          <a:pt x="1109" y="2176"/>
                        </a:lnTo>
                        <a:lnTo>
                          <a:pt x="1273" y="1810"/>
                        </a:lnTo>
                        <a:lnTo>
                          <a:pt x="1474" y="1280"/>
                        </a:lnTo>
                        <a:lnTo>
                          <a:pt x="1593" y="987"/>
                        </a:lnTo>
                        <a:lnTo>
                          <a:pt x="1657" y="804"/>
                        </a:lnTo>
                        <a:lnTo>
                          <a:pt x="1730" y="576"/>
                        </a:lnTo>
                        <a:lnTo>
                          <a:pt x="1794" y="366"/>
                        </a:lnTo>
                        <a:lnTo>
                          <a:pt x="1840" y="183"/>
                        </a:lnTo>
                        <a:lnTo>
                          <a:pt x="188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4" name="Freeform 322"/>
                  <p:cNvSpPr/>
                  <p:nvPr/>
                </p:nvSpPr>
                <p:spPr>
                  <a:xfrm>
                    <a:off x="555480" y="4038480"/>
                    <a:ext cx="3406680" cy="1589040"/>
                  </a:xfrm>
                  <a:custGeom>
                    <a:avLst/>
                    <a:gdLst>
                      <a:gd name="textAreaLeft" fmla="*/ 0 w 3406680"/>
                      <a:gd name="textAreaRight" fmla="*/ 3407040 w 3406680"/>
                      <a:gd name="textAreaTop" fmla="*/ 0 h 1589040"/>
                      <a:gd name="textAreaBottom" fmla="*/ 1589400 h 1589040"/>
                    </a:gdLst>
                    <a:ahLst/>
                    <a:rect l="textAreaLeft" t="textAreaTop" r="textAreaRight" b="textAreaBottom"/>
                    <a:pathLst>
                      <a:path w="2146" h="1001">
                        <a:moveTo>
                          <a:pt x="0" y="1001"/>
                        </a:moveTo>
                        <a:lnTo>
                          <a:pt x="439" y="864"/>
                        </a:lnTo>
                        <a:lnTo>
                          <a:pt x="667" y="745"/>
                        </a:lnTo>
                        <a:lnTo>
                          <a:pt x="849" y="661"/>
                        </a:lnTo>
                        <a:lnTo>
                          <a:pt x="1079" y="544"/>
                        </a:lnTo>
                        <a:lnTo>
                          <a:pt x="1287" y="455"/>
                        </a:lnTo>
                        <a:lnTo>
                          <a:pt x="1508" y="361"/>
                        </a:lnTo>
                        <a:lnTo>
                          <a:pt x="1725" y="253"/>
                        </a:lnTo>
                        <a:lnTo>
                          <a:pt x="1932" y="149"/>
                        </a:lnTo>
                        <a:lnTo>
                          <a:pt x="2146" y="0"/>
                        </a:lnTo>
                      </a:path>
                    </a:pathLst>
                  </a:custGeom>
                  <a:noFill/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5" name="Freeform 323"/>
                  <p:cNvSpPr/>
                  <p:nvPr/>
                </p:nvSpPr>
                <p:spPr>
                  <a:xfrm>
                    <a:off x="542880" y="4648320"/>
                    <a:ext cx="3419280" cy="977760"/>
                  </a:xfrm>
                  <a:custGeom>
                    <a:avLst/>
                    <a:gdLst>
                      <a:gd name="textAreaLeft" fmla="*/ 0 w 3419280"/>
                      <a:gd name="textAreaRight" fmla="*/ 3419640 w 3419280"/>
                      <a:gd name="textAreaTop" fmla="*/ 0 h 977760"/>
                      <a:gd name="textAreaBottom" fmla="*/ 978120 h 977760"/>
                    </a:gdLst>
                    <a:ahLst/>
                    <a:rect l="textAreaLeft" t="textAreaTop" r="textAreaRight" b="textAreaBottom"/>
                    <a:pathLst>
                      <a:path w="4533" h="1309">
                        <a:moveTo>
                          <a:pt x="0" y="1309"/>
                        </a:moveTo>
                        <a:lnTo>
                          <a:pt x="450" y="1234"/>
                        </a:lnTo>
                        <a:lnTo>
                          <a:pt x="915" y="1114"/>
                        </a:lnTo>
                        <a:lnTo>
                          <a:pt x="1335" y="994"/>
                        </a:lnTo>
                        <a:lnTo>
                          <a:pt x="1815" y="859"/>
                        </a:lnTo>
                        <a:lnTo>
                          <a:pt x="2250" y="739"/>
                        </a:lnTo>
                        <a:lnTo>
                          <a:pt x="2715" y="619"/>
                        </a:lnTo>
                        <a:lnTo>
                          <a:pt x="3180" y="484"/>
                        </a:lnTo>
                        <a:lnTo>
                          <a:pt x="3645" y="334"/>
                        </a:lnTo>
                        <a:lnTo>
                          <a:pt x="4065" y="199"/>
                        </a:lnTo>
                        <a:lnTo>
                          <a:pt x="4533" y="0"/>
                        </a:ln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6" name="Freeform 324"/>
                  <p:cNvSpPr/>
                  <p:nvPr/>
                </p:nvSpPr>
                <p:spPr>
                  <a:xfrm>
                    <a:off x="544320" y="5334120"/>
                    <a:ext cx="3417840" cy="93600"/>
                  </a:xfrm>
                  <a:custGeom>
                    <a:avLst/>
                    <a:gdLst>
                      <a:gd name="textAreaLeft" fmla="*/ 0 w 3417840"/>
                      <a:gd name="textAreaRight" fmla="*/ 3418200 w 3417840"/>
                      <a:gd name="textAreaTop" fmla="*/ 0 h 93600"/>
                      <a:gd name="textAreaBottom" fmla="*/ 93960 h 93600"/>
                    </a:gdLst>
                    <a:ahLst/>
                    <a:rect l="textAreaLeft" t="textAreaTop" r="textAreaRight" b="textAreaBottom"/>
                    <a:pathLst>
                      <a:path w="4545" h="180">
                        <a:moveTo>
                          <a:pt x="0" y="135"/>
                        </a:moveTo>
                        <a:lnTo>
                          <a:pt x="465" y="165"/>
                        </a:lnTo>
                        <a:lnTo>
                          <a:pt x="450" y="150"/>
                        </a:lnTo>
                        <a:lnTo>
                          <a:pt x="885" y="180"/>
                        </a:lnTo>
                        <a:lnTo>
                          <a:pt x="885" y="165"/>
                        </a:lnTo>
                        <a:lnTo>
                          <a:pt x="885" y="180"/>
                        </a:lnTo>
                        <a:lnTo>
                          <a:pt x="1380" y="165"/>
                        </a:lnTo>
                        <a:lnTo>
                          <a:pt x="1845" y="165"/>
                        </a:lnTo>
                        <a:lnTo>
                          <a:pt x="2265" y="150"/>
                        </a:lnTo>
                        <a:lnTo>
                          <a:pt x="2730" y="135"/>
                        </a:lnTo>
                        <a:lnTo>
                          <a:pt x="3180" y="90"/>
                        </a:lnTo>
                        <a:lnTo>
                          <a:pt x="3630" y="45"/>
                        </a:lnTo>
                        <a:lnTo>
                          <a:pt x="4080" y="30"/>
                        </a:lnTo>
                        <a:lnTo>
                          <a:pt x="4545" y="0"/>
                        </a:lnTo>
                        <a:lnTo>
                          <a:pt x="4545" y="15"/>
                        </a:lnTo>
                      </a:path>
                    </a:pathLst>
                  </a:custGeom>
                  <a:noFill/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7" name="Freeform 325"/>
                  <p:cNvSpPr/>
                  <p:nvPr/>
                </p:nvSpPr>
                <p:spPr>
                  <a:xfrm>
                    <a:off x="544320" y="5334120"/>
                    <a:ext cx="3417840" cy="1143000"/>
                  </a:xfrm>
                  <a:custGeom>
                    <a:avLst/>
                    <a:gdLst>
                      <a:gd name="textAreaLeft" fmla="*/ 0 w 3417840"/>
                      <a:gd name="textAreaRight" fmla="*/ 3418200 w 3417840"/>
                      <a:gd name="textAreaTop" fmla="*/ 0 h 1143000"/>
                      <a:gd name="textAreaBottom" fmla="*/ 1143360 h 1143000"/>
                    </a:gdLst>
                    <a:ahLst/>
                    <a:rect l="textAreaLeft" t="textAreaTop" r="textAreaRight" b="textAreaBottom"/>
                    <a:pathLst>
                      <a:path w="4530" h="1725">
                        <a:moveTo>
                          <a:pt x="0" y="1725"/>
                        </a:moveTo>
                        <a:lnTo>
                          <a:pt x="450" y="1680"/>
                        </a:lnTo>
                        <a:lnTo>
                          <a:pt x="900" y="1605"/>
                        </a:lnTo>
                        <a:lnTo>
                          <a:pt x="1380" y="1530"/>
                        </a:lnTo>
                        <a:lnTo>
                          <a:pt x="1830" y="1425"/>
                        </a:lnTo>
                        <a:lnTo>
                          <a:pt x="2280" y="1305"/>
                        </a:lnTo>
                        <a:lnTo>
                          <a:pt x="2730" y="1155"/>
                        </a:lnTo>
                        <a:lnTo>
                          <a:pt x="3150" y="975"/>
                        </a:lnTo>
                        <a:lnTo>
                          <a:pt x="3630" y="705"/>
                        </a:lnTo>
                        <a:lnTo>
                          <a:pt x="4080" y="405"/>
                        </a:lnTo>
                        <a:lnTo>
                          <a:pt x="4530" y="0"/>
                        </a:lnTo>
                      </a:path>
                    </a:pathLst>
                  </a:custGeom>
                  <a:noFill/>
                  <a:ln w="93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968" name="Group 326"/>
                  <p:cNvGrpSpPr/>
                  <p:nvPr/>
                </p:nvGrpSpPr>
                <p:grpSpPr>
                  <a:xfrm>
                    <a:off x="582480" y="6219720"/>
                    <a:ext cx="336600" cy="561600"/>
                    <a:chOff x="582480" y="6219720"/>
                    <a:chExt cx="336600" cy="561600"/>
                  </a:xfrm>
                </p:grpSpPr>
                <p:grpSp>
                  <p:nvGrpSpPr>
                    <p:cNvPr id="969" name="Group 327"/>
                    <p:cNvGrpSpPr/>
                    <p:nvPr/>
                  </p:nvGrpSpPr>
                  <p:grpSpPr>
                    <a:xfrm>
                      <a:off x="636120" y="6219720"/>
                      <a:ext cx="228600" cy="561600"/>
                      <a:chOff x="636120" y="6219720"/>
                      <a:chExt cx="228600" cy="561600"/>
                    </a:xfrm>
                  </p:grpSpPr>
                  <p:sp>
                    <p:nvSpPr>
                      <p:cNvPr id="970" name="Rectangle 328"/>
                      <p:cNvSpPr/>
                      <p:nvPr/>
                    </p:nvSpPr>
                    <p:spPr>
                      <a:xfrm>
                        <a:off x="636120" y="6219720"/>
                        <a:ext cx="228600" cy="148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971" name="Rectangle 329"/>
                      <p:cNvSpPr/>
                      <p:nvPr/>
                    </p:nvSpPr>
                    <p:spPr>
                      <a:xfrm>
                        <a:off x="636120" y="6323400"/>
                        <a:ext cx="228600" cy="45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972" name="Rectangle 330"/>
                    <p:cNvSpPr/>
                    <p:nvPr/>
                  </p:nvSpPr>
                  <p:spPr>
                    <a:xfrm>
                      <a:off x="582480" y="6219720"/>
                      <a:ext cx="336600" cy="339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73" name="Group 331"/>
                  <p:cNvGrpSpPr/>
                  <p:nvPr/>
                </p:nvGrpSpPr>
                <p:grpSpPr>
                  <a:xfrm>
                    <a:off x="919080" y="6219720"/>
                    <a:ext cx="339840" cy="561600"/>
                    <a:chOff x="919080" y="6219720"/>
                    <a:chExt cx="339840" cy="561600"/>
                  </a:xfrm>
                </p:grpSpPr>
                <p:grpSp>
                  <p:nvGrpSpPr>
                    <p:cNvPr id="974" name="Group 332"/>
                    <p:cNvGrpSpPr/>
                    <p:nvPr/>
                  </p:nvGrpSpPr>
                  <p:grpSpPr>
                    <a:xfrm>
                      <a:off x="973440" y="6219720"/>
                      <a:ext cx="230760" cy="561600"/>
                      <a:chOff x="973440" y="6219720"/>
                      <a:chExt cx="230760" cy="561600"/>
                    </a:xfrm>
                  </p:grpSpPr>
                  <p:sp>
                    <p:nvSpPr>
                      <p:cNvPr id="975" name="Rectangle 333"/>
                      <p:cNvSpPr/>
                      <p:nvPr/>
                    </p:nvSpPr>
                    <p:spPr>
                      <a:xfrm>
                        <a:off x="973440" y="6219720"/>
                        <a:ext cx="230760" cy="148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976" name="Rectangle 334"/>
                      <p:cNvSpPr/>
                      <p:nvPr/>
                    </p:nvSpPr>
                    <p:spPr>
                      <a:xfrm>
                        <a:off x="973440" y="6323400"/>
                        <a:ext cx="230760" cy="45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977" name="Rectangle 335"/>
                    <p:cNvSpPr/>
                    <p:nvPr/>
                  </p:nvSpPr>
                  <p:spPr>
                    <a:xfrm>
                      <a:off x="919080" y="6219720"/>
                      <a:ext cx="339840" cy="339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78" name="Group 336"/>
                  <p:cNvGrpSpPr/>
                  <p:nvPr/>
                </p:nvGrpSpPr>
                <p:grpSpPr>
                  <a:xfrm>
                    <a:off x="1258920" y="6219720"/>
                    <a:ext cx="336600" cy="561600"/>
                    <a:chOff x="1258920" y="6219720"/>
                    <a:chExt cx="336600" cy="561600"/>
                  </a:xfrm>
                </p:grpSpPr>
                <p:grpSp>
                  <p:nvGrpSpPr>
                    <p:cNvPr id="979" name="Group 337"/>
                    <p:cNvGrpSpPr/>
                    <p:nvPr/>
                  </p:nvGrpSpPr>
                  <p:grpSpPr>
                    <a:xfrm>
                      <a:off x="1312920" y="6219720"/>
                      <a:ext cx="228600" cy="561600"/>
                      <a:chOff x="1312920" y="6219720"/>
                      <a:chExt cx="228600" cy="561600"/>
                    </a:xfrm>
                  </p:grpSpPr>
                  <p:sp>
                    <p:nvSpPr>
                      <p:cNvPr id="980" name="Rectangle 338"/>
                      <p:cNvSpPr/>
                      <p:nvPr/>
                    </p:nvSpPr>
                    <p:spPr>
                      <a:xfrm>
                        <a:off x="1312920" y="6219720"/>
                        <a:ext cx="228600" cy="148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981" name="Rectangle 339"/>
                      <p:cNvSpPr/>
                      <p:nvPr/>
                    </p:nvSpPr>
                    <p:spPr>
                      <a:xfrm>
                        <a:off x="1312920" y="6323400"/>
                        <a:ext cx="228600" cy="45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982" name="Rectangle 340"/>
                    <p:cNvSpPr/>
                    <p:nvPr/>
                  </p:nvSpPr>
                  <p:spPr>
                    <a:xfrm>
                      <a:off x="1258920" y="6219720"/>
                      <a:ext cx="336600" cy="339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83" name="Group 341"/>
                  <p:cNvGrpSpPr/>
                  <p:nvPr/>
                </p:nvGrpSpPr>
                <p:grpSpPr>
                  <a:xfrm>
                    <a:off x="1595520" y="6219720"/>
                    <a:ext cx="338040" cy="561600"/>
                    <a:chOff x="1595520" y="6219720"/>
                    <a:chExt cx="338040" cy="561600"/>
                  </a:xfrm>
                </p:grpSpPr>
                <p:grpSp>
                  <p:nvGrpSpPr>
                    <p:cNvPr id="984" name="Group 342"/>
                    <p:cNvGrpSpPr/>
                    <p:nvPr/>
                  </p:nvGrpSpPr>
                  <p:grpSpPr>
                    <a:xfrm>
                      <a:off x="1649520" y="6219720"/>
                      <a:ext cx="229320" cy="561600"/>
                      <a:chOff x="1649520" y="6219720"/>
                      <a:chExt cx="229320" cy="561600"/>
                    </a:xfrm>
                  </p:grpSpPr>
                  <p:sp>
                    <p:nvSpPr>
                      <p:cNvPr id="985" name="Rectangle 343"/>
                      <p:cNvSpPr/>
                      <p:nvPr/>
                    </p:nvSpPr>
                    <p:spPr>
                      <a:xfrm>
                        <a:off x="1649520" y="6219720"/>
                        <a:ext cx="229320" cy="148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986" name="Rectangle 344"/>
                      <p:cNvSpPr/>
                      <p:nvPr/>
                    </p:nvSpPr>
                    <p:spPr>
                      <a:xfrm>
                        <a:off x="1649520" y="6323400"/>
                        <a:ext cx="229320" cy="45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987" name="Rectangle 345"/>
                    <p:cNvSpPr/>
                    <p:nvPr/>
                  </p:nvSpPr>
                  <p:spPr>
                    <a:xfrm>
                      <a:off x="1595520" y="6219720"/>
                      <a:ext cx="338040" cy="338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88" name="Group 346"/>
                  <p:cNvGrpSpPr/>
                  <p:nvPr/>
                </p:nvGrpSpPr>
                <p:grpSpPr>
                  <a:xfrm>
                    <a:off x="2270160" y="6219720"/>
                    <a:ext cx="338040" cy="561600"/>
                    <a:chOff x="2270160" y="6219720"/>
                    <a:chExt cx="338040" cy="561600"/>
                  </a:xfrm>
                </p:grpSpPr>
                <p:grpSp>
                  <p:nvGrpSpPr>
                    <p:cNvPr id="989" name="Group 347"/>
                    <p:cNvGrpSpPr/>
                    <p:nvPr/>
                  </p:nvGrpSpPr>
                  <p:grpSpPr>
                    <a:xfrm>
                      <a:off x="2324160" y="6219720"/>
                      <a:ext cx="229680" cy="561600"/>
                      <a:chOff x="2324160" y="6219720"/>
                      <a:chExt cx="229680" cy="561600"/>
                    </a:xfrm>
                  </p:grpSpPr>
                  <p:sp>
                    <p:nvSpPr>
                      <p:cNvPr id="990" name="Rectangle 348"/>
                      <p:cNvSpPr/>
                      <p:nvPr/>
                    </p:nvSpPr>
                    <p:spPr>
                      <a:xfrm>
                        <a:off x="2324160" y="6219720"/>
                        <a:ext cx="229680" cy="148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991" name="Rectangle 349"/>
                      <p:cNvSpPr/>
                      <p:nvPr/>
                    </p:nvSpPr>
                    <p:spPr>
                      <a:xfrm>
                        <a:off x="2324160" y="6323400"/>
                        <a:ext cx="229680" cy="45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992" name="Rectangle 350"/>
                    <p:cNvSpPr/>
                    <p:nvPr/>
                  </p:nvSpPr>
                  <p:spPr>
                    <a:xfrm>
                      <a:off x="2270160" y="6219720"/>
                      <a:ext cx="338040" cy="339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93" name="Group 351"/>
                  <p:cNvGrpSpPr/>
                  <p:nvPr/>
                </p:nvGrpSpPr>
                <p:grpSpPr>
                  <a:xfrm>
                    <a:off x="2944800" y="6219720"/>
                    <a:ext cx="339480" cy="561600"/>
                    <a:chOff x="2944800" y="6219720"/>
                    <a:chExt cx="339480" cy="561600"/>
                  </a:xfrm>
                </p:grpSpPr>
                <p:grpSp>
                  <p:nvGrpSpPr>
                    <p:cNvPr id="994" name="Group 352"/>
                    <p:cNvGrpSpPr/>
                    <p:nvPr/>
                  </p:nvGrpSpPr>
                  <p:grpSpPr>
                    <a:xfrm>
                      <a:off x="2999160" y="6219720"/>
                      <a:ext cx="230400" cy="561600"/>
                      <a:chOff x="2999160" y="6219720"/>
                      <a:chExt cx="230400" cy="561600"/>
                    </a:xfrm>
                  </p:grpSpPr>
                  <p:sp>
                    <p:nvSpPr>
                      <p:cNvPr id="995" name="Rectangle 353"/>
                      <p:cNvSpPr/>
                      <p:nvPr/>
                    </p:nvSpPr>
                    <p:spPr>
                      <a:xfrm>
                        <a:off x="2999160" y="6219720"/>
                        <a:ext cx="230400" cy="148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996" name="Rectangle 354"/>
                      <p:cNvSpPr/>
                      <p:nvPr/>
                    </p:nvSpPr>
                    <p:spPr>
                      <a:xfrm>
                        <a:off x="2999160" y="6323400"/>
                        <a:ext cx="230400" cy="45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997" name="Rectangle 355"/>
                    <p:cNvSpPr/>
                    <p:nvPr/>
                  </p:nvSpPr>
                  <p:spPr>
                    <a:xfrm>
                      <a:off x="2944800" y="6219720"/>
                      <a:ext cx="339480" cy="338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98" name="Group 356"/>
                  <p:cNvGrpSpPr/>
                  <p:nvPr/>
                </p:nvGrpSpPr>
                <p:grpSpPr>
                  <a:xfrm>
                    <a:off x="3622680" y="6219720"/>
                    <a:ext cx="336600" cy="561600"/>
                    <a:chOff x="3622680" y="6219720"/>
                    <a:chExt cx="336600" cy="561600"/>
                  </a:xfrm>
                </p:grpSpPr>
                <p:grpSp>
                  <p:nvGrpSpPr>
                    <p:cNvPr id="999" name="Group 357"/>
                    <p:cNvGrpSpPr/>
                    <p:nvPr/>
                  </p:nvGrpSpPr>
                  <p:grpSpPr>
                    <a:xfrm>
                      <a:off x="3676680" y="6219720"/>
                      <a:ext cx="228240" cy="561600"/>
                      <a:chOff x="3676680" y="6219720"/>
                      <a:chExt cx="228240" cy="561600"/>
                    </a:xfrm>
                  </p:grpSpPr>
                  <p:sp>
                    <p:nvSpPr>
                      <p:cNvPr id="1000" name="Rectangle 358"/>
                      <p:cNvSpPr/>
                      <p:nvPr/>
                    </p:nvSpPr>
                    <p:spPr>
                      <a:xfrm>
                        <a:off x="3676680" y="6219720"/>
                        <a:ext cx="228240" cy="148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001" name="Rectangle 359"/>
                      <p:cNvSpPr/>
                      <p:nvPr/>
                    </p:nvSpPr>
                    <p:spPr>
                      <a:xfrm>
                        <a:off x="3676680" y="6323400"/>
                        <a:ext cx="228240" cy="45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002" name="Rectangle 360"/>
                    <p:cNvSpPr/>
                    <p:nvPr/>
                  </p:nvSpPr>
                  <p:spPr>
                    <a:xfrm>
                      <a:off x="3622680" y="6219720"/>
                      <a:ext cx="336600" cy="339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03" name="Group 361"/>
                  <p:cNvGrpSpPr/>
                  <p:nvPr/>
                </p:nvGrpSpPr>
                <p:grpSpPr>
                  <a:xfrm>
                    <a:off x="582480" y="203040"/>
                    <a:ext cx="336600" cy="312840"/>
                    <a:chOff x="582480" y="203040"/>
                    <a:chExt cx="336600" cy="312840"/>
                  </a:xfrm>
                </p:grpSpPr>
                <p:sp>
                  <p:nvSpPr>
                    <p:cNvPr id="1004" name="Rectangle 362"/>
                    <p:cNvSpPr/>
                    <p:nvPr/>
                  </p:nvSpPr>
                  <p:spPr>
                    <a:xfrm>
                      <a:off x="636120" y="20304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05" name="Rectangle 363"/>
                    <p:cNvSpPr/>
                    <p:nvPr/>
                  </p:nvSpPr>
                  <p:spPr>
                    <a:xfrm>
                      <a:off x="582480" y="20304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06" name="Group 364"/>
                  <p:cNvGrpSpPr/>
                  <p:nvPr/>
                </p:nvGrpSpPr>
                <p:grpSpPr>
                  <a:xfrm>
                    <a:off x="919080" y="203040"/>
                    <a:ext cx="339840" cy="312840"/>
                    <a:chOff x="919080" y="203040"/>
                    <a:chExt cx="339840" cy="312840"/>
                  </a:xfrm>
                </p:grpSpPr>
                <p:sp>
                  <p:nvSpPr>
                    <p:cNvPr id="1007" name="Rectangle 365"/>
                    <p:cNvSpPr/>
                    <p:nvPr/>
                  </p:nvSpPr>
                  <p:spPr>
                    <a:xfrm>
                      <a:off x="973440" y="203040"/>
                      <a:ext cx="23076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08" name="Rectangle 366"/>
                    <p:cNvSpPr/>
                    <p:nvPr/>
                  </p:nvSpPr>
                  <p:spPr>
                    <a:xfrm>
                      <a:off x="919080" y="203040"/>
                      <a:ext cx="3398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09" name="Group 367"/>
                  <p:cNvGrpSpPr/>
                  <p:nvPr/>
                </p:nvGrpSpPr>
                <p:grpSpPr>
                  <a:xfrm>
                    <a:off x="1258920" y="203040"/>
                    <a:ext cx="336600" cy="312840"/>
                    <a:chOff x="1258920" y="203040"/>
                    <a:chExt cx="336600" cy="312840"/>
                  </a:xfrm>
                </p:grpSpPr>
                <p:sp>
                  <p:nvSpPr>
                    <p:cNvPr id="1010" name="Rectangle 368"/>
                    <p:cNvSpPr/>
                    <p:nvPr/>
                  </p:nvSpPr>
                  <p:spPr>
                    <a:xfrm>
                      <a:off x="1312920" y="20304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11" name="Rectangle 369"/>
                    <p:cNvSpPr/>
                    <p:nvPr/>
                  </p:nvSpPr>
                  <p:spPr>
                    <a:xfrm>
                      <a:off x="1258920" y="20304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12" name="Group 370"/>
                  <p:cNvGrpSpPr/>
                  <p:nvPr/>
                </p:nvGrpSpPr>
                <p:grpSpPr>
                  <a:xfrm>
                    <a:off x="1595520" y="203040"/>
                    <a:ext cx="338040" cy="312840"/>
                    <a:chOff x="1595520" y="203040"/>
                    <a:chExt cx="338040" cy="312840"/>
                  </a:xfrm>
                </p:grpSpPr>
                <p:sp>
                  <p:nvSpPr>
                    <p:cNvPr id="1013" name="Rectangle 371"/>
                    <p:cNvSpPr/>
                    <p:nvPr/>
                  </p:nvSpPr>
                  <p:spPr>
                    <a:xfrm>
                      <a:off x="1649520" y="203040"/>
                      <a:ext cx="22932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14" name="Rectangle 372"/>
                    <p:cNvSpPr/>
                    <p:nvPr/>
                  </p:nvSpPr>
                  <p:spPr>
                    <a:xfrm>
                      <a:off x="1595520" y="203040"/>
                      <a:ext cx="3380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15" name="Group 373"/>
                  <p:cNvGrpSpPr/>
                  <p:nvPr/>
                </p:nvGrpSpPr>
                <p:grpSpPr>
                  <a:xfrm>
                    <a:off x="1933560" y="203040"/>
                    <a:ext cx="336600" cy="312840"/>
                    <a:chOff x="1933560" y="203040"/>
                    <a:chExt cx="336600" cy="312840"/>
                  </a:xfrm>
                </p:grpSpPr>
                <p:sp>
                  <p:nvSpPr>
                    <p:cNvPr id="1016" name="Rectangle 374"/>
                    <p:cNvSpPr/>
                    <p:nvPr/>
                  </p:nvSpPr>
                  <p:spPr>
                    <a:xfrm>
                      <a:off x="1987560" y="203040"/>
                      <a:ext cx="22824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17" name="Rectangle 375"/>
                    <p:cNvSpPr/>
                    <p:nvPr/>
                  </p:nvSpPr>
                  <p:spPr>
                    <a:xfrm>
                      <a:off x="1933560" y="20304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18" name="Group 376"/>
                  <p:cNvGrpSpPr/>
                  <p:nvPr/>
                </p:nvGrpSpPr>
                <p:grpSpPr>
                  <a:xfrm>
                    <a:off x="2270160" y="203040"/>
                    <a:ext cx="338040" cy="312840"/>
                    <a:chOff x="2270160" y="203040"/>
                    <a:chExt cx="338040" cy="312840"/>
                  </a:xfrm>
                </p:grpSpPr>
                <p:sp>
                  <p:nvSpPr>
                    <p:cNvPr id="1019" name="Rectangle 377"/>
                    <p:cNvSpPr/>
                    <p:nvPr/>
                  </p:nvSpPr>
                  <p:spPr>
                    <a:xfrm>
                      <a:off x="2324160" y="203040"/>
                      <a:ext cx="22968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20" name="Rectangle 378"/>
                    <p:cNvSpPr/>
                    <p:nvPr/>
                  </p:nvSpPr>
                  <p:spPr>
                    <a:xfrm>
                      <a:off x="2270160" y="203040"/>
                      <a:ext cx="3380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21" name="Group 379"/>
                  <p:cNvGrpSpPr/>
                  <p:nvPr/>
                </p:nvGrpSpPr>
                <p:grpSpPr>
                  <a:xfrm>
                    <a:off x="2608200" y="203040"/>
                    <a:ext cx="336600" cy="312840"/>
                    <a:chOff x="2608200" y="203040"/>
                    <a:chExt cx="336600" cy="312840"/>
                  </a:xfrm>
                </p:grpSpPr>
                <p:sp>
                  <p:nvSpPr>
                    <p:cNvPr id="1022" name="Rectangle 380"/>
                    <p:cNvSpPr/>
                    <p:nvPr/>
                  </p:nvSpPr>
                  <p:spPr>
                    <a:xfrm>
                      <a:off x="2661840" y="20304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23" name="Rectangle 381"/>
                    <p:cNvSpPr/>
                    <p:nvPr/>
                  </p:nvSpPr>
                  <p:spPr>
                    <a:xfrm>
                      <a:off x="2608200" y="20304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24" name="Group 382"/>
                  <p:cNvGrpSpPr/>
                  <p:nvPr/>
                </p:nvGrpSpPr>
                <p:grpSpPr>
                  <a:xfrm>
                    <a:off x="2944800" y="203040"/>
                    <a:ext cx="339480" cy="312840"/>
                    <a:chOff x="2944800" y="203040"/>
                    <a:chExt cx="339480" cy="312840"/>
                  </a:xfrm>
                </p:grpSpPr>
                <p:sp>
                  <p:nvSpPr>
                    <p:cNvPr id="1025" name="Rectangle 383"/>
                    <p:cNvSpPr/>
                    <p:nvPr/>
                  </p:nvSpPr>
                  <p:spPr>
                    <a:xfrm>
                      <a:off x="2999160" y="203040"/>
                      <a:ext cx="2304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26" name="Rectangle 384"/>
                    <p:cNvSpPr/>
                    <p:nvPr/>
                  </p:nvSpPr>
                  <p:spPr>
                    <a:xfrm>
                      <a:off x="2944800" y="203040"/>
                      <a:ext cx="33948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27" name="Group 385"/>
                  <p:cNvGrpSpPr/>
                  <p:nvPr/>
                </p:nvGrpSpPr>
                <p:grpSpPr>
                  <a:xfrm>
                    <a:off x="3284280" y="203040"/>
                    <a:ext cx="338400" cy="312840"/>
                    <a:chOff x="3284280" y="203040"/>
                    <a:chExt cx="338400" cy="312840"/>
                  </a:xfrm>
                </p:grpSpPr>
                <p:sp>
                  <p:nvSpPr>
                    <p:cNvPr id="1028" name="Rectangle 386"/>
                    <p:cNvSpPr/>
                    <p:nvPr/>
                  </p:nvSpPr>
                  <p:spPr>
                    <a:xfrm>
                      <a:off x="3338640" y="203040"/>
                      <a:ext cx="22932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29" name="Rectangle 387"/>
                    <p:cNvSpPr/>
                    <p:nvPr/>
                  </p:nvSpPr>
                  <p:spPr>
                    <a:xfrm>
                      <a:off x="3284280" y="203040"/>
                      <a:ext cx="3384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30" name="Group 388"/>
                  <p:cNvGrpSpPr/>
                  <p:nvPr/>
                </p:nvGrpSpPr>
                <p:grpSpPr>
                  <a:xfrm>
                    <a:off x="3622680" y="203040"/>
                    <a:ext cx="336600" cy="312840"/>
                    <a:chOff x="3622680" y="203040"/>
                    <a:chExt cx="336600" cy="312840"/>
                  </a:xfrm>
                </p:grpSpPr>
                <p:sp>
                  <p:nvSpPr>
                    <p:cNvPr id="1031" name="Rectangle 389"/>
                    <p:cNvSpPr/>
                    <p:nvPr/>
                  </p:nvSpPr>
                  <p:spPr>
                    <a:xfrm>
                      <a:off x="3676680" y="203040"/>
                      <a:ext cx="22824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32" name="Rectangle 390"/>
                    <p:cNvSpPr/>
                    <p:nvPr/>
                  </p:nvSpPr>
                  <p:spPr>
                    <a:xfrm>
                      <a:off x="3622680" y="20304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33" name="Group 391"/>
                  <p:cNvGrpSpPr/>
                  <p:nvPr/>
                </p:nvGrpSpPr>
                <p:grpSpPr>
                  <a:xfrm>
                    <a:off x="582480" y="515880"/>
                    <a:ext cx="336600" cy="314280"/>
                    <a:chOff x="582480" y="515880"/>
                    <a:chExt cx="336600" cy="314280"/>
                  </a:xfrm>
                </p:grpSpPr>
                <p:sp>
                  <p:nvSpPr>
                    <p:cNvPr id="1034" name="Rectangle 392"/>
                    <p:cNvSpPr/>
                    <p:nvPr/>
                  </p:nvSpPr>
                  <p:spPr>
                    <a:xfrm>
                      <a:off x="636120" y="5158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35" name="Rectangle 393"/>
                    <p:cNvSpPr/>
                    <p:nvPr/>
                  </p:nvSpPr>
                  <p:spPr>
                    <a:xfrm>
                      <a:off x="582480" y="5158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36" name="Group 394"/>
                  <p:cNvGrpSpPr/>
                  <p:nvPr/>
                </p:nvGrpSpPr>
                <p:grpSpPr>
                  <a:xfrm>
                    <a:off x="919080" y="515880"/>
                    <a:ext cx="339840" cy="314280"/>
                    <a:chOff x="919080" y="515880"/>
                    <a:chExt cx="339840" cy="314280"/>
                  </a:xfrm>
                </p:grpSpPr>
                <p:sp>
                  <p:nvSpPr>
                    <p:cNvPr id="1037" name="Rectangle 395"/>
                    <p:cNvSpPr/>
                    <p:nvPr/>
                  </p:nvSpPr>
                  <p:spPr>
                    <a:xfrm>
                      <a:off x="973440" y="515880"/>
                      <a:ext cx="23076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38" name="Rectangle 396"/>
                    <p:cNvSpPr/>
                    <p:nvPr/>
                  </p:nvSpPr>
                  <p:spPr>
                    <a:xfrm>
                      <a:off x="919080" y="515880"/>
                      <a:ext cx="3398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39" name="Group 397"/>
                  <p:cNvGrpSpPr/>
                  <p:nvPr/>
                </p:nvGrpSpPr>
                <p:grpSpPr>
                  <a:xfrm>
                    <a:off x="1258920" y="515880"/>
                    <a:ext cx="336600" cy="314280"/>
                    <a:chOff x="1258920" y="515880"/>
                    <a:chExt cx="336600" cy="314280"/>
                  </a:xfrm>
                </p:grpSpPr>
                <p:sp>
                  <p:nvSpPr>
                    <p:cNvPr id="1040" name="Rectangle 398"/>
                    <p:cNvSpPr/>
                    <p:nvPr/>
                  </p:nvSpPr>
                  <p:spPr>
                    <a:xfrm>
                      <a:off x="1312920" y="5158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41" name="Rectangle 399"/>
                    <p:cNvSpPr/>
                    <p:nvPr/>
                  </p:nvSpPr>
                  <p:spPr>
                    <a:xfrm>
                      <a:off x="1258920" y="5158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42" name="Group 400"/>
                  <p:cNvGrpSpPr/>
                  <p:nvPr/>
                </p:nvGrpSpPr>
                <p:grpSpPr>
                  <a:xfrm>
                    <a:off x="1595520" y="515880"/>
                    <a:ext cx="338040" cy="314280"/>
                    <a:chOff x="1595520" y="515880"/>
                    <a:chExt cx="338040" cy="314280"/>
                  </a:xfrm>
                </p:grpSpPr>
                <p:sp>
                  <p:nvSpPr>
                    <p:cNvPr id="1043" name="Rectangle 401"/>
                    <p:cNvSpPr/>
                    <p:nvPr/>
                  </p:nvSpPr>
                  <p:spPr>
                    <a:xfrm>
                      <a:off x="1649520" y="51588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44" name="Rectangle 402"/>
                    <p:cNvSpPr/>
                    <p:nvPr/>
                  </p:nvSpPr>
                  <p:spPr>
                    <a:xfrm>
                      <a:off x="1595520" y="51588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45" name="Group 403"/>
                  <p:cNvGrpSpPr/>
                  <p:nvPr/>
                </p:nvGrpSpPr>
                <p:grpSpPr>
                  <a:xfrm>
                    <a:off x="1933560" y="515880"/>
                    <a:ext cx="336600" cy="314280"/>
                    <a:chOff x="1933560" y="515880"/>
                    <a:chExt cx="336600" cy="314280"/>
                  </a:xfrm>
                </p:grpSpPr>
                <p:sp>
                  <p:nvSpPr>
                    <p:cNvPr id="1046" name="Rectangle 404"/>
                    <p:cNvSpPr/>
                    <p:nvPr/>
                  </p:nvSpPr>
                  <p:spPr>
                    <a:xfrm>
                      <a:off x="1987560" y="51588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47" name="Rectangle 405"/>
                    <p:cNvSpPr/>
                    <p:nvPr/>
                  </p:nvSpPr>
                  <p:spPr>
                    <a:xfrm>
                      <a:off x="1933560" y="5158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48" name="Group 406"/>
                  <p:cNvGrpSpPr/>
                  <p:nvPr/>
                </p:nvGrpSpPr>
                <p:grpSpPr>
                  <a:xfrm>
                    <a:off x="2270160" y="515880"/>
                    <a:ext cx="338040" cy="314280"/>
                    <a:chOff x="2270160" y="515880"/>
                    <a:chExt cx="338040" cy="314280"/>
                  </a:xfrm>
                </p:grpSpPr>
                <p:sp>
                  <p:nvSpPr>
                    <p:cNvPr id="1049" name="Rectangle 407"/>
                    <p:cNvSpPr/>
                    <p:nvPr/>
                  </p:nvSpPr>
                  <p:spPr>
                    <a:xfrm>
                      <a:off x="2324160" y="515880"/>
                      <a:ext cx="22968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50" name="Rectangle 408"/>
                    <p:cNvSpPr/>
                    <p:nvPr/>
                  </p:nvSpPr>
                  <p:spPr>
                    <a:xfrm>
                      <a:off x="2270160" y="51588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51" name="Group 409"/>
                  <p:cNvGrpSpPr/>
                  <p:nvPr/>
                </p:nvGrpSpPr>
                <p:grpSpPr>
                  <a:xfrm>
                    <a:off x="2608200" y="515880"/>
                    <a:ext cx="336600" cy="314280"/>
                    <a:chOff x="2608200" y="515880"/>
                    <a:chExt cx="336600" cy="314280"/>
                  </a:xfrm>
                </p:grpSpPr>
                <p:sp>
                  <p:nvSpPr>
                    <p:cNvPr id="1052" name="Rectangle 410"/>
                    <p:cNvSpPr/>
                    <p:nvPr/>
                  </p:nvSpPr>
                  <p:spPr>
                    <a:xfrm>
                      <a:off x="2661840" y="5158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53" name="Rectangle 411"/>
                    <p:cNvSpPr/>
                    <p:nvPr/>
                  </p:nvSpPr>
                  <p:spPr>
                    <a:xfrm>
                      <a:off x="2608200" y="5158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54" name="Group 412"/>
                  <p:cNvGrpSpPr/>
                  <p:nvPr/>
                </p:nvGrpSpPr>
                <p:grpSpPr>
                  <a:xfrm>
                    <a:off x="2944800" y="515880"/>
                    <a:ext cx="339480" cy="314280"/>
                    <a:chOff x="2944800" y="515880"/>
                    <a:chExt cx="339480" cy="314280"/>
                  </a:xfrm>
                </p:grpSpPr>
                <p:sp>
                  <p:nvSpPr>
                    <p:cNvPr id="1055" name="Rectangle 413"/>
                    <p:cNvSpPr/>
                    <p:nvPr/>
                  </p:nvSpPr>
                  <p:spPr>
                    <a:xfrm>
                      <a:off x="2999160" y="515880"/>
                      <a:ext cx="2304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56" name="Rectangle 414"/>
                    <p:cNvSpPr/>
                    <p:nvPr/>
                  </p:nvSpPr>
                  <p:spPr>
                    <a:xfrm>
                      <a:off x="2944800" y="515880"/>
                      <a:ext cx="33948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57" name="Group 415"/>
                  <p:cNvGrpSpPr/>
                  <p:nvPr/>
                </p:nvGrpSpPr>
                <p:grpSpPr>
                  <a:xfrm>
                    <a:off x="3284280" y="515880"/>
                    <a:ext cx="338400" cy="314280"/>
                    <a:chOff x="3284280" y="515880"/>
                    <a:chExt cx="338400" cy="314280"/>
                  </a:xfrm>
                </p:grpSpPr>
                <p:sp>
                  <p:nvSpPr>
                    <p:cNvPr id="1058" name="Rectangle 416"/>
                    <p:cNvSpPr/>
                    <p:nvPr/>
                  </p:nvSpPr>
                  <p:spPr>
                    <a:xfrm>
                      <a:off x="3338640" y="51588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59" name="Rectangle 417"/>
                    <p:cNvSpPr/>
                    <p:nvPr/>
                  </p:nvSpPr>
                  <p:spPr>
                    <a:xfrm>
                      <a:off x="3284280" y="515880"/>
                      <a:ext cx="3384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60" name="Group 418"/>
                  <p:cNvGrpSpPr/>
                  <p:nvPr/>
                </p:nvGrpSpPr>
                <p:grpSpPr>
                  <a:xfrm>
                    <a:off x="3622680" y="515880"/>
                    <a:ext cx="336600" cy="314280"/>
                    <a:chOff x="3622680" y="515880"/>
                    <a:chExt cx="336600" cy="314280"/>
                  </a:xfrm>
                </p:grpSpPr>
                <p:sp>
                  <p:nvSpPr>
                    <p:cNvPr id="1061" name="Rectangle 419"/>
                    <p:cNvSpPr/>
                    <p:nvPr/>
                  </p:nvSpPr>
                  <p:spPr>
                    <a:xfrm>
                      <a:off x="3676680" y="51588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62" name="Rectangle 420"/>
                    <p:cNvSpPr/>
                    <p:nvPr/>
                  </p:nvSpPr>
                  <p:spPr>
                    <a:xfrm>
                      <a:off x="3622680" y="5158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63" name="Group 421"/>
                  <p:cNvGrpSpPr/>
                  <p:nvPr/>
                </p:nvGrpSpPr>
                <p:grpSpPr>
                  <a:xfrm>
                    <a:off x="582480" y="830160"/>
                    <a:ext cx="336600" cy="312840"/>
                    <a:chOff x="582480" y="830160"/>
                    <a:chExt cx="336600" cy="312840"/>
                  </a:xfrm>
                </p:grpSpPr>
                <p:sp>
                  <p:nvSpPr>
                    <p:cNvPr id="1064" name="Rectangle 422"/>
                    <p:cNvSpPr/>
                    <p:nvPr/>
                  </p:nvSpPr>
                  <p:spPr>
                    <a:xfrm>
                      <a:off x="636120" y="83016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65" name="Rectangle 423"/>
                    <p:cNvSpPr/>
                    <p:nvPr/>
                  </p:nvSpPr>
                  <p:spPr>
                    <a:xfrm>
                      <a:off x="582480" y="8301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66" name="Group 424"/>
                  <p:cNvGrpSpPr/>
                  <p:nvPr/>
                </p:nvGrpSpPr>
                <p:grpSpPr>
                  <a:xfrm>
                    <a:off x="919080" y="830160"/>
                    <a:ext cx="339840" cy="312840"/>
                    <a:chOff x="919080" y="830160"/>
                    <a:chExt cx="339840" cy="312840"/>
                  </a:xfrm>
                </p:grpSpPr>
                <p:sp>
                  <p:nvSpPr>
                    <p:cNvPr id="1067" name="Rectangle 425"/>
                    <p:cNvSpPr/>
                    <p:nvPr/>
                  </p:nvSpPr>
                  <p:spPr>
                    <a:xfrm>
                      <a:off x="973440" y="830160"/>
                      <a:ext cx="23076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68" name="Rectangle 426"/>
                    <p:cNvSpPr/>
                    <p:nvPr/>
                  </p:nvSpPr>
                  <p:spPr>
                    <a:xfrm>
                      <a:off x="919080" y="830160"/>
                      <a:ext cx="3398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69" name="Group 427"/>
                  <p:cNvGrpSpPr/>
                  <p:nvPr/>
                </p:nvGrpSpPr>
                <p:grpSpPr>
                  <a:xfrm>
                    <a:off x="1258920" y="830160"/>
                    <a:ext cx="336600" cy="312840"/>
                    <a:chOff x="1258920" y="830160"/>
                    <a:chExt cx="336600" cy="312840"/>
                  </a:xfrm>
                </p:grpSpPr>
                <p:sp>
                  <p:nvSpPr>
                    <p:cNvPr id="1070" name="Rectangle 428"/>
                    <p:cNvSpPr/>
                    <p:nvPr/>
                  </p:nvSpPr>
                  <p:spPr>
                    <a:xfrm>
                      <a:off x="1312920" y="83016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71" name="Rectangle 429"/>
                    <p:cNvSpPr/>
                    <p:nvPr/>
                  </p:nvSpPr>
                  <p:spPr>
                    <a:xfrm>
                      <a:off x="1258920" y="8301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72" name="Group 430"/>
                  <p:cNvGrpSpPr/>
                  <p:nvPr/>
                </p:nvGrpSpPr>
                <p:grpSpPr>
                  <a:xfrm>
                    <a:off x="1595520" y="830160"/>
                    <a:ext cx="338040" cy="312840"/>
                    <a:chOff x="1595520" y="830160"/>
                    <a:chExt cx="338040" cy="312840"/>
                  </a:xfrm>
                </p:grpSpPr>
                <p:sp>
                  <p:nvSpPr>
                    <p:cNvPr id="1073" name="Rectangle 431"/>
                    <p:cNvSpPr/>
                    <p:nvPr/>
                  </p:nvSpPr>
                  <p:spPr>
                    <a:xfrm>
                      <a:off x="1649520" y="830160"/>
                      <a:ext cx="22932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74" name="Rectangle 432"/>
                    <p:cNvSpPr/>
                    <p:nvPr/>
                  </p:nvSpPr>
                  <p:spPr>
                    <a:xfrm>
                      <a:off x="1595520" y="830160"/>
                      <a:ext cx="3380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75" name="Group 433"/>
                  <p:cNvGrpSpPr/>
                  <p:nvPr/>
                </p:nvGrpSpPr>
                <p:grpSpPr>
                  <a:xfrm>
                    <a:off x="1933560" y="830160"/>
                    <a:ext cx="336600" cy="312840"/>
                    <a:chOff x="1933560" y="830160"/>
                    <a:chExt cx="336600" cy="312840"/>
                  </a:xfrm>
                </p:grpSpPr>
                <p:sp>
                  <p:nvSpPr>
                    <p:cNvPr id="1076" name="Rectangle 434"/>
                    <p:cNvSpPr/>
                    <p:nvPr/>
                  </p:nvSpPr>
                  <p:spPr>
                    <a:xfrm>
                      <a:off x="1987560" y="830160"/>
                      <a:ext cx="22824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77" name="Rectangle 435"/>
                    <p:cNvSpPr/>
                    <p:nvPr/>
                  </p:nvSpPr>
                  <p:spPr>
                    <a:xfrm>
                      <a:off x="1933560" y="8301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78" name="Group 436"/>
                  <p:cNvGrpSpPr/>
                  <p:nvPr/>
                </p:nvGrpSpPr>
                <p:grpSpPr>
                  <a:xfrm>
                    <a:off x="2270160" y="830160"/>
                    <a:ext cx="338040" cy="312840"/>
                    <a:chOff x="2270160" y="830160"/>
                    <a:chExt cx="338040" cy="312840"/>
                  </a:xfrm>
                </p:grpSpPr>
                <p:sp>
                  <p:nvSpPr>
                    <p:cNvPr id="1079" name="Rectangle 437"/>
                    <p:cNvSpPr/>
                    <p:nvPr/>
                  </p:nvSpPr>
                  <p:spPr>
                    <a:xfrm>
                      <a:off x="2324160" y="830160"/>
                      <a:ext cx="22968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80" name="Rectangle 438"/>
                    <p:cNvSpPr/>
                    <p:nvPr/>
                  </p:nvSpPr>
                  <p:spPr>
                    <a:xfrm>
                      <a:off x="2270160" y="830160"/>
                      <a:ext cx="3380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81" name="Group 439"/>
                  <p:cNvGrpSpPr/>
                  <p:nvPr/>
                </p:nvGrpSpPr>
                <p:grpSpPr>
                  <a:xfrm>
                    <a:off x="2608200" y="830160"/>
                    <a:ext cx="336600" cy="312840"/>
                    <a:chOff x="2608200" y="830160"/>
                    <a:chExt cx="336600" cy="312840"/>
                  </a:xfrm>
                </p:grpSpPr>
                <p:sp>
                  <p:nvSpPr>
                    <p:cNvPr id="1082" name="Rectangle 440"/>
                    <p:cNvSpPr/>
                    <p:nvPr/>
                  </p:nvSpPr>
                  <p:spPr>
                    <a:xfrm>
                      <a:off x="2661840" y="83016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83" name="Rectangle 441"/>
                    <p:cNvSpPr/>
                    <p:nvPr/>
                  </p:nvSpPr>
                  <p:spPr>
                    <a:xfrm>
                      <a:off x="2608200" y="8301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84" name="Group 442"/>
                  <p:cNvGrpSpPr/>
                  <p:nvPr/>
                </p:nvGrpSpPr>
                <p:grpSpPr>
                  <a:xfrm>
                    <a:off x="2944800" y="830160"/>
                    <a:ext cx="339480" cy="312840"/>
                    <a:chOff x="2944800" y="830160"/>
                    <a:chExt cx="339480" cy="312840"/>
                  </a:xfrm>
                </p:grpSpPr>
                <p:sp>
                  <p:nvSpPr>
                    <p:cNvPr id="1085" name="Rectangle 443"/>
                    <p:cNvSpPr/>
                    <p:nvPr/>
                  </p:nvSpPr>
                  <p:spPr>
                    <a:xfrm>
                      <a:off x="2999160" y="830160"/>
                      <a:ext cx="2304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86" name="Rectangle 444"/>
                    <p:cNvSpPr/>
                    <p:nvPr/>
                  </p:nvSpPr>
                  <p:spPr>
                    <a:xfrm>
                      <a:off x="2944800" y="830160"/>
                      <a:ext cx="33948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87" name="Group 445"/>
                  <p:cNvGrpSpPr/>
                  <p:nvPr/>
                </p:nvGrpSpPr>
                <p:grpSpPr>
                  <a:xfrm>
                    <a:off x="3284280" y="830160"/>
                    <a:ext cx="338400" cy="312840"/>
                    <a:chOff x="3284280" y="830160"/>
                    <a:chExt cx="338400" cy="312840"/>
                  </a:xfrm>
                </p:grpSpPr>
                <p:sp>
                  <p:nvSpPr>
                    <p:cNvPr id="1088" name="Rectangle 446"/>
                    <p:cNvSpPr/>
                    <p:nvPr/>
                  </p:nvSpPr>
                  <p:spPr>
                    <a:xfrm>
                      <a:off x="3338640" y="830160"/>
                      <a:ext cx="22932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89" name="Rectangle 447"/>
                    <p:cNvSpPr/>
                    <p:nvPr/>
                  </p:nvSpPr>
                  <p:spPr>
                    <a:xfrm>
                      <a:off x="3284280" y="830160"/>
                      <a:ext cx="3384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90" name="Group 448"/>
                  <p:cNvGrpSpPr/>
                  <p:nvPr/>
                </p:nvGrpSpPr>
                <p:grpSpPr>
                  <a:xfrm>
                    <a:off x="3622680" y="830160"/>
                    <a:ext cx="336600" cy="312840"/>
                    <a:chOff x="3622680" y="830160"/>
                    <a:chExt cx="336600" cy="312840"/>
                  </a:xfrm>
                </p:grpSpPr>
                <p:sp>
                  <p:nvSpPr>
                    <p:cNvPr id="1091" name="Rectangle 449"/>
                    <p:cNvSpPr/>
                    <p:nvPr/>
                  </p:nvSpPr>
                  <p:spPr>
                    <a:xfrm>
                      <a:off x="3676680" y="830160"/>
                      <a:ext cx="22824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92" name="Rectangle 450"/>
                    <p:cNvSpPr/>
                    <p:nvPr/>
                  </p:nvSpPr>
                  <p:spPr>
                    <a:xfrm>
                      <a:off x="3622680" y="8301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93" name="Group 451"/>
                  <p:cNvGrpSpPr/>
                  <p:nvPr/>
                </p:nvGrpSpPr>
                <p:grpSpPr>
                  <a:xfrm>
                    <a:off x="582480" y="1143000"/>
                    <a:ext cx="336600" cy="314280"/>
                    <a:chOff x="582480" y="1143000"/>
                    <a:chExt cx="336600" cy="314280"/>
                  </a:xfrm>
                </p:grpSpPr>
                <p:sp>
                  <p:nvSpPr>
                    <p:cNvPr id="1094" name="Rectangle 452"/>
                    <p:cNvSpPr/>
                    <p:nvPr/>
                  </p:nvSpPr>
                  <p:spPr>
                    <a:xfrm>
                      <a:off x="636120" y="114300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95" name="Rectangle 453"/>
                    <p:cNvSpPr/>
                    <p:nvPr/>
                  </p:nvSpPr>
                  <p:spPr>
                    <a:xfrm>
                      <a:off x="582480" y="11430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96" name="Group 454"/>
                  <p:cNvGrpSpPr/>
                  <p:nvPr/>
                </p:nvGrpSpPr>
                <p:grpSpPr>
                  <a:xfrm>
                    <a:off x="919080" y="1143000"/>
                    <a:ext cx="339840" cy="314280"/>
                    <a:chOff x="919080" y="1143000"/>
                    <a:chExt cx="339840" cy="314280"/>
                  </a:xfrm>
                </p:grpSpPr>
                <p:sp>
                  <p:nvSpPr>
                    <p:cNvPr id="1097" name="Rectangle 455"/>
                    <p:cNvSpPr/>
                    <p:nvPr/>
                  </p:nvSpPr>
                  <p:spPr>
                    <a:xfrm>
                      <a:off x="973440" y="1143000"/>
                      <a:ext cx="23076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98" name="Rectangle 456"/>
                    <p:cNvSpPr/>
                    <p:nvPr/>
                  </p:nvSpPr>
                  <p:spPr>
                    <a:xfrm>
                      <a:off x="919080" y="1143000"/>
                      <a:ext cx="3398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99" name="Group 457"/>
                  <p:cNvGrpSpPr/>
                  <p:nvPr/>
                </p:nvGrpSpPr>
                <p:grpSpPr>
                  <a:xfrm>
                    <a:off x="1258920" y="1143000"/>
                    <a:ext cx="336600" cy="314280"/>
                    <a:chOff x="1258920" y="1143000"/>
                    <a:chExt cx="336600" cy="314280"/>
                  </a:xfrm>
                </p:grpSpPr>
                <p:sp>
                  <p:nvSpPr>
                    <p:cNvPr id="1100" name="Rectangle 458"/>
                    <p:cNvSpPr/>
                    <p:nvPr/>
                  </p:nvSpPr>
                  <p:spPr>
                    <a:xfrm>
                      <a:off x="1312920" y="114300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01" name="Rectangle 459"/>
                    <p:cNvSpPr/>
                    <p:nvPr/>
                  </p:nvSpPr>
                  <p:spPr>
                    <a:xfrm>
                      <a:off x="1258920" y="11430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02" name="Group 460"/>
                  <p:cNvGrpSpPr/>
                  <p:nvPr/>
                </p:nvGrpSpPr>
                <p:grpSpPr>
                  <a:xfrm>
                    <a:off x="1595520" y="1143000"/>
                    <a:ext cx="338040" cy="314280"/>
                    <a:chOff x="1595520" y="1143000"/>
                    <a:chExt cx="338040" cy="314280"/>
                  </a:xfrm>
                </p:grpSpPr>
                <p:sp>
                  <p:nvSpPr>
                    <p:cNvPr id="1103" name="Rectangle 461"/>
                    <p:cNvSpPr/>
                    <p:nvPr/>
                  </p:nvSpPr>
                  <p:spPr>
                    <a:xfrm>
                      <a:off x="1649520" y="114300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04" name="Rectangle 462"/>
                    <p:cNvSpPr/>
                    <p:nvPr/>
                  </p:nvSpPr>
                  <p:spPr>
                    <a:xfrm>
                      <a:off x="1595520" y="114300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05" name="Group 463"/>
                  <p:cNvGrpSpPr/>
                  <p:nvPr/>
                </p:nvGrpSpPr>
                <p:grpSpPr>
                  <a:xfrm>
                    <a:off x="1933560" y="1143000"/>
                    <a:ext cx="336600" cy="314280"/>
                    <a:chOff x="1933560" y="1143000"/>
                    <a:chExt cx="336600" cy="314280"/>
                  </a:xfrm>
                </p:grpSpPr>
                <p:sp>
                  <p:nvSpPr>
                    <p:cNvPr id="1106" name="Rectangle 464"/>
                    <p:cNvSpPr/>
                    <p:nvPr/>
                  </p:nvSpPr>
                  <p:spPr>
                    <a:xfrm>
                      <a:off x="1987560" y="114300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07" name="Rectangle 465"/>
                    <p:cNvSpPr/>
                    <p:nvPr/>
                  </p:nvSpPr>
                  <p:spPr>
                    <a:xfrm>
                      <a:off x="1933560" y="11430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08" name="Group 466"/>
                  <p:cNvGrpSpPr/>
                  <p:nvPr/>
                </p:nvGrpSpPr>
                <p:grpSpPr>
                  <a:xfrm>
                    <a:off x="2270160" y="1143000"/>
                    <a:ext cx="338040" cy="314280"/>
                    <a:chOff x="2270160" y="1143000"/>
                    <a:chExt cx="338040" cy="314280"/>
                  </a:xfrm>
                </p:grpSpPr>
                <p:sp>
                  <p:nvSpPr>
                    <p:cNvPr id="1109" name="Rectangle 467"/>
                    <p:cNvSpPr/>
                    <p:nvPr/>
                  </p:nvSpPr>
                  <p:spPr>
                    <a:xfrm>
                      <a:off x="2324160" y="1143000"/>
                      <a:ext cx="22968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10" name="Rectangle 468"/>
                    <p:cNvSpPr/>
                    <p:nvPr/>
                  </p:nvSpPr>
                  <p:spPr>
                    <a:xfrm>
                      <a:off x="2270160" y="114300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11" name="Group 469"/>
                  <p:cNvGrpSpPr/>
                  <p:nvPr/>
                </p:nvGrpSpPr>
                <p:grpSpPr>
                  <a:xfrm>
                    <a:off x="2608200" y="1143000"/>
                    <a:ext cx="336600" cy="314280"/>
                    <a:chOff x="2608200" y="1143000"/>
                    <a:chExt cx="336600" cy="314280"/>
                  </a:xfrm>
                </p:grpSpPr>
                <p:sp>
                  <p:nvSpPr>
                    <p:cNvPr id="1112" name="Rectangle 470"/>
                    <p:cNvSpPr/>
                    <p:nvPr/>
                  </p:nvSpPr>
                  <p:spPr>
                    <a:xfrm>
                      <a:off x="2661840" y="114300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13" name="Rectangle 471"/>
                    <p:cNvSpPr/>
                    <p:nvPr/>
                  </p:nvSpPr>
                  <p:spPr>
                    <a:xfrm>
                      <a:off x="2608200" y="11430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14" name="Group 472"/>
                  <p:cNvGrpSpPr/>
                  <p:nvPr/>
                </p:nvGrpSpPr>
                <p:grpSpPr>
                  <a:xfrm>
                    <a:off x="2944800" y="1143000"/>
                    <a:ext cx="339480" cy="314280"/>
                    <a:chOff x="2944800" y="1143000"/>
                    <a:chExt cx="339480" cy="314280"/>
                  </a:xfrm>
                </p:grpSpPr>
                <p:sp>
                  <p:nvSpPr>
                    <p:cNvPr id="1115" name="Rectangle 473"/>
                    <p:cNvSpPr/>
                    <p:nvPr/>
                  </p:nvSpPr>
                  <p:spPr>
                    <a:xfrm>
                      <a:off x="2999160" y="1143000"/>
                      <a:ext cx="2304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16" name="Rectangle 474"/>
                    <p:cNvSpPr/>
                    <p:nvPr/>
                  </p:nvSpPr>
                  <p:spPr>
                    <a:xfrm>
                      <a:off x="2944800" y="1143000"/>
                      <a:ext cx="33948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17" name="Group 475"/>
                  <p:cNvGrpSpPr/>
                  <p:nvPr/>
                </p:nvGrpSpPr>
                <p:grpSpPr>
                  <a:xfrm>
                    <a:off x="3284280" y="1143000"/>
                    <a:ext cx="338400" cy="314280"/>
                    <a:chOff x="3284280" y="1143000"/>
                    <a:chExt cx="338400" cy="314280"/>
                  </a:xfrm>
                </p:grpSpPr>
                <p:sp>
                  <p:nvSpPr>
                    <p:cNvPr id="1118" name="Rectangle 476"/>
                    <p:cNvSpPr/>
                    <p:nvPr/>
                  </p:nvSpPr>
                  <p:spPr>
                    <a:xfrm>
                      <a:off x="3338640" y="114300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19" name="Rectangle 477"/>
                    <p:cNvSpPr/>
                    <p:nvPr/>
                  </p:nvSpPr>
                  <p:spPr>
                    <a:xfrm>
                      <a:off x="3284280" y="1143000"/>
                      <a:ext cx="3384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20" name="Group 478"/>
                  <p:cNvGrpSpPr/>
                  <p:nvPr/>
                </p:nvGrpSpPr>
                <p:grpSpPr>
                  <a:xfrm>
                    <a:off x="3622680" y="1143000"/>
                    <a:ext cx="336600" cy="314280"/>
                    <a:chOff x="3622680" y="1143000"/>
                    <a:chExt cx="336600" cy="314280"/>
                  </a:xfrm>
                </p:grpSpPr>
                <p:sp>
                  <p:nvSpPr>
                    <p:cNvPr id="1121" name="Rectangle 479"/>
                    <p:cNvSpPr/>
                    <p:nvPr/>
                  </p:nvSpPr>
                  <p:spPr>
                    <a:xfrm>
                      <a:off x="3676680" y="114300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22" name="Rectangle 480"/>
                    <p:cNvSpPr/>
                    <p:nvPr/>
                  </p:nvSpPr>
                  <p:spPr>
                    <a:xfrm>
                      <a:off x="3622680" y="11430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23" name="Group 481"/>
                  <p:cNvGrpSpPr/>
                  <p:nvPr/>
                </p:nvGrpSpPr>
                <p:grpSpPr>
                  <a:xfrm>
                    <a:off x="582480" y="1457280"/>
                    <a:ext cx="336600" cy="314280"/>
                    <a:chOff x="582480" y="1457280"/>
                    <a:chExt cx="336600" cy="314280"/>
                  </a:xfrm>
                </p:grpSpPr>
                <p:sp>
                  <p:nvSpPr>
                    <p:cNvPr id="1124" name="Rectangle 482"/>
                    <p:cNvSpPr/>
                    <p:nvPr/>
                  </p:nvSpPr>
                  <p:spPr>
                    <a:xfrm>
                      <a:off x="636120" y="14572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25" name="Rectangle 483"/>
                    <p:cNvSpPr/>
                    <p:nvPr/>
                  </p:nvSpPr>
                  <p:spPr>
                    <a:xfrm>
                      <a:off x="582480" y="14572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26" name="Group 484"/>
                  <p:cNvGrpSpPr/>
                  <p:nvPr/>
                </p:nvGrpSpPr>
                <p:grpSpPr>
                  <a:xfrm>
                    <a:off x="919080" y="1457280"/>
                    <a:ext cx="339840" cy="314280"/>
                    <a:chOff x="919080" y="1457280"/>
                    <a:chExt cx="339840" cy="314280"/>
                  </a:xfrm>
                </p:grpSpPr>
                <p:sp>
                  <p:nvSpPr>
                    <p:cNvPr id="1127" name="Rectangle 485"/>
                    <p:cNvSpPr/>
                    <p:nvPr/>
                  </p:nvSpPr>
                  <p:spPr>
                    <a:xfrm>
                      <a:off x="973440" y="1457280"/>
                      <a:ext cx="23076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28" name="Rectangle 486"/>
                    <p:cNvSpPr/>
                    <p:nvPr/>
                  </p:nvSpPr>
                  <p:spPr>
                    <a:xfrm>
                      <a:off x="919080" y="1457280"/>
                      <a:ext cx="3398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29" name="Group 487"/>
                  <p:cNvGrpSpPr/>
                  <p:nvPr/>
                </p:nvGrpSpPr>
                <p:grpSpPr>
                  <a:xfrm>
                    <a:off x="1258920" y="1457280"/>
                    <a:ext cx="336600" cy="314280"/>
                    <a:chOff x="1258920" y="1457280"/>
                    <a:chExt cx="336600" cy="314280"/>
                  </a:xfrm>
                </p:grpSpPr>
                <p:sp>
                  <p:nvSpPr>
                    <p:cNvPr id="1130" name="Rectangle 488"/>
                    <p:cNvSpPr/>
                    <p:nvPr/>
                  </p:nvSpPr>
                  <p:spPr>
                    <a:xfrm>
                      <a:off x="1312920" y="14572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31" name="Rectangle 489"/>
                    <p:cNvSpPr/>
                    <p:nvPr/>
                  </p:nvSpPr>
                  <p:spPr>
                    <a:xfrm>
                      <a:off x="1258920" y="14572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32" name="Group 490"/>
                  <p:cNvGrpSpPr/>
                  <p:nvPr/>
                </p:nvGrpSpPr>
                <p:grpSpPr>
                  <a:xfrm>
                    <a:off x="1595520" y="1457280"/>
                    <a:ext cx="338040" cy="314280"/>
                    <a:chOff x="1595520" y="1457280"/>
                    <a:chExt cx="338040" cy="314280"/>
                  </a:xfrm>
                </p:grpSpPr>
                <p:sp>
                  <p:nvSpPr>
                    <p:cNvPr id="1133" name="Rectangle 491"/>
                    <p:cNvSpPr/>
                    <p:nvPr/>
                  </p:nvSpPr>
                  <p:spPr>
                    <a:xfrm>
                      <a:off x="1649520" y="145728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34" name="Rectangle 492"/>
                    <p:cNvSpPr/>
                    <p:nvPr/>
                  </p:nvSpPr>
                  <p:spPr>
                    <a:xfrm>
                      <a:off x="1595520" y="145728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35" name="Group 493"/>
                  <p:cNvGrpSpPr/>
                  <p:nvPr/>
                </p:nvGrpSpPr>
                <p:grpSpPr>
                  <a:xfrm>
                    <a:off x="1933560" y="1457280"/>
                    <a:ext cx="336600" cy="314280"/>
                    <a:chOff x="1933560" y="1457280"/>
                    <a:chExt cx="336600" cy="314280"/>
                  </a:xfrm>
                </p:grpSpPr>
                <p:sp>
                  <p:nvSpPr>
                    <p:cNvPr id="1136" name="Rectangle 494"/>
                    <p:cNvSpPr/>
                    <p:nvPr/>
                  </p:nvSpPr>
                  <p:spPr>
                    <a:xfrm>
                      <a:off x="1987560" y="145728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37" name="Rectangle 495"/>
                    <p:cNvSpPr/>
                    <p:nvPr/>
                  </p:nvSpPr>
                  <p:spPr>
                    <a:xfrm>
                      <a:off x="1933560" y="14572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38" name="Group 496"/>
                  <p:cNvGrpSpPr/>
                  <p:nvPr/>
                </p:nvGrpSpPr>
                <p:grpSpPr>
                  <a:xfrm>
                    <a:off x="2270160" y="1457280"/>
                    <a:ext cx="338040" cy="314280"/>
                    <a:chOff x="2270160" y="1457280"/>
                    <a:chExt cx="338040" cy="314280"/>
                  </a:xfrm>
                </p:grpSpPr>
                <p:sp>
                  <p:nvSpPr>
                    <p:cNvPr id="1139" name="Rectangle 497"/>
                    <p:cNvSpPr/>
                    <p:nvPr/>
                  </p:nvSpPr>
                  <p:spPr>
                    <a:xfrm>
                      <a:off x="2324160" y="1457280"/>
                      <a:ext cx="22968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40" name="Rectangle 498"/>
                    <p:cNvSpPr/>
                    <p:nvPr/>
                  </p:nvSpPr>
                  <p:spPr>
                    <a:xfrm>
                      <a:off x="2270160" y="145728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1" name="Group 499"/>
                  <p:cNvGrpSpPr/>
                  <p:nvPr/>
                </p:nvGrpSpPr>
                <p:grpSpPr>
                  <a:xfrm>
                    <a:off x="2608200" y="1457280"/>
                    <a:ext cx="336600" cy="314280"/>
                    <a:chOff x="2608200" y="1457280"/>
                    <a:chExt cx="336600" cy="314280"/>
                  </a:xfrm>
                </p:grpSpPr>
                <p:sp>
                  <p:nvSpPr>
                    <p:cNvPr id="1142" name="Rectangle 500"/>
                    <p:cNvSpPr/>
                    <p:nvPr/>
                  </p:nvSpPr>
                  <p:spPr>
                    <a:xfrm>
                      <a:off x="2661840" y="14572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43" name="Rectangle 501"/>
                    <p:cNvSpPr/>
                    <p:nvPr/>
                  </p:nvSpPr>
                  <p:spPr>
                    <a:xfrm>
                      <a:off x="2608200" y="14572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4" name="Group 502"/>
                  <p:cNvGrpSpPr/>
                  <p:nvPr/>
                </p:nvGrpSpPr>
                <p:grpSpPr>
                  <a:xfrm>
                    <a:off x="2944800" y="1457280"/>
                    <a:ext cx="339480" cy="314280"/>
                    <a:chOff x="2944800" y="1457280"/>
                    <a:chExt cx="339480" cy="314280"/>
                  </a:xfrm>
                </p:grpSpPr>
                <p:sp>
                  <p:nvSpPr>
                    <p:cNvPr id="1145" name="Rectangle 503"/>
                    <p:cNvSpPr/>
                    <p:nvPr/>
                  </p:nvSpPr>
                  <p:spPr>
                    <a:xfrm>
                      <a:off x="2999160" y="1457280"/>
                      <a:ext cx="2304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46" name="Rectangle 504"/>
                    <p:cNvSpPr/>
                    <p:nvPr/>
                  </p:nvSpPr>
                  <p:spPr>
                    <a:xfrm>
                      <a:off x="2944800" y="1457280"/>
                      <a:ext cx="33948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7" name="Group 505"/>
                  <p:cNvGrpSpPr/>
                  <p:nvPr/>
                </p:nvGrpSpPr>
                <p:grpSpPr>
                  <a:xfrm>
                    <a:off x="3284280" y="1457280"/>
                    <a:ext cx="338400" cy="314280"/>
                    <a:chOff x="3284280" y="1457280"/>
                    <a:chExt cx="338400" cy="314280"/>
                  </a:xfrm>
                </p:grpSpPr>
                <p:sp>
                  <p:nvSpPr>
                    <p:cNvPr id="1148" name="Rectangle 506"/>
                    <p:cNvSpPr/>
                    <p:nvPr/>
                  </p:nvSpPr>
                  <p:spPr>
                    <a:xfrm>
                      <a:off x="3338640" y="145728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49" name="Rectangle 507"/>
                    <p:cNvSpPr/>
                    <p:nvPr/>
                  </p:nvSpPr>
                  <p:spPr>
                    <a:xfrm>
                      <a:off x="3284280" y="1457280"/>
                      <a:ext cx="3384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50" name="Group 508"/>
                  <p:cNvGrpSpPr/>
                  <p:nvPr/>
                </p:nvGrpSpPr>
                <p:grpSpPr>
                  <a:xfrm>
                    <a:off x="3622680" y="1457280"/>
                    <a:ext cx="336600" cy="314280"/>
                    <a:chOff x="3622680" y="1457280"/>
                    <a:chExt cx="336600" cy="314280"/>
                  </a:xfrm>
                </p:grpSpPr>
                <p:sp>
                  <p:nvSpPr>
                    <p:cNvPr id="1151" name="Rectangle 509"/>
                    <p:cNvSpPr/>
                    <p:nvPr/>
                  </p:nvSpPr>
                  <p:spPr>
                    <a:xfrm>
                      <a:off x="3676680" y="145728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52" name="Rectangle 510"/>
                    <p:cNvSpPr/>
                    <p:nvPr/>
                  </p:nvSpPr>
                  <p:spPr>
                    <a:xfrm>
                      <a:off x="3622680" y="14572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53" name="Group 511"/>
                  <p:cNvGrpSpPr/>
                  <p:nvPr/>
                </p:nvGrpSpPr>
                <p:grpSpPr>
                  <a:xfrm>
                    <a:off x="582480" y="1771560"/>
                    <a:ext cx="336600" cy="312840"/>
                    <a:chOff x="582480" y="1771560"/>
                    <a:chExt cx="336600" cy="312840"/>
                  </a:xfrm>
                </p:grpSpPr>
                <p:sp>
                  <p:nvSpPr>
                    <p:cNvPr id="1154" name="Rectangle 512"/>
                    <p:cNvSpPr/>
                    <p:nvPr/>
                  </p:nvSpPr>
                  <p:spPr>
                    <a:xfrm>
                      <a:off x="636120" y="177156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55" name="Rectangle 513"/>
                    <p:cNvSpPr/>
                    <p:nvPr/>
                  </p:nvSpPr>
                  <p:spPr>
                    <a:xfrm>
                      <a:off x="582480" y="17715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56" name="Group 514"/>
                  <p:cNvGrpSpPr/>
                  <p:nvPr/>
                </p:nvGrpSpPr>
                <p:grpSpPr>
                  <a:xfrm>
                    <a:off x="919080" y="1771560"/>
                    <a:ext cx="339840" cy="312840"/>
                    <a:chOff x="919080" y="1771560"/>
                    <a:chExt cx="339840" cy="312840"/>
                  </a:xfrm>
                </p:grpSpPr>
                <p:sp>
                  <p:nvSpPr>
                    <p:cNvPr id="1157" name="Rectangle 515"/>
                    <p:cNvSpPr/>
                    <p:nvPr/>
                  </p:nvSpPr>
                  <p:spPr>
                    <a:xfrm>
                      <a:off x="973440" y="1771560"/>
                      <a:ext cx="23076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58" name="Rectangle 516"/>
                    <p:cNvSpPr/>
                    <p:nvPr/>
                  </p:nvSpPr>
                  <p:spPr>
                    <a:xfrm>
                      <a:off x="919080" y="1771560"/>
                      <a:ext cx="3398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59" name="Group 517"/>
                  <p:cNvGrpSpPr/>
                  <p:nvPr/>
                </p:nvGrpSpPr>
                <p:grpSpPr>
                  <a:xfrm>
                    <a:off x="1258920" y="1771560"/>
                    <a:ext cx="336600" cy="312840"/>
                    <a:chOff x="1258920" y="1771560"/>
                    <a:chExt cx="336600" cy="312840"/>
                  </a:xfrm>
                </p:grpSpPr>
                <p:sp>
                  <p:nvSpPr>
                    <p:cNvPr id="1160" name="Rectangle 518"/>
                    <p:cNvSpPr/>
                    <p:nvPr/>
                  </p:nvSpPr>
                  <p:spPr>
                    <a:xfrm>
                      <a:off x="1312920" y="177156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1" name="Rectangle 519"/>
                    <p:cNvSpPr/>
                    <p:nvPr/>
                  </p:nvSpPr>
                  <p:spPr>
                    <a:xfrm>
                      <a:off x="1258920" y="17715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62" name="Group 520"/>
                  <p:cNvGrpSpPr/>
                  <p:nvPr/>
                </p:nvGrpSpPr>
                <p:grpSpPr>
                  <a:xfrm>
                    <a:off x="1595520" y="1771560"/>
                    <a:ext cx="338040" cy="312840"/>
                    <a:chOff x="1595520" y="1771560"/>
                    <a:chExt cx="338040" cy="312840"/>
                  </a:xfrm>
                </p:grpSpPr>
                <p:sp>
                  <p:nvSpPr>
                    <p:cNvPr id="1163" name="Rectangle 521"/>
                    <p:cNvSpPr/>
                    <p:nvPr/>
                  </p:nvSpPr>
                  <p:spPr>
                    <a:xfrm>
                      <a:off x="1649520" y="1771560"/>
                      <a:ext cx="22932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4" name="Rectangle 522"/>
                    <p:cNvSpPr/>
                    <p:nvPr/>
                  </p:nvSpPr>
                  <p:spPr>
                    <a:xfrm>
                      <a:off x="1595520" y="1771560"/>
                      <a:ext cx="3380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65" name="Group 523"/>
                  <p:cNvGrpSpPr/>
                  <p:nvPr/>
                </p:nvGrpSpPr>
                <p:grpSpPr>
                  <a:xfrm>
                    <a:off x="1933560" y="1771560"/>
                    <a:ext cx="336600" cy="312840"/>
                    <a:chOff x="1933560" y="1771560"/>
                    <a:chExt cx="336600" cy="312840"/>
                  </a:xfrm>
                </p:grpSpPr>
                <p:sp>
                  <p:nvSpPr>
                    <p:cNvPr id="1166" name="Rectangle 524"/>
                    <p:cNvSpPr/>
                    <p:nvPr/>
                  </p:nvSpPr>
                  <p:spPr>
                    <a:xfrm>
                      <a:off x="1987560" y="1771560"/>
                      <a:ext cx="22824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7" name="Rectangle 525"/>
                    <p:cNvSpPr/>
                    <p:nvPr/>
                  </p:nvSpPr>
                  <p:spPr>
                    <a:xfrm>
                      <a:off x="1933560" y="17715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68" name="Group 526"/>
                  <p:cNvGrpSpPr/>
                  <p:nvPr/>
                </p:nvGrpSpPr>
                <p:grpSpPr>
                  <a:xfrm>
                    <a:off x="2270160" y="1771560"/>
                    <a:ext cx="338040" cy="312840"/>
                    <a:chOff x="2270160" y="1771560"/>
                    <a:chExt cx="338040" cy="312840"/>
                  </a:xfrm>
                </p:grpSpPr>
                <p:sp>
                  <p:nvSpPr>
                    <p:cNvPr id="1169" name="Rectangle 527"/>
                    <p:cNvSpPr/>
                    <p:nvPr/>
                  </p:nvSpPr>
                  <p:spPr>
                    <a:xfrm>
                      <a:off x="2324160" y="1771560"/>
                      <a:ext cx="22968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0" name="Rectangle 528"/>
                    <p:cNvSpPr/>
                    <p:nvPr/>
                  </p:nvSpPr>
                  <p:spPr>
                    <a:xfrm>
                      <a:off x="2270160" y="1771560"/>
                      <a:ext cx="3380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1" name="Group 529"/>
                  <p:cNvGrpSpPr/>
                  <p:nvPr/>
                </p:nvGrpSpPr>
                <p:grpSpPr>
                  <a:xfrm>
                    <a:off x="2608200" y="1771560"/>
                    <a:ext cx="336600" cy="312840"/>
                    <a:chOff x="2608200" y="1771560"/>
                    <a:chExt cx="336600" cy="312840"/>
                  </a:xfrm>
                </p:grpSpPr>
                <p:sp>
                  <p:nvSpPr>
                    <p:cNvPr id="1172" name="Rectangle 530"/>
                    <p:cNvSpPr/>
                    <p:nvPr/>
                  </p:nvSpPr>
                  <p:spPr>
                    <a:xfrm>
                      <a:off x="2661840" y="177156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3" name="Rectangle 531"/>
                    <p:cNvSpPr/>
                    <p:nvPr/>
                  </p:nvSpPr>
                  <p:spPr>
                    <a:xfrm>
                      <a:off x="2608200" y="17715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4" name="Group 532"/>
                  <p:cNvGrpSpPr/>
                  <p:nvPr/>
                </p:nvGrpSpPr>
                <p:grpSpPr>
                  <a:xfrm>
                    <a:off x="2944800" y="1771560"/>
                    <a:ext cx="339480" cy="312840"/>
                    <a:chOff x="2944800" y="1771560"/>
                    <a:chExt cx="339480" cy="312840"/>
                  </a:xfrm>
                </p:grpSpPr>
                <p:sp>
                  <p:nvSpPr>
                    <p:cNvPr id="1175" name="Rectangle 533"/>
                    <p:cNvSpPr/>
                    <p:nvPr/>
                  </p:nvSpPr>
                  <p:spPr>
                    <a:xfrm>
                      <a:off x="2999160" y="1771560"/>
                      <a:ext cx="2304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6" name="Rectangle 534"/>
                    <p:cNvSpPr/>
                    <p:nvPr/>
                  </p:nvSpPr>
                  <p:spPr>
                    <a:xfrm>
                      <a:off x="2944800" y="1771560"/>
                      <a:ext cx="33948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7" name="Group 535"/>
                  <p:cNvGrpSpPr/>
                  <p:nvPr/>
                </p:nvGrpSpPr>
                <p:grpSpPr>
                  <a:xfrm>
                    <a:off x="3284280" y="1771560"/>
                    <a:ext cx="338400" cy="312840"/>
                    <a:chOff x="3284280" y="1771560"/>
                    <a:chExt cx="338400" cy="312840"/>
                  </a:xfrm>
                </p:grpSpPr>
                <p:sp>
                  <p:nvSpPr>
                    <p:cNvPr id="1178" name="Rectangle 536"/>
                    <p:cNvSpPr/>
                    <p:nvPr/>
                  </p:nvSpPr>
                  <p:spPr>
                    <a:xfrm>
                      <a:off x="3338640" y="1771560"/>
                      <a:ext cx="22932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9" name="Rectangle 537"/>
                    <p:cNvSpPr/>
                    <p:nvPr/>
                  </p:nvSpPr>
                  <p:spPr>
                    <a:xfrm>
                      <a:off x="3284280" y="1771560"/>
                      <a:ext cx="3384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80" name="Group 538"/>
                  <p:cNvGrpSpPr/>
                  <p:nvPr/>
                </p:nvGrpSpPr>
                <p:grpSpPr>
                  <a:xfrm>
                    <a:off x="3622680" y="1771560"/>
                    <a:ext cx="336600" cy="312840"/>
                    <a:chOff x="3622680" y="1771560"/>
                    <a:chExt cx="336600" cy="312840"/>
                  </a:xfrm>
                </p:grpSpPr>
                <p:sp>
                  <p:nvSpPr>
                    <p:cNvPr id="1181" name="Rectangle 539"/>
                    <p:cNvSpPr/>
                    <p:nvPr/>
                  </p:nvSpPr>
                  <p:spPr>
                    <a:xfrm>
                      <a:off x="3676680" y="1771560"/>
                      <a:ext cx="22824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82" name="Rectangle 540"/>
                    <p:cNvSpPr/>
                    <p:nvPr/>
                  </p:nvSpPr>
                  <p:spPr>
                    <a:xfrm>
                      <a:off x="3622680" y="17715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83" name="Group 541"/>
                  <p:cNvGrpSpPr/>
                  <p:nvPr/>
                </p:nvGrpSpPr>
                <p:grpSpPr>
                  <a:xfrm>
                    <a:off x="582480" y="2084400"/>
                    <a:ext cx="336600" cy="314280"/>
                    <a:chOff x="582480" y="2084400"/>
                    <a:chExt cx="336600" cy="314280"/>
                  </a:xfrm>
                </p:grpSpPr>
                <p:sp>
                  <p:nvSpPr>
                    <p:cNvPr id="1184" name="Rectangle 542"/>
                    <p:cNvSpPr/>
                    <p:nvPr/>
                  </p:nvSpPr>
                  <p:spPr>
                    <a:xfrm>
                      <a:off x="636120" y="208440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85" name="Rectangle 543"/>
                    <p:cNvSpPr/>
                    <p:nvPr/>
                  </p:nvSpPr>
                  <p:spPr>
                    <a:xfrm>
                      <a:off x="582480" y="20844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86" name="Group 544"/>
                  <p:cNvGrpSpPr/>
                  <p:nvPr/>
                </p:nvGrpSpPr>
                <p:grpSpPr>
                  <a:xfrm>
                    <a:off x="919080" y="2084400"/>
                    <a:ext cx="339840" cy="314280"/>
                    <a:chOff x="919080" y="2084400"/>
                    <a:chExt cx="339840" cy="314280"/>
                  </a:xfrm>
                </p:grpSpPr>
                <p:sp>
                  <p:nvSpPr>
                    <p:cNvPr id="1187" name="Rectangle 545"/>
                    <p:cNvSpPr/>
                    <p:nvPr/>
                  </p:nvSpPr>
                  <p:spPr>
                    <a:xfrm>
                      <a:off x="973440" y="2084400"/>
                      <a:ext cx="23076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88" name="Rectangle 546"/>
                    <p:cNvSpPr/>
                    <p:nvPr/>
                  </p:nvSpPr>
                  <p:spPr>
                    <a:xfrm>
                      <a:off x="919080" y="2084400"/>
                      <a:ext cx="3398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89" name="Group 547"/>
                  <p:cNvGrpSpPr/>
                  <p:nvPr/>
                </p:nvGrpSpPr>
                <p:grpSpPr>
                  <a:xfrm>
                    <a:off x="1258920" y="2084400"/>
                    <a:ext cx="336600" cy="314280"/>
                    <a:chOff x="1258920" y="2084400"/>
                    <a:chExt cx="336600" cy="314280"/>
                  </a:xfrm>
                </p:grpSpPr>
                <p:sp>
                  <p:nvSpPr>
                    <p:cNvPr id="1190" name="Rectangle 548"/>
                    <p:cNvSpPr/>
                    <p:nvPr/>
                  </p:nvSpPr>
                  <p:spPr>
                    <a:xfrm>
                      <a:off x="1312920" y="208440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1" name="Rectangle 549"/>
                    <p:cNvSpPr/>
                    <p:nvPr/>
                  </p:nvSpPr>
                  <p:spPr>
                    <a:xfrm>
                      <a:off x="1258920" y="20844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92" name="Group 550"/>
                  <p:cNvGrpSpPr/>
                  <p:nvPr/>
                </p:nvGrpSpPr>
                <p:grpSpPr>
                  <a:xfrm>
                    <a:off x="1595520" y="2084400"/>
                    <a:ext cx="338040" cy="314280"/>
                    <a:chOff x="1595520" y="2084400"/>
                    <a:chExt cx="338040" cy="314280"/>
                  </a:xfrm>
                </p:grpSpPr>
                <p:sp>
                  <p:nvSpPr>
                    <p:cNvPr id="1193" name="Rectangle 551"/>
                    <p:cNvSpPr/>
                    <p:nvPr/>
                  </p:nvSpPr>
                  <p:spPr>
                    <a:xfrm>
                      <a:off x="1649520" y="208440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4" name="Rectangle 552"/>
                    <p:cNvSpPr/>
                    <p:nvPr/>
                  </p:nvSpPr>
                  <p:spPr>
                    <a:xfrm>
                      <a:off x="1595520" y="208440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95" name="Group 553"/>
                  <p:cNvGrpSpPr/>
                  <p:nvPr/>
                </p:nvGrpSpPr>
                <p:grpSpPr>
                  <a:xfrm>
                    <a:off x="1933560" y="2084400"/>
                    <a:ext cx="336600" cy="314280"/>
                    <a:chOff x="1933560" y="2084400"/>
                    <a:chExt cx="336600" cy="314280"/>
                  </a:xfrm>
                </p:grpSpPr>
                <p:sp>
                  <p:nvSpPr>
                    <p:cNvPr id="1196" name="Rectangle 554"/>
                    <p:cNvSpPr/>
                    <p:nvPr/>
                  </p:nvSpPr>
                  <p:spPr>
                    <a:xfrm>
                      <a:off x="1987560" y="208440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7" name="Rectangle 555"/>
                    <p:cNvSpPr/>
                    <p:nvPr/>
                  </p:nvSpPr>
                  <p:spPr>
                    <a:xfrm>
                      <a:off x="1933560" y="20844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98" name="Group 556"/>
                  <p:cNvGrpSpPr/>
                  <p:nvPr/>
                </p:nvGrpSpPr>
                <p:grpSpPr>
                  <a:xfrm>
                    <a:off x="2270160" y="2084400"/>
                    <a:ext cx="338040" cy="314280"/>
                    <a:chOff x="2270160" y="2084400"/>
                    <a:chExt cx="338040" cy="314280"/>
                  </a:xfrm>
                </p:grpSpPr>
                <p:sp>
                  <p:nvSpPr>
                    <p:cNvPr id="1199" name="Rectangle 557"/>
                    <p:cNvSpPr/>
                    <p:nvPr/>
                  </p:nvSpPr>
                  <p:spPr>
                    <a:xfrm>
                      <a:off x="2324160" y="2084400"/>
                      <a:ext cx="22968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00" name="Rectangle 558"/>
                    <p:cNvSpPr/>
                    <p:nvPr/>
                  </p:nvSpPr>
                  <p:spPr>
                    <a:xfrm>
                      <a:off x="2270160" y="208440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01" name="Group 559"/>
                  <p:cNvGrpSpPr/>
                  <p:nvPr/>
                </p:nvGrpSpPr>
                <p:grpSpPr>
                  <a:xfrm>
                    <a:off x="2608200" y="2084400"/>
                    <a:ext cx="336600" cy="314280"/>
                    <a:chOff x="2608200" y="2084400"/>
                    <a:chExt cx="336600" cy="314280"/>
                  </a:xfrm>
                </p:grpSpPr>
                <p:sp>
                  <p:nvSpPr>
                    <p:cNvPr id="1202" name="Rectangle 560"/>
                    <p:cNvSpPr/>
                    <p:nvPr/>
                  </p:nvSpPr>
                  <p:spPr>
                    <a:xfrm>
                      <a:off x="2661840" y="208440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03" name="Rectangle 561"/>
                    <p:cNvSpPr/>
                    <p:nvPr/>
                  </p:nvSpPr>
                  <p:spPr>
                    <a:xfrm>
                      <a:off x="2608200" y="20844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04" name="Group 562"/>
                  <p:cNvGrpSpPr/>
                  <p:nvPr/>
                </p:nvGrpSpPr>
                <p:grpSpPr>
                  <a:xfrm>
                    <a:off x="2944800" y="2084400"/>
                    <a:ext cx="339480" cy="314280"/>
                    <a:chOff x="2944800" y="2084400"/>
                    <a:chExt cx="339480" cy="314280"/>
                  </a:xfrm>
                </p:grpSpPr>
                <p:sp>
                  <p:nvSpPr>
                    <p:cNvPr id="1205" name="Rectangle 563"/>
                    <p:cNvSpPr/>
                    <p:nvPr/>
                  </p:nvSpPr>
                  <p:spPr>
                    <a:xfrm>
                      <a:off x="2999160" y="2084400"/>
                      <a:ext cx="2304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06" name="Rectangle 564"/>
                    <p:cNvSpPr/>
                    <p:nvPr/>
                  </p:nvSpPr>
                  <p:spPr>
                    <a:xfrm>
                      <a:off x="2944800" y="2084400"/>
                      <a:ext cx="33948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07" name="Group 565"/>
                  <p:cNvGrpSpPr/>
                  <p:nvPr/>
                </p:nvGrpSpPr>
                <p:grpSpPr>
                  <a:xfrm>
                    <a:off x="3284280" y="2084400"/>
                    <a:ext cx="338400" cy="314280"/>
                    <a:chOff x="3284280" y="2084400"/>
                    <a:chExt cx="338400" cy="314280"/>
                  </a:xfrm>
                </p:grpSpPr>
                <p:sp>
                  <p:nvSpPr>
                    <p:cNvPr id="1208" name="Rectangle 566"/>
                    <p:cNvSpPr/>
                    <p:nvPr/>
                  </p:nvSpPr>
                  <p:spPr>
                    <a:xfrm>
                      <a:off x="3338640" y="208440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09" name="Rectangle 567"/>
                    <p:cNvSpPr/>
                    <p:nvPr/>
                  </p:nvSpPr>
                  <p:spPr>
                    <a:xfrm>
                      <a:off x="3284280" y="2084400"/>
                      <a:ext cx="3384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0" name="Group 568"/>
                  <p:cNvGrpSpPr/>
                  <p:nvPr/>
                </p:nvGrpSpPr>
                <p:grpSpPr>
                  <a:xfrm>
                    <a:off x="3622680" y="2084400"/>
                    <a:ext cx="336600" cy="314280"/>
                    <a:chOff x="3622680" y="2084400"/>
                    <a:chExt cx="336600" cy="314280"/>
                  </a:xfrm>
                </p:grpSpPr>
                <p:sp>
                  <p:nvSpPr>
                    <p:cNvPr id="1211" name="Rectangle 569"/>
                    <p:cNvSpPr/>
                    <p:nvPr/>
                  </p:nvSpPr>
                  <p:spPr>
                    <a:xfrm>
                      <a:off x="3676680" y="208440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2" name="Rectangle 570"/>
                    <p:cNvSpPr/>
                    <p:nvPr/>
                  </p:nvSpPr>
                  <p:spPr>
                    <a:xfrm>
                      <a:off x="3622680" y="20844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3" name="Group 571"/>
                  <p:cNvGrpSpPr/>
                  <p:nvPr/>
                </p:nvGrpSpPr>
                <p:grpSpPr>
                  <a:xfrm>
                    <a:off x="582480" y="2398680"/>
                    <a:ext cx="336600" cy="314280"/>
                    <a:chOff x="582480" y="2398680"/>
                    <a:chExt cx="336600" cy="314280"/>
                  </a:xfrm>
                </p:grpSpPr>
                <p:sp>
                  <p:nvSpPr>
                    <p:cNvPr id="1214" name="Rectangle 572"/>
                    <p:cNvSpPr/>
                    <p:nvPr/>
                  </p:nvSpPr>
                  <p:spPr>
                    <a:xfrm>
                      <a:off x="636120" y="23986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5" name="Rectangle 573"/>
                    <p:cNvSpPr/>
                    <p:nvPr/>
                  </p:nvSpPr>
                  <p:spPr>
                    <a:xfrm>
                      <a:off x="582480" y="23986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6" name="Group 574"/>
                  <p:cNvGrpSpPr/>
                  <p:nvPr/>
                </p:nvGrpSpPr>
                <p:grpSpPr>
                  <a:xfrm>
                    <a:off x="919080" y="2398680"/>
                    <a:ext cx="339840" cy="314280"/>
                    <a:chOff x="919080" y="2398680"/>
                    <a:chExt cx="339840" cy="314280"/>
                  </a:xfrm>
                </p:grpSpPr>
                <p:sp>
                  <p:nvSpPr>
                    <p:cNvPr id="1217" name="Rectangle 575"/>
                    <p:cNvSpPr/>
                    <p:nvPr/>
                  </p:nvSpPr>
                  <p:spPr>
                    <a:xfrm>
                      <a:off x="973440" y="2398680"/>
                      <a:ext cx="23076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8" name="Rectangle 576"/>
                    <p:cNvSpPr/>
                    <p:nvPr/>
                  </p:nvSpPr>
                  <p:spPr>
                    <a:xfrm>
                      <a:off x="919080" y="2398680"/>
                      <a:ext cx="3398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9" name="Group 577"/>
                  <p:cNvGrpSpPr/>
                  <p:nvPr/>
                </p:nvGrpSpPr>
                <p:grpSpPr>
                  <a:xfrm>
                    <a:off x="1258920" y="2398680"/>
                    <a:ext cx="336600" cy="314280"/>
                    <a:chOff x="1258920" y="2398680"/>
                    <a:chExt cx="336600" cy="314280"/>
                  </a:xfrm>
                </p:grpSpPr>
                <p:sp>
                  <p:nvSpPr>
                    <p:cNvPr id="1220" name="Rectangle 578"/>
                    <p:cNvSpPr/>
                    <p:nvPr/>
                  </p:nvSpPr>
                  <p:spPr>
                    <a:xfrm>
                      <a:off x="1312920" y="23986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1" name="Rectangle 579"/>
                    <p:cNvSpPr/>
                    <p:nvPr/>
                  </p:nvSpPr>
                  <p:spPr>
                    <a:xfrm>
                      <a:off x="1258920" y="23986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2" name="Group 580"/>
                  <p:cNvGrpSpPr/>
                  <p:nvPr/>
                </p:nvGrpSpPr>
                <p:grpSpPr>
                  <a:xfrm>
                    <a:off x="1595520" y="2398680"/>
                    <a:ext cx="338040" cy="314280"/>
                    <a:chOff x="1595520" y="2398680"/>
                    <a:chExt cx="338040" cy="314280"/>
                  </a:xfrm>
                </p:grpSpPr>
                <p:sp>
                  <p:nvSpPr>
                    <p:cNvPr id="1223" name="Rectangle 581"/>
                    <p:cNvSpPr/>
                    <p:nvPr/>
                  </p:nvSpPr>
                  <p:spPr>
                    <a:xfrm>
                      <a:off x="1649520" y="239868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4" name="Rectangle 582"/>
                    <p:cNvSpPr/>
                    <p:nvPr/>
                  </p:nvSpPr>
                  <p:spPr>
                    <a:xfrm>
                      <a:off x="1595520" y="239868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5" name="Group 583"/>
                  <p:cNvGrpSpPr/>
                  <p:nvPr/>
                </p:nvGrpSpPr>
                <p:grpSpPr>
                  <a:xfrm>
                    <a:off x="1933560" y="2398680"/>
                    <a:ext cx="336600" cy="314280"/>
                    <a:chOff x="1933560" y="2398680"/>
                    <a:chExt cx="336600" cy="314280"/>
                  </a:xfrm>
                </p:grpSpPr>
                <p:sp>
                  <p:nvSpPr>
                    <p:cNvPr id="1226" name="Rectangle 584"/>
                    <p:cNvSpPr/>
                    <p:nvPr/>
                  </p:nvSpPr>
                  <p:spPr>
                    <a:xfrm>
                      <a:off x="1987560" y="239868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7" name="Rectangle 585"/>
                    <p:cNvSpPr/>
                    <p:nvPr/>
                  </p:nvSpPr>
                  <p:spPr>
                    <a:xfrm>
                      <a:off x="1933560" y="23986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8" name="Group 586"/>
                  <p:cNvGrpSpPr/>
                  <p:nvPr/>
                </p:nvGrpSpPr>
                <p:grpSpPr>
                  <a:xfrm>
                    <a:off x="2270160" y="2398680"/>
                    <a:ext cx="338040" cy="314280"/>
                    <a:chOff x="2270160" y="2398680"/>
                    <a:chExt cx="338040" cy="314280"/>
                  </a:xfrm>
                </p:grpSpPr>
                <p:sp>
                  <p:nvSpPr>
                    <p:cNvPr id="1229" name="Rectangle 587"/>
                    <p:cNvSpPr/>
                    <p:nvPr/>
                  </p:nvSpPr>
                  <p:spPr>
                    <a:xfrm>
                      <a:off x="2324160" y="2398680"/>
                      <a:ext cx="22968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30" name="Rectangle 588"/>
                    <p:cNvSpPr/>
                    <p:nvPr/>
                  </p:nvSpPr>
                  <p:spPr>
                    <a:xfrm>
                      <a:off x="2270160" y="239868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31" name="Group 589"/>
                  <p:cNvGrpSpPr/>
                  <p:nvPr/>
                </p:nvGrpSpPr>
                <p:grpSpPr>
                  <a:xfrm>
                    <a:off x="2608200" y="2398680"/>
                    <a:ext cx="336600" cy="314280"/>
                    <a:chOff x="2608200" y="2398680"/>
                    <a:chExt cx="336600" cy="314280"/>
                  </a:xfrm>
                </p:grpSpPr>
                <p:sp>
                  <p:nvSpPr>
                    <p:cNvPr id="1232" name="Rectangle 590"/>
                    <p:cNvSpPr/>
                    <p:nvPr/>
                  </p:nvSpPr>
                  <p:spPr>
                    <a:xfrm>
                      <a:off x="2661840" y="23986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33" name="Rectangle 591"/>
                    <p:cNvSpPr/>
                    <p:nvPr/>
                  </p:nvSpPr>
                  <p:spPr>
                    <a:xfrm>
                      <a:off x="2608200" y="23986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34" name="Group 592"/>
                  <p:cNvGrpSpPr/>
                  <p:nvPr/>
                </p:nvGrpSpPr>
                <p:grpSpPr>
                  <a:xfrm>
                    <a:off x="2944800" y="2398680"/>
                    <a:ext cx="339480" cy="314280"/>
                    <a:chOff x="2944800" y="2398680"/>
                    <a:chExt cx="339480" cy="314280"/>
                  </a:xfrm>
                </p:grpSpPr>
                <p:sp>
                  <p:nvSpPr>
                    <p:cNvPr id="1235" name="Rectangle 593"/>
                    <p:cNvSpPr/>
                    <p:nvPr/>
                  </p:nvSpPr>
                  <p:spPr>
                    <a:xfrm>
                      <a:off x="2999160" y="2398680"/>
                      <a:ext cx="2304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36" name="Rectangle 594"/>
                    <p:cNvSpPr/>
                    <p:nvPr/>
                  </p:nvSpPr>
                  <p:spPr>
                    <a:xfrm>
                      <a:off x="2944800" y="2398680"/>
                      <a:ext cx="33948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37" name="Group 595"/>
                  <p:cNvGrpSpPr/>
                  <p:nvPr/>
                </p:nvGrpSpPr>
                <p:grpSpPr>
                  <a:xfrm>
                    <a:off x="3284280" y="2398680"/>
                    <a:ext cx="338400" cy="314280"/>
                    <a:chOff x="3284280" y="2398680"/>
                    <a:chExt cx="338400" cy="314280"/>
                  </a:xfrm>
                </p:grpSpPr>
                <p:sp>
                  <p:nvSpPr>
                    <p:cNvPr id="1238" name="Rectangle 596"/>
                    <p:cNvSpPr/>
                    <p:nvPr/>
                  </p:nvSpPr>
                  <p:spPr>
                    <a:xfrm>
                      <a:off x="3338640" y="239868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39" name="Rectangle 597"/>
                    <p:cNvSpPr/>
                    <p:nvPr/>
                  </p:nvSpPr>
                  <p:spPr>
                    <a:xfrm>
                      <a:off x="3284280" y="2398680"/>
                      <a:ext cx="3384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40" name="Group 598"/>
                  <p:cNvGrpSpPr/>
                  <p:nvPr/>
                </p:nvGrpSpPr>
                <p:grpSpPr>
                  <a:xfrm>
                    <a:off x="3622680" y="2398680"/>
                    <a:ext cx="336600" cy="314280"/>
                    <a:chOff x="3622680" y="2398680"/>
                    <a:chExt cx="336600" cy="314280"/>
                  </a:xfrm>
                </p:grpSpPr>
                <p:sp>
                  <p:nvSpPr>
                    <p:cNvPr id="1241" name="Rectangle 599"/>
                    <p:cNvSpPr/>
                    <p:nvPr/>
                  </p:nvSpPr>
                  <p:spPr>
                    <a:xfrm>
                      <a:off x="3676680" y="239868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42" name="Rectangle 600"/>
                    <p:cNvSpPr/>
                    <p:nvPr/>
                  </p:nvSpPr>
                  <p:spPr>
                    <a:xfrm>
                      <a:off x="3622680" y="23986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43" name="Group 601"/>
                  <p:cNvGrpSpPr/>
                  <p:nvPr/>
                </p:nvGrpSpPr>
                <p:grpSpPr>
                  <a:xfrm>
                    <a:off x="582480" y="2712960"/>
                    <a:ext cx="336600" cy="312840"/>
                    <a:chOff x="582480" y="2712960"/>
                    <a:chExt cx="336600" cy="312840"/>
                  </a:xfrm>
                </p:grpSpPr>
                <p:sp>
                  <p:nvSpPr>
                    <p:cNvPr id="1244" name="Rectangle 602"/>
                    <p:cNvSpPr/>
                    <p:nvPr/>
                  </p:nvSpPr>
                  <p:spPr>
                    <a:xfrm>
                      <a:off x="636120" y="271296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45" name="Rectangle 603"/>
                    <p:cNvSpPr/>
                    <p:nvPr/>
                  </p:nvSpPr>
                  <p:spPr>
                    <a:xfrm>
                      <a:off x="582480" y="27129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46" name="Group 604"/>
                  <p:cNvGrpSpPr/>
                  <p:nvPr/>
                </p:nvGrpSpPr>
                <p:grpSpPr>
                  <a:xfrm>
                    <a:off x="919080" y="2712960"/>
                    <a:ext cx="339840" cy="312840"/>
                    <a:chOff x="919080" y="2712960"/>
                    <a:chExt cx="339840" cy="312840"/>
                  </a:xfrm>
                </p:grpSpPr>
                <p:sp>
                  <p:nvSpPr>
                    <p:cNvPr id="1247" name="Rectangle 605"/>
                    <p:cNvSpPr/>
                    <p:nvPr/>
                  </p:nvSpPr>
                  <p:spPr>
                    <a:xfrm>
                      <a:off x="973440" y="2712960"/>
                      <a:ext cx="23076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48" name="Rectangle 606"/>
                    <p:cNvSpPr/>
                    <p:nvPr/>
                  </p:nvSpPr>
                  <p:spPr>
                    <a:xfrm>
                      <a:off x="919080" y="2712960"/>
                      <a:ext cx="3398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49" name="Group 607"/>
                  <p:cNvGrpSpPr/>
                  <p:nvPr/>
                </p:nvGrpSpPr>
                <p:grpSpPr>
                  <a:xfrm>
                    <a:off x="1258920" y="2712960"/>
                    <a:ext cx="336600" cy="312840"/>
                    <a:chOff x="1258920" y="2712960"/>
                    <a:chExt cx="336600" cy="312840"/>
                  </a:xfrm>
                </p:grpSpPr>
                <p:sp>
                  <p:nvSpPr>
                    <p:cNvPr id="1250" name="Rectangle 608"/>
                    <p:cNvSpPr/>
                    <p:nvPr/>
                  </p:nvSpPr>
                  <p:spPr>
                    <a:xfrm>
                      <a:off x="1312920" y="271296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51" name="Rectangle 609"/>
                    <p:cNvSpPr/>
                    <p:nvPr/>
                  </p:nvSpPr>
                  <p:spPr>
                    <a:xfrm>
                      <a:off x="1258920" y="27129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52" name="Group 610"/>
                  <p:cNvGrpSpPr/>
                  <p:nvPr/>
                </p:nvGrpSpPr>
                <p:grpSpPr>
                  <a:xfrm>
                    <a:off x="1595520" y="2712960"/>
                    <a:ext cx="338040" cy="312840"/>
                    <a:chOff x="1595520" y="2712960"/>
                    <a:chExt cx="338040" cy="312840"/>
                  </a:xfrm>
                </p:grpSpPr>
                <p:sp>
                  <p:nvSpPr>
                    <p:cNvPr id="1253" name="Rectangle 611"/>
                    <p:cNvSpPr/>
                    <p:nvPr/>
                  </p:nvSpPr>
                  <p:spPr>
                    <a:xfrm>
                      <a:off x="1649520" y="2712960"/>
                      <a:ext cx="22932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54" name="Rectangle 612"/>
                    <p:cNvSpPr/>
                    <p:nvPr/>
                  </p:nvSpPr>
                  <p:spPr>
                    <a:xfrm>
                      <a:off x="1595520" y="2712960"/>
                      <a:ext cx="3380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55" name="Group 613"/>
                  <p:cNvGrpSpPr/>
                  <p:nvPr/>
                </p:nvGrpSpPr>
                <p:grpSpPr>
                  <a:xfrm>
                    <a:off x="1933560" y="2712960"/>
                    <a:ext cx="336600" cy="312840"/>
                    <a:chOff x="1933560" y="2712960"/>
                    <a:chExt cx="336600" cy="312840"/>
                  </a:xfrm>
                </p:grpSpPr>
                <p:sp>
                  <p:nvSpPr>
                    <p:cNvPr id="1256" name="Rectangle 614"/>
                    <p:cNvSpPr/>
                    <p:nvPr/>
                  </p:nvSpPr>
                  <p:spPr>
                    <a:xfrm>
                      <a:off x="1987560" y="2712960"/>
                      <a:ext cx="22824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57" name="Rectangle 615"/>
                    <p:cNvSpPr/>
                    <p:nvPr/>
                  </p:nvSpPr>
                  <p:spPr>
                    <a:xfrm>
                      <a:off x="1933560" y="27129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58" name="Group 616"/>
                  <p:cNvGrpSpPr/>
                  <p:nvPr/>
                </p:nvGrpSpPr>
                <p:grpSpPr>
                  <a:xfrm>
                    <a:off x="2270160" y="2712960"/>
                    <a:ext cx="338040" cy="312840"/>
                    <a:chOff x="2270160" y="2712960"/>
                    <a:chExt cx="338040" cy="312840"/>
                  </a:xfrm>
                </p:grpSpPr>
                <p:sp>
                  <p:nvSpPr>
                    <p:cNvPr id="1259" name="Rectangle 617"/>
                    <p:cNvSpPr/>
                    <p:nvPr/>
                  </p:nvSpPr>
                  <p:spPr>
                    <a:xfrm>
                      <a:off x="2324160" y="2712960"/>
                      <a:ext cx="22968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60" name="Rectangle 618"/>
                    <p:cNvSpPr/>
                    <p:nvPr/>
                  </p:nvSpPr>
                  <p:spPr>
                    <a:xfrm>
                      <a:off x="2270160" y="2712960"/>
                      <a:ext cx="3380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61" name="Group 619"/>
                  <p:cNvGrpSpPr/>
                  <p:nvPr/>
                </p:nvGrpSpPr>
                <p:grpSpPr>
                  <a:xfrm>
                    <a:off x="2608200" y="2712960"/>
                    <a:ext cx="336600" cy="312840"/>
                    <a:chOff x="2608200" y="2712960"/>
                    <a:chExt cx="336600" cy="312840"/>
                  </a:xfrm>
                </p:grpSpPr>
                <p:sp>
                  <p:nvSpPr>
                    <p:cNvPr id="1262" name="Rectangle 620"/>
                    <p:cNvSpPr/>
                    <p:nvPr/>
                  </p:nvSpPr>
                  <p:spPr>
                    <a:xfrm>
                      <a:off x="2661840" y="271296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63" name="Rectangle 621"/>
                    <p:cNvSpPr/>
                    <p:nvPr/>
                  </p:nvSpPr>
                  <p:spPr>
                    <a:xfrm>
                      <a:off x="2608200" y="27129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64" name="Group 622"/>
                  <p:cNvGrpSpPr/>
                  <p:nvPr/>
                </p:nvGrpSpPr>
                <p:grpSpPr>
                  <a:xfrm>
                    <a:off x="2944800" y="2712960"/>
                    <a:ext cx="339480" cy="312840"/>
                    <a:chOff x="2944800" y="2712960"/>
                    <a:chExt cx="339480" cy="312840"/>
                  </a:xfrm>
                </p:grpSpPr>
                <p:sp>
                  <p:nvSpPr>
                    <p:cNvPr id="1265" name="Rectangle 623"/>
                    <p:cNvSpPr/>
                    <p:nvPr/>
                  </p:nvSpPr>
                  <p:spPr>
                    <a:xfrm>
                      <a:off x="2999160" y="2712960"/>
                      <a:ext cx="2304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66" name="Rectangle 624"/>
                    <p:cNvSpPr/>
                    <p:nvPr/>
                  </p:nvSpPr>
                  <p:spPr>
                    <a:xfrm>
                      <a:off x="2944800" y="2712960"/>
                      <a:ext cx="33948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67" name="Group 625"/>
                  <p:cNvGrpSpPr/>
                  <p:nvPr/>
                </p:nvGrpSpPr>
                <p:grpSpPr>
                  <a:xfrm>
                    <a:off x="3284280" y="2712960"/>
                    <a:ext cx="338400" cy="312840"/>
                    <a:chOff x="3284280" y="2712960"/>
                    <a:chExt cx="338400" cy="312840"/>
                  </a:xfrm>
                </p:grpSpPr>
                <p:sp>
                  <p:nvSpPr>
                    <p:cNvPr id="1268" name="Rectangle 626"/>
                    <p:cNvSpPr/>
                    <p:nvPr/>
                  </p:nvSpPr>
                  <p:spPr>
                    <a:xfrm>
                      <a:off x="3338640" y="2712960"/>
                      <a:ext cx="22932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69" name="Rectangle 627"/>
                    <p:cNvSpPr/>
                    <p:nvPr/>
                  </p:nvSpPr>
                  <p:spPr>
                    <a:xfrm>
                      <a:off x="3284280" y="2712960"/>
                      <a:ext cx="3384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70" name="Group 628"/>
                  <p:cNvGrpSpPr/>
                  <p:nvPr/>
                </p:nvGrpSpPr>
                <p:grpSpPr>
                  <a:xfrm>
                    <a:off x="3622680" y="2712960"/>
                    <a:ext cx="336600" cy="312840"/>
                    <a:chOff x="3622680" y="2712960"/>
                    <a:chExt cx="336600" cy="312840"/>
                  </a:xfrm>
                </p:grpSpPr>
                <p:sp>
                  <p:nvSpPr>
                    <p:cNvPr id="1271" name="Rectangle 629"/>
                    <p:cNvSpPr/>
                    <p:nvPr/>
                  </p:nvSpPr>
                  <p:spPr>
                    <a:xfrm>
                      <a:off x="3676680" y="2712960"/>
                      <a:ext cx="22824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72" name="Rectangle 630"/>
                    <p:cNvSpPr/>
                    <p:nvPr/>
                  </p:nvSpPr>
                  <p:spPr>
                    <a:xfrm>
                      <a:off x="3622680" y="27129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73" name="Group 631"/>
                  <p:cNvGrpSpPr/>
                  <p:nvPr/>
                </p:nvGrpSpPr>
                <p:grpSpPr>
                  <a:xfrm>
                    <a:off x="582480" y="3025800"/>
                    <a:ext cx="336600" cy="314280"/>
                    <a:chOff x="582480" y="3025800"/>
                    <a:chExt cx="336600" cy="314280"/>
                  </a:xfrm>
                </p:grpSpPr>
                <p:sp>
                  <p:nvSpPr>
                    <p:cNvPr id="1274" name="Rectangle 632"/>
                    <p:cNvSpPr/>
                    <p:nvPr/>
                  </p:nvSpPr>
                  <p:spPr>
                    <a:xfrm>
                      <a:off x="636120" y="302580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75" name="Rectangle 633"/>
                    <p:cNvSpPr/>
                    <p:nvPr/>
                  </p:nvSpPr>
                  <p:spPr>
                    <a:xfrm>
                      <a:off x="582480" y="30258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76" name="Group 634"/>
                  <p:cNvGrpSpPr/>
                  <p:nvPr/>
                </p:nvGrpSpPr>
                <p:grpSpPr>
                  <a:xfrm>
                    <a:off x="919080" y="3025800"/>
                    <a:ext cx="339840" cy="314280"/>
                    <a:chOff x="919080" y="3025800"/>
                    <a:chExt cx="339840" cy="314280"/>
                  </a:xfrm>
                </p:grpSpPr>
                <p:sp>
                  <p:nvSpPr>
                    <p:cNvPr id="1277" name="Rectangle 635"/>
                    <p:cNvSpPr/>
                    <p:nvPr/>
                  </p:nvSpPr>
                  <p:spPr>
                    <a:xfrm>
                      <a:off x="973440" y="3025800"/>
                      <a:ext cx="23076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78" name="Rectangle 636"/>
                    <p:cNvSpPr/>
                    <p:nvPr/>
                  </p:nvSpPr>
                  <p:spPr>
                    <a:xfrm>
                      <a:off x="919080" y="3025800"/>
                      <a:ext cx="3398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79" name="Group 637"/>
                  <p:cNvGrpSpPr/>
                  <p:nvPr/>
                </p:nvGrpSpPr>
                <p:grpSpPr>
                  <a:xfrm>
                    <a:off x="1258920" y="3025800"/>
                    <a:ext cx="336600" cy="314280"/>
                    <a:chOff x="1258920" y="3025800"/>
                    <a:chExt cx="336600" cy="314280"/>
                  </a:xfrm>
                </p:grpSpPr>
                <p:sp>
                  <p:nvSpPr>
                    <p:cNvPr id="1280" name="Rectangle 638"/>
                    <p:cNvSpPr/>
                    <p:nvPr/>
                  </p:nvSpPr>
                  <p:spPr>
                    <a:xfrm>
                      <a:off x="1312920" y="302580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81" name="Rectangle 639"/>
                    <p:cNvSpPr/>
                    <p:nvPr/>
                  </p:nvSpPr>
                  <p:spPr>
                    <a:xfrm>
                      <a:off x="1258920" y="30258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82" name="Group 640"/>
                  <p:cNvGrpSpPr/>
                  <p:nvPr/>
                </p:nvGrpSpPr>
                <p:grpSpPr>
                  <a:xfrm>
                    <a:off x="1595520" y="3025800"/>
                    <a:ext cx="338040" cy="314280"/>
                    <a:chOff x="1595520" y="3025800"/>
                    <a:chExt cx="338040" cy="314280"/>
                  </a:xfrm>
                </p:grpSpPr>
                <p:sp>
                  <p:nvSpPr>
                    <p:cNvPr id="1283" name="Rectangle 641"/>
                    <p:cNvSpPr/>
                    <p:nvPr/>
                  </p:nvSpPr>
                  <p:spPr>
                    <a:xfrm>
                      <a:off x="1649520" y="302580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84" name="Rectangle 642"/>
                    <p:cNvSpPr/>
                    <p:nvPr/>
                  </p:nvSpPr>
                  <p:spPr>
                    <a:xfrm>
                      <a:off x="1595520" y="302580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85" name="Group 643"/>
                  <p:cNvGrpSpPr/>
                  <p:nvPr/>
                </p:nvGrpSpPr>
                <p:grpSpPr>
                  <a:xfrm>
                    <a:off x="1933560" y="3025800"/>
                    <a:ext cx="336600" cy="314280"/>
                    <a:chOff x="1933560" y="3025800"/>
                    <a:chExt cx="336600" cy="314280"/>
                  </a:xfrm>
                </p:grpSpPr>
                <p:sp>
                  <p:nvSpPr>
                    <p:cNvPr id="1286" name="Rectangle 644"/>
                    <p:cNvSpPr/>
                    <p:nvPr/>
                  </p:nvSpPr>
                  <p:spPr>
                    <a:xfrm>
                      <a:off x="1987560" y="302580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87" name="Rectangle 645"/>
                    <p:cNvSpPr/>
                    <p:nvPr/>
                  </p:nvSpPr>
                  <p:spPr>
                    <a:xfrm>
                      <a:off x="1933560" y="30258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88" name="Group 646"/>
                  <p:cNvGrpSpPr/>
                  <p:nvPr/>
                </p:nvGrpSpPr>
                <p:grpSpPr>
                  <a:xfrm>
                    <a:off x="2270160" y="3025800"/>
                    <a:ext cx="338040" cy="314280"/>
                    <a:chOff x="2270160" y="3025800"/>
                    <a:chExt cx="338040" cy="314280"/>
                  </a:xfrm>
                </p:grpSpPr>
                <p:sp>
                  <p:nvSpPr>
                    <p:cNvPr id="1289" name="Rectangle 647"/>
                    <p:cNvSpPr/>
                    <p:nvPr/>
                  </p:nvSpPr>
                  <p:spPr>
                    <a:xfrm>
                      <a:off x="2324160" y="3025800"/>
                      <a:ext cx="22968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90" name="Rectangle 648"/>
                    <p:cNvSpPr/>
                    <p:nvPr/>
                  </p:nvSpPr>
                  <p:spPr>
                    <a:xfrm>
                      <a:off x="2270160" y="302580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91" name="Group 649"/>
                  <p:cNvGrpSpPr/>
                  <p:nvPr/>
                </p:nvGrpSpPr>
                <p:grpSpPr>
                  <a:xfrm>
                    <a:off x="2608200" y="3025800"/>
                    <a:ext cx="336600" cy="314280"/>
                    <a:chOff x="2608200" y="3025800"/>
                    <a:chExt cx="336600" cy="314280"/>
                  </a:xfrm>
                </p:grpSpPr>
                <p:sp>
                  <p:nvSpPr>
                    <p:cNvPr id="1292" name="Rectangle 650"/>
                    <p:cNvSpPr/>
                    <p:nvPr/>
                  </p:nvSpPr>
                  <p:spPr>
                    <a:xfrm>
                      <a:off x="2661840" y="302580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93" name="Rectangle 651"/>
                    <p:cNvSpPr/>
                    <p:nvPr/>
                  </p:nvSpPr>
                  <p:spPr>
                    <a:xfrm>
                      <a:off x="2608200" y="30258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94" name="Group 652"/>
                  <p:cNvGrpSpPr/>
                  <p:nvPr/>
                </p:nvGrpSpPr>
                <p:grpSpPr>
                  <a:xfrm>
                    <a:off x="2944800" y="3025800"/>
                    <a:ext cx="339480" cy="314280"/>
                    <a:chOff x="2944800" y="3025800"/>
                    <a:chExt cx="339480" cy="314280"/>
                  </a:xfrm>
                </p:grpSpPr>
                <p:sp>
                  <p:nvSpPr>
                    <p:cNvPr id="1295" name="Rectangle 653"/>
                    <p:cNvSpPr/>
                    <p:nvPr/>
                  </p:nvSpPr>
                  <p:spPr>
                    <a:xfrm>
                      <a:off x="2999160" y="3025800"/>
                      <a:ext cx="2304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96" name="Rectangle 654"/>
                    <p:cNvSpPr/>
                    <p:nvPr/>
                  </p:nvSpPr>
                  <p:spPr>
                    <a:xfrm>
                      <a:off x="2944800" y="3025800"/>
                      <a:ext cx="33948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97" name="Group 655"/>
                  <p:cNvGrpSpPr/>
                  <p:nvPr/>
                </p:nvGrpSpPr>
                <p:grpSpPr>
                  <a:xfrm>
                    <a:off x="3284280" y="3025800"/>
                    <a:ext cx="338400" cy="314280"/>
                    <a:chOff x="3284280" y="3025800"/>
                    <a:chExt cx="338400" cy="314280"/>
                  </a:xfrm>
                </p:grpSpPr>
                <p:sp>
                  <p:nvSpPr>
                    <p:cNvPr id="1298" name="Rectangle 656"/>
                    <p:cNvSpPr/>
                    <p:nvPr/>
                  </p:nvSpPr>
                  <p:spPr>
                    <a:xfrm>
                      <a:off x="3338640" y="302580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99" name="Rectangle 657"/>
                    <p:cNvSpPr/>
                    <p:nvPr/>
                  </p:nvSpPr>
                  <p:spPr>
                    <a:xfrm>
                      <a:off x="3284280" y="3025800"/>
                      <a:ext cx="3384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00" name="Group 658"/>
                  <p:cNvGrpSpPr/>
                  <p:nvPr/>
                </p:nvGrpSpPr>
                <p:grpSpPr>
                  <a:xfrm>
                    <a:off x="3622680" y="3025800"/>
                    <a:ext cx="336600" cy="314280"/>
                    <a:chOff x="3622680" y="3025800"/>
                    <a:chExt cx="336600" cy="314280"/>
                  </a:xfrm>
                </p:grpSpPr>
                <p:sp>
                  <p:nvSpPr>
                    <p:cNvPr id="1301" name="Rectangle 659"/>
                    <p:cNvSpPr/>
                    <p:nvPr/>
                  </p:nvSpPr>
                  <p:spPr>
                    <a:xfrm>
                      <a:off x="3676680" y="302580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02" name="Rectangle 660"/>
                    <p:cNvSpPr/>
                    <p:nvPr/>
                  </p:nvSpPr>
                  <p:spPr>
                    <a:xfrm>
                      <a:off x="3622680" y="30258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03" name="Group 661"/>
                  <p:cNvGrpSpPr/>
                  <p:nvPr/>
                </p:nvGrpSpPr>
                <p:grpSpPr>
                  <a:xfrm>
                    <a:off x="582480" y="3340080"/>
                    <a:ext cx="336600" cy="314280"/>
                    <a:chOff x="582480" y="3340080"/>
                    <a:chExt cx="336600" cy="314280"/>
                  </a:xfrm>
                </p:grpSpPr>
                <p:sp>
                  <p:nvSpPr>
                    <p:cNvPr id="1304" name="Rectangle 662"/>
                    <p:cNvSpPr/>
                    <p:nvPr/>
                  </p:nvSpPr>
                  <p:spPr>
                    <a:xfrm>
                      <a:off x="636120" y="33400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05" name="Rectangle 663"/>
                    <p:cNvSpPr/>
                    <p:nvPr/>
                  </p:nvSpPr>
                  <p:spPr>
                    <a:xfrm>
                      <a:off x="582480" y="33400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06" name="Group 664"/>
                  <p:cNvGrpSpPr/>
                  <p:nvPr/>
                </p:nvGrpSpPr>
                <p:grpSpPr>
                  <a:xfrm>
                    <a:off x="919080" y="3340080"/>
                    <a:ext cx="339840" cy="314280"/>
                    <a:chOff x="919080" y="3340080"/>
                    <a:chExt cx="339840" cy="314280"/>
                  </a:xfrm>
                </p:grpSpPr>
                <p:sp>
                  <p:nvSpPr>
                    <p:cNvPr id="1307" name="Rectangle 665"/>
                    <p:cNvSpPr/>
                    <p:nvPr/>
                  </p:nvSpPr>
                  <p:spPr>
                    <a:xfrm>
                      <a:off x="973440" y="3340080"/>
                      <a:ext cx="23076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08" name="Rectangle 666"/>
                    <p:cNvSpPr/>
                    <p:nvPr/>
                  </p:nvSpPr>
                  <p:spPr>
                    <a:xfrm>
                      <a:off x="919080" y="3340080"/>
                      <a:ext cx="3398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09" name="Group 667"/>
                  <p:cNvGrpSpPr/>
                  <p:nvPr/>
                </p:nvGrpSpPr>
                <p:grpSpPr>
                  <a:xfrm>
                    <a:off x="1258920" y="3340080"/>
                    <a:ext cx="336600" cy="314280"/>
                    <a:chOff x="1258920" y="3340080"/>
                    <a:chExt cx="336600" cy="314280"/>
                  </a:xfrm>
                </p:grpSpPr>
                <p:sp>
                  <p:nvSpPr>
                    <p:cNvPr id="1310" name="Rectangle 668"/>
                    <p:cNvSpPr/>
                    <p:nvPr/>
                  </p:nvSpPr>
                  <p:spPr>
                    <a:xfrm>
                      <a:off x="1312920" y="33400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11" name="Rectangle 669"/>
                    <p:cNvSpPr/>
                    <p:nvPr/>
                  </p:nvSpPr>
                  <p:spPr>
                    <a:xfrm>
                      <a:off x="1258920" y="33400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12" name="Group 670"/>
                  <p:cNvGrpSpPr/>
                  <p:nvPr/>
                </p:nvGrpSpPr>
                <p:grpSpPr>
                  <a:xfrm>
                    <a:off x="1595520" y="3340080"/>
                    <a:ext cx="338040" cy="314280"/>
                    <a:chOff x="1595520" y="3340080"/>
                    <a:chExt cx="338040" cy="314280"/>
                  </a:xfrm>
                </p:grpSpPr>
                <p:sp>
                  <p:nvSpPr>
                    <p:cNvPr id="1313" name="Rectangle 671"/>
                    <p:cNvSpPr/>
                    <p:nvPr/>
                  </p:nvSpPr>
                  <p:spPr>
                    <a:xfrm>
                      <a:off x="1649520" y="334008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14" name="Rectangle 672"/>
                    <p:cNvSpPr/>
                    <p:nvPr/>
                  </p:nvSpPr>
                  <p:spPr>
                    <a:xfrm>
                      <a:off x="1595520" y="334008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15" name="Group 673"/>
                  <p:cNvGrpSpPr/>
                  <p:nvPr/>
                </p:nvGrpSpPr>
                <p:grpSpPr>
                  <a:xfrm>
                    <a:off x="2608200" y="3340080"/>
                    <a:ext cx="336600" cy="314280"/>
                    <a:chOff x="2608200" y="3340080"/>
                    <a:chExt cx="336600" cy="314280"/>
                  </a:xfrm>
                </p:grpSpPr>
                <p:sp>
                  <p:nvSpPr>
                    <p:cNvPr id="1316" name="Rectangle 674"/>
                    <p:cNvSpPr/>
                    <p:nvPr/>
                  </p:nvSpPr>
                  <p:spPr>
                    <a:xfrm>
                      <a:off x="2661840" y="33400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17" name="Rectangle 675"/>
                    <p:cNvSpPr/>
                    <p:nvPr/>
                  </p:nvSpPr>
                  <p:spPr>
                    <a:xfrm>
                      <a:off x="2608200" y="33400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18" name="Group 676"/>
                  <p:cNvGrpSpPr/>
                  <p:nvPr/>
                </p:nvGrpSpPr>
                <p:grpSpPr>
                  <a:xfrm>
                    <a:off x="2944800" y="3340080"/>
                    <a:ext cx="339480" cy="314280"/>
                    <a:chOff x="2944800" y="3340080"/>
                    <a:chExt cx="339480" cy="314280"/>
                  </a:xfrm>
                </p:grpSpPr>
                <p:sp>
                  <p:nvSpPr>
                    <p:cNvPr id="1319" name="Rectangle 677"/>
                    <p:cNvSpPr/>
                    <p:nvPr/>
                  </p:nvSpPr>
                  <p:spPr>
                    <a:xfrm>
                      <a:off x="2999160" y="3340080"/>
                      <a:ext cx="2304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20" name="Rectangle 678"/>
                    <p:cNvSpPr/>
                    <p:nvPr/>
                  </p:nvSpPr>
                  <p:spPr>
                    <a:xfrm>
                      <a:off x="2944800" y="3340080"/>
                      <a:ext cx="33948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21" name="Group 679"/>
                  <p:cNvGrpSpPr/>
                  <p:nvPr/>
                </p:nvGrpSpPr>
                <p:grpSpPr>
                  <a:xfrm>
                    <a:off x="3284280" y="3340080"/>
                    <a:ext cx="338400" cy="314280"/>
                    <a:chOff x="3284280" y="3340080"/>
                    <a:chExt cx="338400" cy="314280"/>
                  </a:xfrm>
                </p:grpSpPr>
                <p:sp>
                  <p:nvSpPr>
                    <p:cNvPr id="1322" name="Rectangle 680"/>
                    <p:cNvSpPr/>
                    <p:nvPr/>
                  </p:nvSpPr>
                  <p:spPr>
                    <a:xfrm>
                      <a:off x="3338640" y="334008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23" name="Rectangle 681"/>
                    <p:cNvSpPr/>
                    <p:nvPr/>
                  </p:nvSpPr>
                  <p:spPr>
                    <a:xfrm>
                      <a:off x="3284280" y="3340080"/>
                      <a:ext cx="3384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24" name="Group 682"/>
                  <p:cNvGrpSpPr/>
                  <p:nvPr/>
                </p:nvGrpSpPr>
                <p:grpSpPr>
                  <a:xfrm>
                    <a:off x="3622680" y="3340080"/>
                    <a:ext cx="336600" cy="314280"/>
                    <a:chOff x="3622680" y="3340080"/>
                    <a:chExt cx="336600" cy="314280"/>
                  </a:xfrm>
                </p:grpSpPr>
                <p:sp>
                  <p:nvSpPr>
                    <p:cNvPr id="1325" name="Rectangle 683"/>
                    <p:cNvSpPr/>
                    <p:nvPr/>
                  </p:nvSpPr>
                  <p:spPr>
                    <a:xfrm>
                      <a:off x="3676680" y="334008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26" name="Rectangle 684"/>
                    <p:cNvSpPr/>
                    <p:nvPr/>
                  </p:nvSpPr>
                  <p:spPr>
                    <a:xfrm>
                      <a:off x="3622680" y="33400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27" name="Group 685"/>
                  <p:cNvGrpSpPr/>
                  <p:nvPr/>
                </p:nvGrpSpPr>
                <p:grpSpPr>
                  <a:xfrm>
                    <a:off x="582480" y="3654360"/>
                    <a:ext cx="336600" cy="312840"/>
                    <a:chOff x="582480" y="3654360"/>
                    <a:chExt cx="336600" cy="312840"/>
                  </a:xfrm>
                </p:grpSpPr>
                <p:sp>
                  <p:nvSpPr>
                    <p:cNvPr id="1328" name="Rectangle 686"/>
                    <p:cNvSpPr/>
                    <p:nvPr/>
                  </p:nvSpPr>
                  <p:spPr>
                    <a:xfrm>
                      <a:off x="636120" y="365436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29" name="Rectangle 687"/>
                    <p:cNvSpPr/>
                    <p:nvPr/>
                  </p:nvSpPr>
                  <p:spPr>
                    <a:xfrm>
                      <a:off x="582480" y="36543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30" name="Group 688"/>
                  <p:cNvGrpSpPr/>
                  <p:nvPr/>
                </p:nvGrpSpPr>
                <p:grpSpPr>
                  <a:xfrm>
                    <a:off x="919080" y="3654360"/>
                    <a:ext cx="339840" cy="312840"/>
                    <a:chOff x="919080" y="3654360"/>
                    <a:chExt cx="339840" cy="312840"/>
                  </a:xfrm>
                </p:grpSpPr>
                <p:sp>
                  <p:nvSpPr>
                    <p:cNvPr id="1331" name="Rectangle 689"/>
                    <p:cNvSpPr/>
                    <p:nvPr/>
                  </p:nvSpPr>
                  <p:spPr>
                    <a:xfrm>
                      <a:off x="973440" y="3654360"/>
                      <a:ext cx="23076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32" name="Rectangle 690"/>
                    <p:cNvSpPr/>
                    <p:nvPr/>
                  </p:nvSpPr>
                  <p:spPr>
                    <a:xfrm>
                      <a:off x="919080" y="3654360"/>
                      <a:ext cx="3398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33" name="Group 691"/>
                  <p:cNvGrpSpPr/>
                  <p:nvPr/>
                </p:nvGrpSpPr>
                <p:grpSpPr>
                  <a:xfrm>
                    <a:off x="1258920" y="3654360"/>
                    <a:ext cx="336600" cy="312840"/>
                    <a:chOff x="1258920" y="3654360"/>
                    <a:chExt cx="336600" cy="312840"/>
                  </a:xfrm>
                </p:grpSpPr>
                <p:sp>
                  <p:nvSpPr>
                    <p:cNvPr id="1334" name="Rectangle 692"/>
                    <p:cNvSpPr/>
                    <p:nvPr/>
                  </p:nvSpPr>
                  <p:spPr>
                    <a:xfrm>
                      <a:off x="1312920" y="365436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35" name="Rectangle 693"/>
                    <p:cNvSpPr/>
                    <p:nvPr/>
                  </p:nvSpPr>
                  <p:spPr>
                    <a:xfrm>
                      <a:off x="1258920" y="36543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36" name="Group 694"/>
                  <p:cNvGrpSpPr/>
                  <p:nvPr/>
                </p:nvGrpSpPr>
                <p:grpSpPr>
                  <a:xfrm>
                    <a:off x="1595520" y="3654360"/>
                    <a:ext cx="338040" cy="312840"/>
                    <a:chOff x="1595520" y="3654360"/>
                    <a:chExt cx="338040" cy="312840"/>
                  </a:xfrm>
                </p:grpSpPr>
                <p:sp>
                  <p:nvSpPr>
                    <p:cNvPr id="1337" name="Rectangle 695"/>
                    <p:cNvSpPr/>
                    <p:nvPr/>
                  </p:nvSpPr>
                  <p:spPr>
                    <a:xfrm>
                      <a:off x="1649520" y="3654360"/>
                      <a:ext cx="22932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38" name="Rectangle 696"/>
                    <p:cNvSpPr/>
                    <p:nvPr/>
                  </p:nvSpPr>
                  <p:spPr>
                    <a:xfrm>
                      <a:off x="1595520" y="3654360"/>
                      <a:ext cx="3380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39" name="Group 697"/>
                  <p:cNvGrpSpPr/>
                  <p:nvPr/>
                </p:nvGrpSpPr>
                <p:grpSpPr>
                  <a:xfrm>
                    <a:off x="2270160" y="3654360"/>
                    <a:ext cx="338040" cy="312840"/>
                    <a:chOff x="2270160" y="3654360"/>
                    <a:chExt cx="338040" cy="312840"/>
                  </a:xfrm>
                </p:grpSpPr>
                <p:sp>
                  <p:nvSpPr>
                    <p:cNvPr id="1340" name="Rectangle 698"/>
                    <p:cNvSpPr/>
                    <p:nvPr/>
                  </p:nvSpPr>
                  <p:spPr>
                    <a:xfrm>
                      <a:off x="2324160" y="3654360"/>
                      <a:ext cx="22968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41" name="Rectangle 699"/>
                    <p:cNvSpPr/>
                    <p:nvPr/>
                  </p:nvSpPr>
                  <p:spPr>
                    <a:xfrm>
                      <a:off x="2270160" y="3654360"/>
                      <a:ext cx="33804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42" name="Group 700"/>
                  <p:cNvGrpSpPr/>
                  <p:nvPr/>
                </p:nvGrpSpPr>
                <p:grpSpPr>
                  <a:xfrm>
                    <a:off x="2608200" y="3654360"/>
                    <a:ext cx="336600" cy="312840"/>
                    <a:chOff x="2608200" y="3654360"/>
                    <a:chExt cx="336600" cy="312840"/>
                  </a:xfrm>
                </p:grpSpPr>
                <p:sp>
                  <p:nvSpPr>
                    <p:cNvPr id="1343" name="Rectangle 701"/>
                    <p:cNvSpPr/>
                    <p:nvPr/>
                  </p:nvSpPr>
                  <p:spPr>
                    <a:xfrm>
                      <a:off x="2661840" y="3654360"/>
                      <a:ext cx="2286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44" name="Rectangle 702"/>
                    <p:cNvSpPr/>
                    <p:nvPr/>
                  </p:nvSpPr>
                  <p:spPr>
                    <a:xfrm>
                      <a:off x="2608200" y="36543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45" name="Group 703"/>
                  <p:cNvGrpSpPr/>
                  <p:nvPr/>
                </p:nvGrpSpPr>
                <p:grpSpPr>
                  <a:xfrm>
                    <a:off x="2944800" y="3654360"/>
                    <a:ext cx="339480" cy="312840"/>
                    <a:chOff x="2944800" y="3654360"/>
                    <a:chExt cx="339480" cy="312840"/>
                  </a:xfrm>
                </p:grpSpPr>
                <p:sp>
                  <p:nvSpPr>
                    <p:cNvPr id="1346" name="Rectangle 704"/>
                    <p:cNvSpPr/>
                    <p:nvPr/>
                  </p:nvSpPr>
                  <p:spPr>
                    <a:xfrm>
                      <a:off x="2999160" y="3654360"/>
                      <a:ext cx="23040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47" name="Rectangle 705"/>
                    <p:cNvSpPr/>
                    <p:nvPr/>
                  </p:nvSpPr>
                  <p:spPr>
                    <a:xfrm>
                      <a:off x="2944800" y="3654360"/>
                      <a:ext cx="33948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48" name="Group 706"/>
                  <p:cNvGrpSpPr/>
                  <p:nvPr/>
                </p:nvGrpSpPr>
                <p:grpSpPr>
                  <a:xfrm>
                    <a:off x="3284280" y="3654360"/>
                    <a:ext cx="338400" cy="312840"/>
                    <a:chOff x="3284280" y="3654360"/>
                    <a:chExt cx="338400" cy="312840"/>
                  </a:xfrm>
                </p:grpSpPr>
                <p:sp>
                  <p:nvSpPr>
                    <p:cNvPr id="1349" name="Rectangle 707"/>
                    <p:cNvSpPr/>
                    <p:nvPr/>
                  </p:nvSpPr>
                  <p:spPr>
                    <a:xfrm>
                      <a:off x="3338640" y="3654360"/>
                      <a:ext cx="22932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50" name="Rectangle 708"/>
                    <p:cNvSpPr/>
                    <p:nvPr/>
                  </p:nvSpPr>
                  <p:spPr>
                    <a:xfrm>
                      <a:off x="3284280" y="3654360"/>
                      <a:ext cx="3384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51" name="Group 709"/>
                  <p:cNvGrpSpPr/>
                  <p:nvPr/>
                </p:nvGrpSpPr>
                <p:grpSpPr>
                  <a:xfrm>
                    <a:off x="3622680" y="3654360"/>
                    <a:ext cx="336600" cy="312840"/>
                    <a:chOff x="3622680" y="3654360"/>
                    <a:chExt cx="336600" cy="312840"/>
                  </a:xfrm>
                </p:grpSpPr>
                <p:sp>
                  <p:nvSpPr>
                    <p:cNvPr id="1352" name="Rectangle 710"/>
                    <p:cNvSpPr/>
                    <p:nvPr/>
                  </p:nvSpPr>
                  <p:spPr>
                    <a:xfrm>
                      <a:off x="3676680" y="3654360"/>
                      <a:ext cx="22824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53" name="Rectangle 711"/>
                    <p:cNvSpPr/>
                    <p:nvPr/>
                  </p:nvSpPr>
                  <p:spPr>
                    <a:xfrm>
                      <a:off x="3622680" y="3654360"/>
                      <a:ext cx="336600" cy="312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54" name="Group 712"/>
                  <p:cNvGrpSpPr/>
                  <p:nvPr/>
                </p:nvGrpSpPr>
                <p:grpSpPr>
                  <a:xfrm>
                    <a:off x="582480" y="3967200"/>
                    <a:ext cx="336600" cy="314280"/>
                    <a:chOff x="582480" y="3967200"/>
                    <a:chExt cx="336600" cy="314280"/>
                  </a:xfrm>
                </p:grpSpPr>
                <p:sp>
                  <p:nvSpPr>
                    <p:cNvPr id="1355" name="Rectangle 713"/>
                    <p:cNvSpPr/>
                    <p:nvPr/>
                  </p:nvSpPr>
                  <p:spPr>
                    <a:xfrm>
                      <a:off x="636120" y="396720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56" name="Rectangle 714"/>
                    <p:cNvSpPr/>
                    <p:nvPr/>
                  </p:nvSpPr>
                  <p:spPr>
                    <a:xfrm>
                      <a:off x="582480" y="39672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57" name="Group 715"/>
                  <p:cNvGrpSpPr/>
                  <p:nvPr/>
                </p:nvGrpSpPr>
                <p:grpSpPr>
                  <a:xfrm>
                    <a:off x="919080" y="3967200"/>
                    <a:ext cx="339840" cy="314280"/>
                    <a:chOff x="919080" y="3967200"/>
                    <a:chExt cx="339840" cy="314280"/>
                  </a:xfrm>
                </p:grpSpPr>
                <p:sp>
                  <p:nvSpPr>
                    <p:cNvPr id="1358" name="Rectangle 716"/>
                    <p:cNvSpPr/>
                    <p:nvPr/>
                  </p:nvSpPr>
                  <p:spPr>
                    <a:xfrm>
                      <a:off x="973440" y="3967200"/>
                      <a:ext cx="23076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59" name="Rectangle 717"/>
                    <p:cNvSpPr/>
                    <p:nvPr/>
                  </p:nvSpPr>
                  <p:spPr>
                    <a:xfrm>
                      <a:off x="919080" y="3967200"/>
                      <a:ext cx="3398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60" name="Group 718"/>
                  <p:cNvGrpSpPr/>
                  <p:nvPr/>
                </p:nvGrpSpPr>
                <p:grpSpPr>
                  <a:xfrm>
                    <a:off x="1258920" y="3967200"/>
                    <a:ext cx="336600" cy="314280"/>
                    <a:chOff x="1258920" y="3967200"/>
                    <a:chExt cx="336600" cy="314280"/>
                  </a:xfrm>
                </p:grpSpPr>
                <p:sp>
                  <p:nvSpPr>
                    <p:cNvPr id="1361" name="Rectangle 719"/>
                    <p:cNvSpPr/>
                    <p:nvPr/>
                  </p:nvSpPr>
                  <p:spPr>
                    <a:xfrm>
                      <a:off x="1312920" y="396720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62" name="Rectangle 720"/>
                    <p:cNvSpPr/>
                    <p:nvPr/>
                  </p:nvSpPr>
                  <p:spPr>
                    <a:xfrm>
                      <a:off x="1258920" y="39672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63" name="Group 721"/>
                  <p:cNvGrpSpPr/>
                  <p:nvPr/>
                </p:nvGrpSpPr>
                <p:grpSpPr>
                  <a:xfrm>
                    <a:off x="1595520" y="3967200"/>
                    <a:ext cx="338040" cy="314280"/>
                    <a:chOff x="1595520" y="3967200"/>
                    <a:chExt cx="338040" cy="314280"/>
                  </a:xfrm>
                </p:grpSpPr>
                <p:sp>
                  <p:nvSpPr>
                    <p:cNvPr id="1364" name="Rectangle 722"/>
                    <p:cNvSpPr/>
                    <p:nvPr/>
                  </p:nvSpPr>
                  <p:spPr>
                    <a:xfrm>
                      <a:off x="1649520" y="396720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65" name="Rectangle 723"/>
                    <p:cNvSpPr/>
                    <p:nvPr/>
                  </p:nvSpPr>
                  <p:spPr>
                    <a:xfrm>
                      <a:off x="1595520" y="396720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66" name="Group 724"/>
                  <p:cNvGrpSpPr/>
                  <p:nvPr/>
                </p:nvGrpSpPr>
                <p:grpSpPr>
                  <a:xfrm>
                    <a:off x="1933560" y="3967200"/>
                    <a:ext cx="336600" cy="314280"/>
                    <a:chOff x="1933560" y="3967200"/>
                    <a:chExt cx="336600" cy="314280"/>
                  </a:xfrm>
                </p:grpSpPr>
                <p:sp>
                  <p:nvSpPr>
                    <p:cNvPr id="1367" name="Rectangle 725"/>
                    <p:cNvSpPr/>
                    <p:nvPr/>
                  </p:nvSpPr>
                  <p:spPr>
                    <a:xfrm>
                      <a:off x="1987560" y="396720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68" name="Rectangle 726"/>
                    <p:cNvSpPr/>
                    <p:nvPr/>
                  </p:nvSpPr>
                  <p:spPr>
                    <a:xfrm>
                      <a:off x="1933560" y="39672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69" name="Group 727"/>
                  <p:cNvGrpSpPr/>
                  <p:nvPr/>
                </p:nvGrpSpPr>
                <p:grpSpPr>
                  <a:xfrm>
                    <a:off x="2270160" y="3967200"/>
                    <a:ext cx="338040" cy="314280"/>
                    <a:chOff x="2270160" y="3967200"/>
                    <a:chExt cx="338040" cy="314280"/>
                  </a:xfrm>
                </p:grpSpPr>
                <p:sp>
                  <p:nvSpPr>
                    <p:cNvPr id="1370" name="Rectangle 728"/>
                    <p:cNvSpPr/>
                    <p:nvPr/>
                  </p:nvSpPr>
                  <p:spPr>
                    <a:xfrm>
                      <a:off x="2324160" y="3967200"/>
                      <a:ext cx="22968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71" name="Rectangle 729"/>
                    <p:cNvSpPr/>
                    <p:nvPr/>
                  </p:nvSpPr>
                  <p:spPr>
                    <a:xfrm>
                      <a:off x="2270160" y="396720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72" name="Group 730"/>
                  <p:cNvGrpSpPr/>
                  <p:nvPr/>
                </p:nvGrpSpPr>
                <p:grpSpPr>
                  <a:xfrm>
                    <a:off x="2608200" y="3967200"/>
                    <a:ext cx="336600" cy="314280"/>
                    <a:chOff x="2608200" y="3967200"/>
                    <a:chExt cx="336600" cy="314280"/>
                  </a:xfrm>
                </p:grpSpPr>
                <p:sp>
                  <p:nvSpPr>
                    <p:cNvPr id="1373" name="Rectangle 731"/>
                    <p:cNvSpPr/>
                    <p:nvPr/>
                  </p:nvSpPr>
                  <p:spPr>
                    <a:xfrm>
                      <a:off x="2661840" y="396720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74" name="Rectangle 732"/>
                    <p:cNvSpPr/>
                    <p:nvPr/>
                  </p:nvSpPr>
                  <p:spPr>
                    <a:xfrm>
                      <a:off x="2608200" y="39672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75" name="Group 733"/>
                  <p:cNvGrpSpPr/>
                  <p:nvPr/>
                </p:nvGrpSpPr>
                <p:grpSpPr>
                  <a:xfrm>
                    <a:off x="2944800" y="3967200"/>
                    <a:ext cx="339480" cy="314280"/>
                    <a:chOff x="2944800" y="3967200"/>
                    <a:chExt cx="339480" cy="314280"/>
                  </a:xfrm>
                </p:grpSpPr>
                <p:sp>
                  <p:nvSpPr>
                    <p:cNvPr id="1376" name="Rectangle 734"/>
                    <p:cNvSpPr/>
                    <p:nvPr/>
                  </p:nvSpPr>
                  <p:spPr>
                    <a:xfrm>
                      <a:off x="2999160" y="3967200"/>
                      <a:ext cx="2304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77" name="Rectangle 735"/>
                    <p:cNvSpPr/>
                    <p:nvPr/>
                  </p:nvSpPr>
                  <p:spPr>
                    <a:xfrm>
                      <a:off x="2944800" y="3967200"/>
                      <a:ext cx="33948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78" name="Group 736"/>
                  <p:cNvGrpSpPr/>
                  <p:nvPr/>
                </p:nvGrpSpPr>
                <p:grpSpPr>
                  <a:xfrm>
                    <a:off x="3284280" y="3967200"/>
                    <a:ext cx="338400" cy="314280"/>
                    <a:chOff x="3284280" y="3967200"/>
                    <a:chExt cx="338400" cy="314280"/>
                  </a:xfrm>
                </p:grpSpPr>
                <p:sp>
                  <p:nvSpPr>
                    <p:cNvPr id="1379" name="Rectangle 737"/>
                    <p:cNvSpPr/>
                    <p:nvPr/>
                  </p:nvSpPr>
                  <p:spPr>
                    <a:xfrm>
                      <a:off x="3338640" y="396720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80" name="Rectangle 738"/>
                    <p:cNvSpPr/>
                    <p:nvPr/>
                  </p:nvSpPr>
                  <p:spPr>
                    <a:xfrm>
                      <a:off x="3284280" y="3967200"/>
                      <a:ext cx="3384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81" name="Group 739"/>
                  <p:cNvGrpSpPr/>
                  <p:nvPr/>
                </p:nvGrpSpPr>
                <p:grpSpPr>
                  <a:xfrm>
                    <a:off x="3622680" y="3967200"/>
                    <a:ext cx="336600" cy="314280"/>
                    <a:chOff x="3622680" y="3967200"/>
                    <a:chExt cx="336600" cy="314280"/>
                  </a:xfrm>
                </p:grpSpPr>
                <p:sp>
                  <p:nvSpPr>
                    <p:cNvPr id="1382" name="Rectangle 740"/>
                    <p:cNvSpPr/>
                    <p:nvPr/>
                  </p:nvSpPr>
                  <p:spPr>
                    <a:xfrm>
                      <a:off x="3676680" y="396720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83" name="Rectangle 741"/>
                    <p:cNvSpPr/>
                    <p:nvPr/>
                  </p:nvSpPr>
                  <p:spPr>
                    <a:xfrm>
                      <a:off x="3622680" y="396720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84" name="Group 742"/>
                  <p:cNvGrpSpPr/>
                  <p:nvPr/>
                </p:nvGrpSpPr>
                <p:grpSpPr>
                  <a:xfrm>
                    <a:off x="582480" y="4281480"/>
                    <a:ext cx="336600" cy="314280"/>
                    <a:chOff x="582480" y="4281480"/>
                    <a:chExt cx="336600" cy="314280"/>
                  </a:xfrm>
                </p:grpSpPr>
                <p:sp>
                  <p:nvSpPr>
                    <p:cNvPr id="1385" name="Rectangle 743"/>
                    <p:cNvSpPr/>
                    <p:nvPr/>
                  </p:nvSpPr>
                  <p:spPr>
                    <a:xfrm>
                      <a:off x="636120" y="42814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86" name="Rectangle 744"/>
                    <p:cNvSpPr/>
                    <p:nvPr/>
                  </p:nvSpPr>
                  <p:spPr>
                    <a:xfrm>
                      <a:off x="582480" y="42814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87" name="Group 745"/>
                  <p:cNvGrpSpPr/>
                  <p:nvPr/>
                </p:nvGrpSpPr>
                <p:grpSpPr>
                  <a:xfrm>
                    <a:off x="919080" y="4281480"/>
                    <a:ext cx="339840" cy="314280"/>
                    <a:chOff x="919080" y="4281480"/>
                    <a:chExt cx="339840" cy="314280"/>
                  </a:xfrm>
                </p:grpSpPr>
                <p:sp>
                  <p:nvSpPr>
                    <p:cNvPr id="1388" name="Rectangle 746"/>
                    <p:cNvSpPr/>
                    <p:nvPr/>
                  </p:nvSpPr>
                  <p:spPr>
                    <a:xfrm>
                      <a:off x="973440" y="4281480"/>
                      <a:ext cx="23076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89" name="Rectangle 747"/>
                    <p:cNvSpPr/>
                    <p:nvPr/>
                  </p:nvSpPr>
                  <p:spPr>
                    <a:xfrm>
                      <a:off x="919080" y="4281480"/>
                      <a:ext cx="3398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90" name="Group 748"/>
                  <p:cNvGrpSpPr/>
                  <p:nvPr/>
                </p:nvGrpSpPr>
                <p:grpSpPr>
                  <a:xfrm>
                    <a:off x="1258920" y="4281480"/>
                    <a:ext cx="336600" cy="314280"/>
                    <a:chOff x="1258920" y="4281480"/>
                    <a:chExt cx="336600" cy="314280"/>
                  </a:xfrm>
                </p:grpSpPr>
                <p:sp>
                  <p:nvSpPr>
                    <p:cNvPr id="1391" name="Rectangle 749"/>
                    <p:cNvSpPr/>
                    <p:nvPr/>
                  </p:nvSpPr>
                  <p:spPr>
                    <a:xfrm>
                      <a:off x="1312920" y="42814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92" name="Rectangle 750"/>
                    <p:cNvSpPr/>
                    <p:nvPr/>
                  </p:nvSpPr>
                  <p:spPr>
                    <a:xfrm>
                      <a:off x="1258920" y="42814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93" name="Group 751"/>
                  <p:cNvGrpSpPr/>
                  <p:nvPr/>
                </p:nvGrpSpPr>
                <p:grpSpPr>
                  <a:xfrm>
                    <a:off x="1595520" y="4281480"/>
                    <a:ext cx="338040" cy="314280"/>
                    <a:chOff x="1595520" y="4281480"/>
                    <a:chExt cx="338040" cy="314280"/>
                  </a:xfrm>
                </p:grpSpPr>
                <p:sp>
                  <p:nvSpPr>
                    <p:cNvPr id="1394" name="Rectangle 752"/>
                    <p:cNvSpPr/>
                    <p:nvPr/>
                  </p:nvSpPr>
                  <p:spPr>
                    <a:xfrm>
                      <a:off x="1649520" y="428148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95" name="Rectangle 753"/>
                    <p:cNvSpPr/>
                    <p:nvPr/>
                  </p:nvSpPr>
                  <p:spPr>
                    <a:xfrm>
                      <a:off x="1595520" y="428148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96" name="Group 754"/>
                  <p:cNvGrpSpPr/>
                  <p:nvPr/>
                </p:nvGrpSpPr>
                <p:grpSpPr>
                  <a:xfrm>
                    <a:off x="1933560" y="4281480"/>
                    <a:ext cx="336600" cy="314280"/>
                    <a:chOff x="1933560" y="4281480"/>
                    <a:chExt cx="336600" cy="314280"/>
                  </a:xfrm>
                </p:grpSpPr>
                <p:sp>
                  <p:nvSpPr>
                    <p:cNvPr id="1397" name="Rectangle 755"/>
                    <p:cNvSpPr/>
                    <p:nvPr/>
                  </p:nvSpPr>
                  <p:spPr>
                    <a:xfrm>
                      <a:off x="1987560" y="428148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98" name="Rectangle 756"/>
                    <p:cNvSpPr/>
                    <p:nvPr/>
                  </p:nvSpPr>
                  <p:spPr>
                    <a:xfrm>
                      <a:off x="1933560" y="42814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99" name="Group 757"/>
                  <p:cNvGrpSpPr/>
                  <p:nvPr/>
                </p:nvGrpSpPr>
                <p:grpSpPr>
                  <a:xfrm>
                    <a:off x="2270160" y="4281480"/>
                    <a:ext cx="338040" cy="314280"/>
                    <a:chOff x="2270160" y="4281480"/>
                    <a:chExt cx="338040" cy="314280"/>
                  </a:xfrm>
                </p:grpSpPr>
                <p:sp>
                  <p:nvSpPr>
                    <p:cNvPr id="1400" name="Rectangle 758"/>
                    <p:cNvSpPr/>
                    <p:nvPr/>
                  </p:nvSpPr>
                  <p:spPr>
                    <a:xfrm>
                      <a:off x="2324160" y="4281480"/>
                      <a:ext cx="22968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01" name="Rectangle 759"/>
                    <p:cNvSpPr/>
                    <p:nvPr/>
                  </p:nvSpPr>
                  <p:spPr>
                    <a:xfrm>
                      <a:off x="2270160" y="428148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02" name="Group 760"/>
                  <p:cNvGrpSpPr/>
                  <p:nvPr/>
                </p:nvGrpSpPr>
                <p:grpSpPr>
                  <a:xfrm>
                    <a:off x="2608200" y="4281480"/>
                    <a:ext cx="336600" cy="314280"/>
                    <a:chOff x="2608200" y="4281480"/>
                    <a:chExt cx="336600" cy="314280"/>
                  </a:xfrm>
                </p:grpSpPr>
                <p:sp>
                  <p:nvSpPr>
                    <p:cNvPr id="1403" name="Rectangle 761"/>
                    <p:cNvSpPr/>
                    <p:nvPr/>
                  </p:nvSpPr>
                  <p:spPr>
                    <a:xfrm>
                      <a:off x="2661840" y="428148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04" name="Rectangle 762"/>
                    <p:cNvSpPr/>
                    <p:nvPr/>
                  </p:nvSpPr>
                  <p:spPr>
                    <a:xfrm>
                      <a:off x="2608200" y="42814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05" name="Group 763"/>
                  <p:cNvGrpSpPr/>
                  <p:nvPr/>
                </p:nvGrpSpPr>
                <p:grpSpPr>
                  <a:xfrm>
                    <a:off x="2944800" y="4281480"/>
                    <a:ext cx="339480" cy="314280"/>
                    <a:chOff x="2944800" y="4281480"/>
                    <a:chExt cx="339480" cy="314280"/>
                  </a:xfrm>
                </p:grpSpPr>
                <p:sp>
                  <p:nvSpPr>
                    <p:cNvPr id="1406" name="Rectangle 764"/>
                    <p:cNvSpPr/>
                    <p:nvPr/>
                  </p:nvSpPr>
                  <p:spPr>
                    <a:xfrm>
                      <a:off x="2999160" y="4281480"/>
                      <a:ext cx="2304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07" name="Rectangle 765"/>
                    <p:cNvSpPr/>
                    <p:nvPr/>
                  </p:nvSpPr>
                  <p:spPr>
                    <a:xfrm>
                      <a:off x="2944800" y="4281480"/>
                      <a:ext cx="33948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08" name="Group 766"/>
                  <p:cNvGrpSpPr/>
                  <p:nvPr/>
                </p:nvGrpSpPr>
                <p:grpSpPr>
                  <a:xfrm>
                    <a:off x="3284280" y="4281480"/>
                    <a:ext cx="338400" cy="314280"/>
                    <a:chOff x="3284280" y="4281480"/>
                    <a:chExt cx="338400" cy="314280"/>
                  </a:xfrm>
                </p:grpSpPr>
                <p:sp>
                  <p:nvSpPr>
                    <p:cNvPr id="1409" name="Rectangle 767"/>
                    <p:cNvSpPr/>
                    <p:nvPr/>
                  </p:nvSpPr>
                  <p:spPr>
                    <a:xfrm>
                      <a:off x="3338640" y="428148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10" name="Rectangle 768"/>
                    <p:cNvSpPr/>
                    <p:nvPr/>
                  </p:nvSpPr>
                  <p:spPr>
                    <a:xfrm>
                      <a:off x="3284280" y="4281480"/>
                      <a:ext cx="3384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11" name="Group 769"/>
                  <p:cNvGrpSpPr/>
                  <p:nvPr/>
                </p:nvGrpSpPr>
                <p:grpSpPr>
                  <a:xfrm>
                    <a:off x="3622680" y="4281480"/>
                    <a:ext cx="336600" cy="314280"/>
                    <a:chOff x="3622680" y="4281480"/>
                    <a:chExt cx="336600" cy="314280"/>
                  </a:xfrm>
                </p:grpSpPr>
                <p:sp>
                  <p:nvSpPr>
                    <p:cNvPr id="1412" name="Rectangle 770"/>
                    <p:cNvSpPr/>
                    <p:nvPr/>
                  </p:nvSpPr>
                  <p:spPr>
                    <a:xfrm>
                      <a:off x="3676680" y="428148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13" name="Rectangle 771"/>
                    <p:cNvSpPr/>
                    <p:nvPr/>
                  </p:nvSpPr>
                  <p:spPr>
                    <a:xfrm>
                      <a:off x="3622680" y="428148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14" name="Group 772"/>
                  <p:cNvGrpSpPr/>
                  <p:nvPr/>
                </p:nvGrpSpPr>
                <p:grpSpPr>
                  <a:xfrm>
                    <a:off x="582480" y="4595760"/>
                    <a:ext cx="336600" cy="314280"/>
                    <a:chOff x="582480" y="4595760"/>
                    <a:chExt cx="336600" cy="314280"/>
                  </a:xfrm>
                </p:grpSpPr>
                <p:sp>
                  <p:nvSpPr>
                    <p:cNvPr id="1415" name="Rectangle 773"/>
                    <p:cNvSpPr/>
                    <p:nvPr/>
                  </p:nvSpPr>
                  <p:spPr>
                    <a:xfrm>
                      <a:off x="636120" y="459576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16" name="Rectangle 774"/>
                    <p:cNvSpPr/>
                    <p:nvPr/>
                  </p:nvSpPr>
                  <p:spPr>
                    <a:xfrm>
                      <a:off x="582480" y="459576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17" name="Group 775"/>
                  <p:cNvGrpSpPr/>
                  <p:nvPr/>
                </p:nvGrpSpPr>
                <p:grpSpPr>
                  <a:xfrm>
                    <a:off x="919080" y="4595760"/>
                    <a:ext cx="339840" cy="314280"/>
                    <a:chOff x="919080" y="4595760"/>
                    <a:chExt cx="339840" cy="314280"/>
                  </a:xfrm>
                </p:grpSpPr>
                <p:sp>
                  <p:nvSpPr>
                    <p:cNvPr id="1418" name="Rectangle 776"/>
                    <p:cNvSpPr/>
                    <p:nvPr/>
                  </p:nvSpPr>
                  <p:spPr>
                    <a:xfrm>
                      <a:off x="973440" y="4595760"/>
                      <a:ext cx="23076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19" name="Rectangle 777"/>
                    <p:cNvSpPr/>
                    <p:nvPr/>
                  </p:nvSpPr>
                  <p:spPr>
                    <a:xfrm>
                      <a:off x="919080" y="4595760"/>
                      <a:ext cx="3398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20" name="Group 778"/>
                  <p:cNvGrpSpPr/>
                  <p:nvPr/>
                </p:nvGrpSpPr>
                <p:grpSpPr>
                  <a:xfrm>
                    <a:off x="1258920" y="4595760"/>
                    <a:ext cx="336600" cy="459000"/>
                    <a:chOff x="1258920" y="4595760"/>
                    <a:chExt cx="336600" cy="459000"/>
                  </a:xfrm>
                </p:grpSpPr>
                <p:grpSp>
                  <p:nvGrpSpPr>
                    <p:cNvPr id="1421" name="Group 779"/>
                    <p:cNvGrpSpPr/>
                    <p:nvPr/>
                  </p:nvGrpSpPr>
                  <p:grpSpPr>
                    <a:xfrm>
                      <a:off x="1312920" y="4597560"/>
                      <a:ext cx="228600" cy="457200"/>
                      <a:chOff x="1312920" y="4597560"/>
                      <a:chExt cx="228600" cy="457200"/>
                    </a:xfrm>
                  </p:grpSpPr>
                  <p:sp>
                    <p:nvSpPr>
                      <p:cNvPr id="1422" name="Rectangle 780"/>
                      <p:cNvSpPr/>
                      <p:nvPr/>
                    </p:nvSpPr>
                    <p:spPr>
                      <a:xfrm>
                        <a:off x="1312920" y="4622400"/>
                        <a:ext cx="228600" cy="18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23" name="Rectangle 781"/>
                      <p:cNvSpPr/>
                      <p:nvPr/>
                    </p:nvSpPr>
                    <p:spPr>
                      <a:xfrm>
                        <a:off x="1312920" y="4597560"/>
                        <a:ext cx="228600" cy="457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24" name="Rectangle 782"/>
                    <p:cNvSpPr/>
                    <p:nvPr/>
                  </p:nvSpPr>
                  <p:spPr>
                    <a:xfrm>
                      <a:off x="1258920" y="4595760"/>
                      <a:ext cx="336600" cy="3002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25" name="Group 783"/>
                  <p:cNvGrpSpPr/>
                  <p:nvPr/>
                </p:nvGrpSpPr>
                <p:grpSpPr>
                  <a:xfrm>
                    <a:off x="1595520" y="4595760"/>
                    <a:ext cx="338040" cy="314280"/>
                    <a:chOff x="1595520" y="4595760"/>
                    <a:chExt cx="338040" cy="314280"/>
                  </a:xfrm>
                </p:grpSpPr>
                <p:sp>
                  <p:nvSpPr>
                    <p:cNvPr id="1426" name="Rectangle 784"/>
                    <p:cNvSpPr/>
                    <p:nvPr/>
                  </p:nvSpPr>
                  <p:spPr>
                    <a:xfrm>
                      <a:off x="1649520" y="459576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27" name="Rectangle 785"/>
                    <p:cNvSpPr/>
                    <p:nvPr/>
                  </p:nvSpPr>
                  <p:spPr>
                    <a:xfrm>
                      <a:off x="1595520" y="459576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28" name="Group 786"/>
                  <p:cNvGrpSpPr/>
                  <p:nvPr/>
                </p:nvGrpSpPr>
                <p:grpSpPr>
                  <a:xfrm>
                    <a:off x="1933560" y="4595760"/>
                    <a:ext cx="336600" cy="536760"/>
                    <a:chOff x="1933560" y="4595760"/>
                    <a:chExt cx="336600" cy="536760"/>
                  </a:xfrm>
                </p:grpSpPr>
                <p:grpSp>
                  <p:nvGrpSpPr>
                    <p:cNvPr id="1429" name="Group 787"/>
                    <p:cNvGrpSpPr/>
                    <p:nvPr/>
                  </p:nvGrpSpPr>
                  <p:grpSpPr>
                    <a:xfrm>
                      <a:off x="1987560" y="4595760"/>
                      <a:ext cx="228240" cy="536760"/>
                      <a:chOff x="1987560" y="4595760"/>
                      <a:chExt cx="228240" cy="536760"/>
                    </a:xfrm>
                  </p:grpSpPr>
                  <p:sp>
                    <p:nvSpPr>
                      <p:cNvPr id="1430" name="Rectangle 788"/>
                      <p:cNvSpPr/>
                      <p:nvPr/>
                    </p:nvSpPr>
                    <p:spPr>
                      <a:xfrm>
                        <a:off x="1987560" y="4595760"/>
                        <a:ext cx="228240" cy="148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1" name="Rectangle 789"/>
                      <p:cNvSpPr/>
                      <p:nvPr/>
                    </p:nvSpPr>
                    <p:spPr>
                      <a:xfrm>
                        <a:off x="1987560" y="4675680"/>
                        <a:ext cx="228240" cy="45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32" name="Rectangle 790"/>
                    <p:cNvSpPr/>
                    <p:nvPr/>
                  </p:nvSpPr>
                  <p:spPr>
                    <a:xfrm>
                      <a:off x="1933560" y="4595760"/>
                      <a:ext cx="336600" cy="3153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33" name="Group 791"/>
                  <p:cNvGrpSpPr/>
                  <p:nvPr/>
                </p:nvGrpSpPr>
                <p:grpSpPr>
                  <a:xfrm>
                    <a:off x="2270160" y="4595760"/>
                    <a:ext cx="338040" cy="314280"/>
                    <a:chOff x="2270160" y="4595760"/>
                    <a:chExt cx="338040" cy="314280"/>
                  </a:xfrm>
                </p:grpSpPr>
                <p:sp>
                  <p:nvSpPr>
                    <p:cNvPr id="1434" name="Rectangle 792"/>
                    <p:cNvSpPr/>
                    <p:nvPr/>
                  </p:nvSpPr>
                  <p:spPr>
                    <a:xfrm>
                      <a:off x="2324160" y="4595760"/>
                      <a:ext cx="22968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35" name="Rectangle 793"/>
                    <p:cNvSpPr/>
                    <p:nvPr/>
                  </p:nvSpPr>
                  <p:spPr>
                    <a:xfrm>
                      <a:off x="2270160" y="459576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36" name="Group 794"/>
                  <p:cNvGrpSpPr/>
                  <p:nvPr/>
                </p:nvGrpSpPr>
                <p:grpSpPr>
                  <a:xfrm>
                    <a:off x="2608200" y="4595760"/>
                    <a:ext cx="336600" cy="314280"/>
                    <a:chOff x="2608200" y="4595760"/>
                    <a:chExt cx="336600" cy="314280"/>
                  </a:xfrm>
                </p:grpSpPr>
                <p:sp>
                  <p:nvSpPr>
                    <p:cNvPr id="1437" name="Rectangle 795"/>
                    <p:cNvSpPr/>
                    <p:nvPr/>
                  </p:nvSpPr>
                  <p:spPr>
                    <a:xfrm>
                      <a:off x="2661840" y="459576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38" name="Rectangle 796"/>
                    <p:cNvSpPr/>
                    <p:nvPr/>
                  </p:nvSpPr>
                  <p:spPr>
                    <a:xfrm>
                      <a:off x="2608200" y="459576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39" name="Group 797"/>
                  <p:cNvGrpSpPr/>
                  <p:nvPr/>
                </p:nvGrpSpPr>
                <p:grpSpPr>
                  <a:xfrm>
                    <a:off x="2944800" y="4595760"/>
                    <a:ext cx="339480" cy="314280"/>
                    <a:chOff x="2944800" y="4595760"/>
                    <a:chExt cx="339480" cy="314280"/>
                  </a:xfrm>
                </p:grpSpPr>
                <p:sp>
                  <p:nvSpPr>
                    <p:cNvPr id="1440" name="Rectangle 798"/>
                    <p:cNvSpPr/>
                    <p:nvPr/>
                  </p:nvSpPr>
                  <p:spPr>
                    <a:xfrm>
                      <a:off x="2999160" y="4595760"/>
                      <a:ext cx="2304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41" name="Rectangle 799"/>
                    <p:cNvSpPr/>
                    <p:nvPr/>
                  </p:nvSpPr>
                  <p:spPr>
                    <a:xfrm>
                      <a:off x="2944800" y="4595760"/>
                      <a:ext cx="33948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42" name="Group 800"/>
                  <p:cNvGrpSpPr/>
                  <p:nvPr/>
                </p:nvGrpSpPr>
                <p:grpSpPr>
                  <a:xfrm>
                    <a:off x="3284280" y="4595760"/>
                    <a:ext cx="338400" cy="314280"/>
                    <a:chOff x="3284280" y="4595760"/>
                    <a:chExt cx="338400" cy="314280"/>
                  </a:xfrm>
                </p:grpSpPr>
                <p:sp>
                  <p:nvSpPr>
                    <p:cNvPr id="1443" name="Rectangle 801"/>
                    <p:cNvSpPr/>
                    <p:nvPr/>
                  </p:nvSpPr>
                  <p:spPr>
                    <a:xfrm>
                      <a:off x="3338640" y="459576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44" name="Rectangle 802"/>
                    <p:cNvSpPr/>
                    <p:nvPr/>
                  </p:nvSpPr>
                  <p:spPr>
                    <a:xfrm>
                      <a:off x="3284280" y="4595760"/>
                      <a:ext cx="3384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45" name="Group 803"/>
                  <p:cNvGrpSpPr/>
                  <p:nvPr/>
                </p:nvGrpSpPr>
                <p:grpSpPr>
                  <a:xfrm>
                    <a:off x="3622680" y="4595760"/>
                    <a:ext cx="336600" cy="314280"/>
                    <a:chOff x="3622680" y="4595760"/>
                    <a:chExt cx="336600" cy="314280"/>
                  </a:xfrm>
                </p:grpSpPr>
                <p:sp>
                  <p:nvSpPr>
                    <p:cNvPr id="1446" name="Rectangle 804"/>
                    <p:cNvSpPr/>
                    <p:nvPr/>
                  </p:nvSpPr>
                  <p:spPr>
                    <a:xfrm>
                      <a:off x="3676680" y="459576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47" name="Rectangle 805"/>
                    <p:cNvSpPr/>
                    <p:nvPr/>
                  </p:nvSpPr>
                  <p:spPr>
                    <a:xfrm>
                      <a:off x="3622680" y="459576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48" name="Group 806"/>
                  <p:cNvGrpSpPr/>
                  <p:nvPr/>
                </p:nvGrpSpPr>
                <p:grpSpPr>
                  <a:xfrm>
                    <a:off x="582480" y="4910040"/>
                    <a:ext cx="336600" cy="368280"/>
                    <a:chOff x="582480" y="4910040"/>
                    <a:chExt cx="336600" cy="368280"/>
                  </a:xfrm>
                </p:grpSpPr>
                <p:sp>
                  <p:nvSpPr>
                    <p:cNvPr id="1449" name="Rectangle 807"/>
                    <p:cNvSpPr/>
                    <p:nvPr/>
                  </p:nvSpPr>
                  <p:spPr>
                    <a:xfrm>
                      <a:off x="636120" y="4910040"/>
                      <a:ext cx="2286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50" name="Rectangle 808"/>
                    <p:cNvSpPr/>
                    <p:nvPr/>
                  </p:nvSpPr>
                  <p:spPr>
                    <a:xfrm>
                      <a:off x="582480" y="4910040"/>
                      <a:ext cx="336600" cy="368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51" name="Group 809"/>
                  <p:cNvGrpSpPr/>
                  <p:nvPr/>
                </p:nvGrpSpPr>
                <p:grpSpPr>
                  <a:xfrm>
                    <a:off x="919080" y="4910040"/>
                    <a:ext cx="339840" cy="368280"/>
                    <a:chOff x="919080" y="4910040"/>
                    <a:chExt cx="339840" cy="368280"/>
                  </a:xfrm>
                </p:grpSpPr>
                <p:sp>
                  <p:nvSpPr>
                    <p:cNvPr id="1452" name="Rectangle 810"/>
                    <p:cNvSpPr/>
                    <p:nvPr/>
                  </p:nvSpPr>
                  <p:spPr>
                    <a:xfrm>
                      <a:off x="973440" y="4910040"/>
                      <a:ext cx="230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53" name="Rectangle 811"/>
                    <p:cNvSpPr/>
                    <p:nvPr/>
                  </p:nvSpPr>
                  <p:spPr>
                    <a:xfrm>
                      <a:off x="919080" y="4910040"/>
                      <a:ext cx="339840" cy="368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54" name="Group 812"/>
                  <p:cNvGrpSpPr/>
                  <p:nvPr/>
                </p:nvGrpSpPr>
                <p:grpSpPr>
                  <a:xfrm>
                    <a:off x="1258920" y="4910040"/>
                    <a:ext cx="336600" cy="368280"/>
                    <a:chOff x="1258920" y="4910040"/>
                    <a:chExt cx="336600" cy="368280"/>
                  </a:xfrm>
                </p:grpSpPr>
                <p:sp>
                  <p:nvSpPr>
                    <p:cNvPr id="1455" name="Rectangle 813"/>
                    <p:cNvSpPr/>
                    <p:nvPr/>
                  </p:nvSpPr>
                  <p:spPr>
                    <a:xfrm>
                      <a:off x="1312920" y="4910040"/>
                      <a:ext cx="2286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56" name="Rectangle 814"/>
                    <p:cNvSpPr/>
                    <p:nvPr/>
                  </p:nvSpPr>
                  <p:spPr>
                    <a:xfrm>
                      <a:off x="1258920" y="4910040"/>
                      <a:ext cx="336600" cy="368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57" name="Group 815"/>
                  <p:cNvGrpSpPr/>
                  <p:nvPr/>
                </p:nvGrpSpPr>
                <p:grpSpPr>
                  <a:xfrm>
                    <a:off x="1595520" y="4910040"/>
                    <a:ext cx="338040" cy="368280"/>
                    <a:chOff x="1595520" y="4910040"/>
                    <a:chExt cx="338040" cy="368280"/>
                  </a:xfrm>
                </p:grpSpPr>
                <p:sp>
                  <p:nvSpPr>
                    <p:cNvPr id="1458" name="Rectangle 816"/>
                    <p:cNvSpPr/>
                    <p:nvPr/>
                  </p:nvSpPr>
                  <p:spPr>
                    <a:xfrm>
                      <a:off x="1649520" y="4910040"/>
                      <a:ext cx="229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59" name="Rectangle 817"/>
                    <p:cNvSpPr/>
                    <p:nvPr/>
                  </p:nvSpPr>
                  <p:spPr>
                    <a:xfrm>
                      <a:off x="1595520" y="4910040"/>
                      <a:ext cx="338040" cy="368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60" name="Group 818"/>
                  <p:cNvGrpSpPr/>
                  <p:nvPr/>
                </p:nvGrpSpPr>
                <p:grpSpPr>
                  <a:xfrm>
                    <a:off x="1933560" y="4910040"/>
                    <a:ext cx="336600" cy="590760"/>
                    <a:chOff x="1933560" y="4910040"/>
                    <a:chExt cx="336600" cy="590760"/>
                  </a:xfrm>
                </p:grpSpPr>
                <p:grpSp>
                  <p:nvGrpSpPr>
                    <p:cNvPr id="1461" name="Group 819"/>
                    <p:cNvGrpSpPr/>
                    <p:nvPr/>
                  </p:nvGrpSpPr>
                  <p:grpSpPr>
                    <a:xfrm>
                      <a:off x="1987560" y="4910040"/>
                      <a:ext cx="228240" cy="590760"/>
                      <a:chOff x="1987560" y="4910040"/>
                      <a:chExt cx="228240" cy="590760"/>
                    </a:xfrm>
                  </p:grpSpPr>
                  <p:sp>
                    <p:nvSpPr>
                      <p:cNvPr id="1462" name="Rectangle 820"/>
                      <p:cNvSpPr/>
                      <p:nvPr/>
                    </p:nvSpPr>
                    <p:spPr>
                      <a:xfrm>
                        <a:off x="1987560" y="4910040"/>
                        <a:ext cx="228240" cy="148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63" name="Rectangle 821"/>
                      <p:cNvSpPr/>
                      <p:nvPr/>
                    </p:nvSpPr>
                    <p:spPr>
                      <a:xfrm>
                        <a:off x="1987560" y="5043240"/>
                        <a:ext cx="228240" cy="457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64" name="Rectangle 822"/>
                    <p:cNvSpPr/>
                    <p:nvPr/>
                  </p:nvSpPr>
                  <p:spPr>
                    <a:xfrm>
                      <a:off x="1933560" y="4910040"/>
                      <a:ext cx="336600" cy="3690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65" name="Group 823"/>
                  <p:cNvGrpSpPr/>
                  <p:nvPr/>
                </p:nvGrpSpPr>
                <p:grpSpPr>
                  <a:xfrm>
                    <a:off x="2270160" y="4910040"/>
                    <a:ext cx="338040" cy="368280"/>
                    <a:chOff x="2270160" y="4910040"/>
                    <a:chExt cx="338040" cy="368280"/>
                  </a:xfrm>
                </p:grpSpPr>
                <p:sp>
                  <p:nvSpPr>
                    <p:cNvPr id="1466" name="Rectangle 824"/>
                    <p:cNvSpPr/>
                    <p:nvPr/>
                  </p:nvSpPr>
                  <p:spPr>
                    <a:xfrm>
                      <a:off x="2324160" y="4910040"/>
                      <a:ext cx="2296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67" name="Rectangle 825"/>
                    <p:cNvSpPr/>
                    <p:nvPr/>
                  </p:nvSpPr>
                  <p:spPr>
                    <a:xfrm>
                      <a:off x="2270160" y="4910040"/>
                      <a:ext cx="338040" cy="368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68" name="Group 826"/>
                  <p:cNvGrpSpPr/>
                  <p:nvPr/>
                </p:nvGrpSpPr>
                <p:grpSpPr>
                  <a:xfrm>
                    <a:off x="2608200" y="4910040"/>
                    <a:ext cx="336600" cy="368280"/>
                    <a:chOff x="2608200" y="4910040"/>
                    <a:chExt cx="336600" cy="368280"/>
                  </a:xfrm>
                </p:grpSpPr>
                <p:sp>
                  <p:nvSpPr>
                    <p:cNvPr id="1469" name="Rectangle 827"/>
                    <p:cNvSpPr/>
                    <p:nvPr/>
                  </p:nvSpPr>
                  <p:spPr>
                    <a:xfrm>
                      <a:off x="2661840" y="4910040"/>
                      <a:ext cx="2286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70" name="Rectangle 828"/>
                    <p:cNvSpPr/>
                    <p:nvPr/>
                  </p:nvSpPr>
                  <p:spPr>
                    <a:xfrm>
                      <a:off x="2608200" y="4910040"/>
                      <a:ext cx="336600" cy="368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71" name="Group 829"/>
                  <p:cNvGrpSpPr/>
                  <p:nvPr/>
                </p:nvGrpSpPr>
                <p:grpSpPr>
                  <a:xfrm>
                    <a:off x="2944800" y="4910040"/>
                    <a:ext cx="339480" cy="368280"/>
                    <a:chOff x="2944800" y="4910040"/>
                    <a:chExt cx="339480" cy="368280"/>
                  </a:xfrm>
                </p:grpSpPr>
                <p:sp>
                  <p:nvSpPr>
                    <p:cNvPr id="1472" name="Rectangle 830"/>
                    <p:cNvSpPr/>
                    <p:nvPr/>
                  </p:nvSpPr>
                  <p:spPr>
                    <a:xfrm>
                      <a:off x="2999160" y="4910040"/>
                      <a:ext cx="2304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73" name="Rectangle 831"/>
                    <p:cNvSpPr/>
                    <p:nvPr/>
                  </p:nvSpPr>
                  <p:spPr>
                    <a:xfrm>
                      <a:off x="2944800" y="4910040"/>
                      <a:ext cx="339480" cy="368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74" name="Group 832"/>
                  <p:cNvGrpSpPr/>
                  <p:nvPr/>
                </p:nvGrpSpPr>
                <p:grpSpPr>
                  <a:xfrm>
                    <a:off x="3284280" y="4910040"/>
                    <a:ext cx="338400" cy="368280"/>
                    <a:chOff x="3284280" y="4910040"/>
                    <a:chExt cx="338400" cy="368280"/>
                  </a:xfrm>
                </p:grpSpPr>
                <p:sp>
                  <p:nvSpPr>
                    <p:cNvPr id="1475" name="Rectangle 833"/>
                    <p:cNvSpPr/>
                    <p:nvPr/>
                  </p:nvSpPr>
                  <p:spPr>
                    <a:xfrm>
                      <a:off x="3338640" y="4910040"/>
                      <a:ext cx="229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76" name="Rectangle 834"/>
                    <p:cNvSpPr/>
                    <p:nvPr/>
                  </p:nvSpPr>
                  <p:spPr>
                    <a:xfrm>
                      <a:off x="3284280" y="4910040"/>
                      <a:ext cx="338400" cy="368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77" name="Group 835"/>
                  <p:cNvGrpSpPr/>
                  <p:nvPr/>
                </p:nvGrpSpPr>
                <p:grpSpPr>
                  <a:xfrm>
                    <a:off x="3622680" y="4910040"/>
                    <a:ext cx="336600" cy="368280"/>
                    <a:chOff x="3622680" y="4910040"/>
                    <a:chExt cx="336600" cy="368280"/>
                  </a:xfrm>
                </p:grpSpPr>
                <p:sp>
                  <p:nvSpPr>
                    <p:cNvPr id="1478" name="Rectangle 836"/>
                    <p:cNvSpPr/>
                    <p:nvPr/>
                  </p:nvSpPr>
                  <p:spPr>
                    <a:xfrm>
                      <a:off x="3676680" y="4910040"/>
                      <a:ext cx="2282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79" name="Rectangle 837"/>
                    <p:cNvSpPr/>
                    <p:nvPr/>
                  </p:nvSpPr>
                  <p:spPr>
                    <a:xfrm>
                      <a:off x="3622680" y="4910040"/>
                      <a:ext cx="336600" cy="368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80" name="Group 838"/>
                  <p:cNvGrpSpPr/>
                  <p:nvPr/>
                </p:nvGrpSpPr>
                <p:grpSpPr>
                  <a:xfrm>
                    <a:off x="582480" y="5278320"/>
                    <a:ext cx="336600" cy="314280"/>
                    <a:chOff x="582480" y="5278320"/>
                    <a:chExt cx="336600" cy="314280"/>
                  </a:xfrm>
                </p:grpSpPr>
                <p:sp>
                  <p:nvSpPr>
                    <p:cNvPr id="1481" name="Rectangle 839"/>
                    <p:cNvSpPr/>
                    <p:nvPr/>
                  </p:nvSpPr>
                  <p:spPr>
                    <a:xfrm>
                      <a:off x="636120" y="527832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82" name="Rectangle 840"/>
                    <p:cNvSpPr/>
                    <p:nvPr/>
                  </p:nvSpPr>
                  <p:spPr>
                    <a:xfrm>
                      <a:off x="582480" y="527832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83" name="Group 841"/>
                  <p:cNvGrpSpPr/>
                  <p:nvPr/>
                </p:nvGrpSpPr>
                <p:grpSpPr>
                  <a:xfrm>
                    <a:off x="919080" y="5278320"/>
                    <a:ext cx="339840" cy="314280"/>
                    <a:chOff x="919080" y="5278320"/>
                    <a:chExt cx="339840" cy="314280"/>
                  </a:xfrm>
                </p:grpSpPr>
                <p:sp>
                  <p:nvSpPr>
                    <p:cNvPr id="1484" name="Rectangle 842"/>
                    <p:cNvSpPr/>
                    <p:nvPr/>
                  </p:nvSpPr>
                  <p:spPr>
                    <a:xfrm>
                      <a:off x="973440" y="5278320"/>
                      <a:ext cx="23076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85" name="Rectangle 843"/>
                    <p:cNvSpPr/>
                    <p:nvPr/>
                  </p:nvSpPr>
                  <p:spPr>
                    <a:xfrm>
                      <a:off x="919080" y="5278320"/>
                      <a:ext cx="3398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86" name="Group 844"/>
                  <p:cNvGrpSpPr/>
                  <p:nvPr/>
                </p:nvGrpSpPr>
                <p:grpSpPr>
                  <a:xfrm>
                    <a:off x="1258920" y="5278320"/>
                    <a:ext cx="336600" cy="314280"/>
                    <a:chOff x="1258920" y="5278320"/>
                    <a:chExt cx="336600" cy="314280"/>
                  </a:xfrm>
                </p:grpSpPr>
                <p:sp>
                  <p:nvSpPr>
                    <p:cNvPr id="1487" name="Rectangle 845"/>
                    <p:cNvSpPr/>
                    <p:nvPr/>
                  </p:nvSpPr>
                  <p:spPr>
                    <a:xfrm>
                      <a:off x="1312920" y="527832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88" name="Rectangle 846"/>
                    <p:cNvSpPr/>
                    <p:nvPr/>
                  </p:nvSpPr>
                  <p:spPr>
                    <a:xfrm>
                      <a:off x="1258920" y="527832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89" name="Group 847"/>
                  <p:cNvGrpSpPr/>
                  <p:nvPr/>
                </p:nvGrpSpPr>
                <p:grpSpPr>
                  <a:xfrm>
                    <a:off x="1595520" y="5278320"/>
                    <a:ext cx="338040" cy="314280"/>
                    <a:chOff x="1595520" y="5278320"/>
                    <a:chExt cx="338040" cy="314280"/>
                  </a:xfrm>
                </p:grpSpPr>
                <p:sp>
                  <p:nvSpPr>
                    <p:cNvPr id="1490" name="Rectangle 848"/>
                    <p:cNvSpPr/>
                    <p:nvPr/>
                  </p:nvSpPr>
                  <p:spPr>
                    <a:xfrm>
                      <a:off x="1649520" y="527832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91" name="Rectangle 849"/>
                    <p:cNvSpPr/>
                    <p:nvPr/>
                  </p:nvSpPr>
                  <p:spPr>
                    <a:xfrm>
                      <a:off x="1595520" y="527832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92" name="Group 850"/>
                  <p:cNvGrpSpPr/>
                  <p:nvPr/>
                </p:nvGrpSpPr>
                <p:grpSpPr>
                  <a:xfrm>
                    <a:off x="1933560" y="5278320"/>
                    <a:ext cx="336600" cy="314280"/>
                    <a:chOff x="1933560" y="5278320"/>
                    <a:chExt cx="336600" cy="314280"/>
                  </a:xfrm>
                </p:grpSpPr>
                <p:sp>
                  <p:nvSpPr>
                    <p:cNvPr id="1493" name="Rectangle 851"/>
                    <p:cNvSpPr/>
                    <p:nvPr/>
                  </p:nvSpPr>
                  <p:spPr>
                    <a:xfrm>
                      <a:off x="1987560" y="527832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94" name="Rectangle 852"/>
                    <p:cNvSpPr/>
                    <p:nvPr/>
                  </p:nvSpPr>
                  <p:spPr>
                    <a:xfrm>
                      <a:off x="1933560" y="527832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95" name="Group 853"/>
                  <p:cNvGrpSpPr/>
                  <p:nvPr/>
                </p:nvGrpSpPr>
                <p:grpSpPr>
                  <a:xfrm>
                    <a:off x="2270160" y="5278320"/>
                    <a:ext cx="338040" cy="314280"/>
                    <a:chOff x="2270160" y="5278320"/>
                    <a:chExt cx="338040" cy="314280"/>
                  </a:xfrm>
                </p:grpSpPr>
                <p:sp>
                  <p:nvSpPr>
                    <p:cNvPr id="1496" name="Rectangle 854"/>
                    <p:cNvSpPr/>
                    <p:nvPr/>
                  </p:nvSpPr>
                  <p:spPr>
                    <a:xfrm>
                      <a:off x="2324160" y="5278320"/>
                      <a:ext cx="22968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97" name="Rectangle 855"/>
                    <p:cNvSpPr/>
                    <p:nvPr/>
                  </p:nvSpPr>
                  <p:spPr>
                    <a:xfrm>
                      <a:off x="2270160" y="5278320"/>
                      <a:ext cx="33804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98" name="Group 856"/>
                  <p:cNvGrpSpPr/>
                  <p:nvPr/>
                </p:nvGrpSpPr>
                <p:grpSpPr>
                  <a:xfrm>
                    <a:off x="2608200" y="5278320"/>
                    <a:ext cx="336600" cy="314280"/>
                    <a:chOff x="2608200" y="5278320"/>
                    <a:chExt cx="336600" cy="314280"/>
                  </a:xfrm>
                </p:grpSpPr>
                <p:sp>
                  <p:nvSpPr>
                    <p:cNvPr id="1499" name="Rectangle 857"/>
                    <p:cNvSpPr/>
                    <p:nvPr/>
                  </p:nvSpPr>
                  <p:spPr>
                    <a:xfrm>
                      <a:off x="2661840" y="5278320"/>
                      <a:ext cx="2286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00" name="Rectangle 858"/>
                    <p:cNvSpPr/>
                    <p:nvPr/>
                  </p:nvSpPr>
                  <p:spPr>
                    <a:xfrm>
                      <a:off x="2608200" y="527832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01" name="Group 859"/>
                  <p:cNvGrpSpPr/>
                  <p:nvPr/>
                </p:nvGrpSpPr>
                <p:grpSpPr>
                  <a:xfrm>
                    <a:off x="2944800" y="5278320"/>
                    <a:ext cx="339480" cy="314280"/>
                    <a:chOff x="2944800" y="5278320"/>
                    <a:chExt cx="339480" cy="314280"/>
                  </a:xfrm>
                </p:grpSpPr>
                <p:sp>
                  <p:nvSpPr>
                    <p:cNvPr id="1502" name="Rectangle 860"/>
                    <p:cNvSpPr/>
                    <p:nvPr/>
                  </p:nvSpPr>
                  <p:spPr>
                    <a:xfrm>
                      <a:off x="2999160" y="5278320"/>
                      <a:ext cx="23040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03" name="Rectangle 861"/>
                    <p:cNvSpPr/>
                    <p:nvPr/>
                  </p:nvSpPr>
                  <p:spPr>
                    <a:xfrm>
                      <a:off x="2944800" y="5278320"/>
                      <a:ext cx="33948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04" name="Group 862"/>
                  <p:cNvGrpSpPr/>
                  <p:nvPr/>
                </p:nvGrpSpPr>
                <p:grpSpPr>
                  <a:xfrm>
                    <a:off x="3284280" y="5278320"/>
                    <a:ext cx="338400" cy="314280"/>
                    <a:chOff x="3284280" y="5278320"/>
                    <a:chExt cx="338400" cy="314280"/>
                  </a:xfrm>
                </p:grpSpPr>
                <p:sp>
                  <p:nvSpPr>
                    <p:cNvPr id="1505" name="Rectangle 863"/>
                    <p:cNvSpPr/>
                    <p:nvPr/>
                  </p:nvSpPr>
                  <p:spPr>
                    <a:xfrm>
                      <a:off x="3338640" y="5278320"/>
                      <a:ext cx="22932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06" name="Rectangle 864"/>
                    <p:cNvSpPr/>
                    <p:nvPr/>
                  </p:nvSpPr>
                  <p:spPr>
                    <a:xfrm>
                      <a:off x="3284280" y="5278320"/>
                      <a:ext cx="3384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07" name="Group 865"/>
                  <p:cNvGrpSpPr/>
                  <p:nvPr/>
                </p:nvGrpSpPr>
                <p:grpSpPr>
                  <a:xfrm>
                    <a:off x="3622680" y="5278320"/>
                    <a:ext cx="336600" cy="314280"/>
                    <a:chOff x="3622680" y="5278320"/>
                    <a:chExt cx="336600" cy="314280"/>
                  </a:xfrm>
                </p:grpSpPr>
                <p:sp>
                  <p:nvSpPr>
                    <p:cNvPr id="1508" name="Rectangle 866"/>
                    <p:cNvSpPr/>
                    <p:nvPr/>
                  </p:nvSpPr>
                  <p:spPr>
                    <a:xfrm>
                      <a:off x="3676680" y="5278320"/>
                      <a:ext cx="228240" cy="31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09" name="Rectangle 867"/>
                    <p:cNvSpPr/>
                    <p:nvPr/>
                  </p:nvSpPr>
                  <p:spPr>
                    <a:xfrm>
                      <a:off x="3622680" y="5278320"/>
                      <a:ext cx="336600" cy="314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10" name="Group 868"/>
                  <p:cNvGrpSpPr/>
                  <p:nvPr/>
                </p:nvGrpSpPr>
                <p:grpSpPr>
                  <a:xfrm>
                    <a:off x="582480" y="5592600"/>
                    <a:ext cx="336600" cy="314640"/>
                    <a:chOff x="582480" y="5592600"/>
                    <a:chExt cx="336600" cy="314640"/>
                  </a:xfrm>
                </p:grpSpPr>
                <p:sp>
                  <p:nvSpPr>
                    <p:cNvPr id="1511" name="Rectangle 869"/>
                    <p:cNvSpPr/>
                    <p:nvPr/>
                  </p:nvSpPr>
                  <p:spPr>
                    <a:xfrm>
                      <a:off x="636120" y="5592600"/>
                      <a:ext cx="228600" cy="31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12" name="Rectangle 870"/>
                    <p:cNvSpPr/>
                    <p:nvPr/>
                  </p:nvSpPr>
                  <p:spPr>
                    <a:xfrm>
                      <a:off x="582480" y="5592600"/>
                      <a:ext cx="336600" cy="3146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13" name="Group 871"/>
                  <p:cNvGrpSpPr/>
                  <p:nvPr/>
                </p:nvGrpSpPr>
                <p:grpSpPr>
                  <a:xfrm>
                    <a:off x="919080" y="5592600"/>
                    <a:ext cx="339840" cy="314640"/>
                    <a:chOff x="919080" y="5592600"/>
                    <a:chExt cx="339840" cy="314640"/>
                  </a:xfrm>
                </p:grpSpPr>
                <p:sp>
                  <p:nvSpPr>
                    <p:cNvPr id="1514" name="Rectangle 872"/>
                    <p:cNvSpPr/>
                    <p:nvPr/>
                  </p:nvSpPr>
                  <p:spPr>
                    <a:xfrm>
                      <a:off x="973440" y="5592600"/>
                      <a:ext cx="230760" cy="31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15" name="Rectangle 873"/>
                    <p:cNvSpPr/>
                    <p:nvPr/>
                  </p:nvSpPr>
                  <p:spPr>
                    <a:xfrm>
                      <a:off x="919080" y="5592600"/>
                      <a:ext cx="339840" cy="3146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16" name="Group 874"/>
                  <p:cNvGrpSpPr/>
                  <p:nvPr/>
                </p:nvGrpSpPr>
                <p:grpSpPr>
                  <a:xfrm>
                    <a:off x="1258920" y="5592600"/>
                    <a:ext cx="336600" cy="314640"/>
                    <a:chOff x="1258920" y="5592600"/>
                    <a:chExt cx="336600" cy="314640"/>
                  </a:xfrm>
                </p:grpSpPr>
                <p:sp>
                  <p:nvSpPr>
                    <p:cNvPr id="1517" name="Rectangle 875"/>
                    <p:cNvSpPr/>
                    <p:nvPr/>
                  </p:nvSpPr>
                  <p:spPr>
                    <a:xfrm>
                      <a:off x="1312920" y="5592600"/>
                      <a:ext cx="228600" cy="31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18" name="Rectangle 876"/>
                    <p:cNvSpPr/>
                    <p:nvPr/>
                  </p:nvSpPr>
                  <p:spPr>
                    <a:xfrm>
                      <a:off x="1258920" y="5592600"/>
                      <a:ext cx="336600" cy="3146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19" name="Group 877"/>
                  <p:cNvGrpSpPr/>
                  <p:nvPr/>
                </p:nvGrpSpPr>
                <p:grpSpPr>
                  <a:xfrm>
                    <a:off x="1595520" y="5592600"/>
                    <a:ext cx="338040" cy="314640"/>
                    <a:chOff x="1595520" y="5592600"/>
                    <a:chExt cx="338040" cy="314640"/>
                  </a:xfrm>
                </p:grpSpPr>
                <p:sp>
                  <p:nvSpPr>
                    <p:cNvPr id="1520" name="Rectangle 878"/>
                    <p:cNvSpPr/>
                    <p:nvPr/>
                  </p:nvSpPr>
                  <p:spPr>
                    <a:xfrm>
                      <a:off x="1649520" y="5592600"/>
                      <a:ext cx="229320" cy="31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21" name="Rectangle 879"/>
                    <p:cNvSpPr/>
                    <p:nvPr/>
                  </p:nvSpPr>
                  <p:spPr>
                    <a:xfrm>
                      <a:off x="1595520" y="5592600"/>
                      <a:ext cx="338040" cy="3146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22" name="Group 880"/>
                  <p:cNvGrpSpPr/>
                  <p:nvPr/>
                </p:nvGrpSpPr>
                <p:grpSpPr>
                  <a:xfrm>
                    <a:off x="2608200" y="5592600"/>
                    <a:ext cx="336600" cy="314640"/>
                    <a:chOff x="2608200" y="5592600"/>
                    <a:chExt cx="336600" cy="314640"/>
                  </a:xfrm>
                </p:grpSpPr>
                <p:sp>
                  <p:nvSpPr>
                    <p:cNvPr id="1523" name="Rectangle 881"/>
                    <p:cNvSpPr/>
                    <p:nvPr/>
                  </p:nvSpPr>
                  <p:spPr>
                    <a:xfrm>
                      <a:off x="2661840" y="5592600"/>
                      <a:ext cx="228600" cy="31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24" name="Rectangle 882"/>
                    <p:cNvSpPr/>
                    <p:nvPr/>
                  </p:nvSpPr>
                  <p:spPr>
                    <a:xfrm>
                      <a:off x="2608200" y="5592600"/>
                      <a:ext cx="336600" cy="3146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25" name="Group 883"/>
                  <p:cNvGrpSpPr/>
                  <p:nvPr/>
                </p:nvGrpSpPr>
                <p:grpSpPr>
                  <a:xfrm>
                    <a:off x="2944800" y="5592600"/>
                    <a:ext cx="339480" cy="314640"/>
                    <a:chOff x="2944800" y="5592600"/>
                    <a:chExt cx="339480" cy="314640"/>
                  </a:xfrm>
                </p:grpSpPr>
                <p:sp>
                  <p:nvSpPr>
                    <p:cNvPr id="1526" name="Rectangle 884"/>
                    <p:cNvSpPr/>
                    <p:nvPr/>
                  </p:nvSpPr>
                  <p:spPr>
                    <a:xfrm>
                      <a:off x="2999160" y="5592600"/>
                      <a:ext cx="230400" cy="31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27" name="Rectangle 885"/>
                    <p:cNvSpPr/>
                    <p:nvPr/>
                  </p:nvSpPr>
                  <p:spPr>
                    <a:xfrm>
                      <a:off x="2944800" y="5592600"/>
                      <a:ext cx="339480" cy="3146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28" name="Group 886"/>
                  <p:cNvGrpSpPr/>
                  <p:nvPr/>
                </p:nvGrpSpPr>
                <p:grpSpPr>
                  <a:xfrm>
                    <a:off x="3284280" y="5592600"/>
                    <a:ext cx="338400" cy="314640"/>
                    <a:chOff x="3284280" y="5592600"/>
                    <a:chExt cx="338400" cy="314640"/>
                  </a:xfrm>
                </p:grpSpPr>
                <p:sp>
                  <p:nvSpPr>
                    <p:cNvPr id="1529" name="Rectangle 887"/>
                    <p:cNvSpPr/>
                    <p:nvPr/>
                  </p:nvSpPr>
                  <p:spPr>
                    <a:xfrm>
                      <a:off x="3338640" y="5592600"/>
                      <a:ext cx="229320" cy="31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30" name="Rectangle 888"/>
                    <p:cNvSpPr/>
                    <p:nvPr/>
                  </p:nvSpPr>
                  <p:spPr>
                    <a:xfrm>
                      <a:off x="3284280" y="5592600"/>
                      <a:ext cx="338400" cy="3146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31" name="Group 889"/>
                  <p:cNvGrpSpPr/>
                  <p:nvPr/>
                </p:nvGrpSpPr>
                <p:grpSpPr>
                  <a:xfrm>
                    <a:off x="3622680" y="5592600"/>
                    <a:ext cx="336600" cy="314640"/>
                    <a:chOff x="3622680" y="5592600"/>
                    <a:chExt cx="336600" cy="314640"/>
                  </a:xfrm>
                </p:grpSpPr>
                <p:sp>
                  <p:nvSpPr>
                    <p:cNvPr id="1532" name="Rectangle 890"/>
                    <p:cNvSpPr/>
                    <p:nvPr/>
                  </p:nvSpPr>
                  <p:spPr>
                    <a:xfrm>
                      <a:off x="3676680" y="5592600"/>
                      <a:ext cx="228240" cy="314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33" name="Rectangle 891"/>
                    <p:cNvSpPr/>
                    <p:nvPr/>
                  </p:nvSpPr>
                  <p:spPr>
                    <a:xfrm>
                      <a:off x="3622680" y="5592600"/>
                      <a:ext cx="336600" cy="3146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34" name="Group 892"/>
                  <p:cNvGrpSpPr/>
                  <p:nvPr/>
                </p:nvGrpSpPr>
                <p:grpSpPr>
                  <a:xfrm>
                    <a:off x="582480" y="5907240"/>
                    <a:ext cx="336600" cy="312480"/>
                    <a:chOff x="582480" y="5907240"/>
                    <a:chExt cx="336600" cy="312480"/>
                  </a:xfrm>
                </p:grpSpPr>
                <p:sp>
                  <p:nvSpPr>
                    <p:cNvPr id="1535" name="Rectangle 893"/>
                    <p:cNvSpPr/>
                    <p:nvPr/>
                  </p:nvSpPr>
                  <p:spPr>
                    <a:xfrm>
                      <a:off x="636120" y="5907240"/>
                      <a:ext cx="228600" cy="31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36" name="Rectangle 894"/>
                    <p:cNvSpPr/>
                    <p:nvPr/>
                  </p:nvSpPr>
                  <p:spPr>
                    <a:xfrm>
                      <a:off x="582480" y="5907240"/>
                      <a:ext cx="336600" cy="312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37" name="Group 895"/>
                  <p:cNvGrpSpPr/>
                  <p:nvPr/>
                </p:nvGrpSpPr>
                <p:grpSpPr>
                  <a:xfrm>
                    <a:off x="919080" y="5907240"/>
                    <a:ext cx="339840" cy="312480"/>
                    <a:chOff x="919080" y="5907240"/>
                    <a:chExt cx="339840" cy="312480"/>
                  </a:xfrm>
                </p:grpSpPr>
                <p:sp>
                  <p:nvSpPr>
                    <p:cNvPr id="1538" name="Rectangle 896"/>
                    <p:cNvSpPr/>
                    <p:nvPr/>
                  </p:nvSpPr>
                  <p:spPr>
                    <a:xfrm>
                      <a:off x="973440" y="5907240"/>
                      <a:ext cx="230760" cy="31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39" name="Rectangle 897"/>
                    <p:cNvSpPr/>
                    <p:nvPr/>
                  </p:nvSpPr>
                  <p:spPr>
                    <a:xfrm>
                      <a:off x="919080" y="5907240"/>
                      <a:ext cx="339840" cy="312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40" name="Group 898"/>
                  <p:cNvGrpSpPr/>
                  <p:nvPr/>
                </p:nvGrpSpPr>
                <p:grpSpPr>
                  <a:xfrm>
                    <a:off x="1258920" y="5907240"/>
                    <a:ext cx="336600" cy="312480"/>
                    <a:chOff x="1258920" y="5907240"/>
                    <a:chExt cx="336600" cy="312480"/>
                  </a:xfrm>
                </p:grpSpPr>
                <p:sp>
                  <p:nvSpPr>
                    <p:cNvPr id="1541" name="Rectangle 899"/>
                    <p:cNvSpPr/>
                    <p:nvPr/>
                  </p:nvSpPr>
                  <p:spPr>
                    <a:xfrm>
                      <a:off x="1312920" y="5907240"/>
                      <a:ext cx="228600" cy="31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42" name="Rectangle 900"/>
                    <p:cNvSpPr/>
                    <p:nvPr/>
                  </p:nvSpPr>
                  <p:spPr>
                    <a:xfrm>
                      <a:off x="1258920" y="5907240"/>
                      <a:ext cx="336600" cy="312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43" name="Group 901"/>
                  <p:cNvGrpSpPr/>
                  <p:nvPr/>
                </p:nvGrpSpPr>
                <p:grpSpPr>
                  <a:xfrm>
                    <a:off x="1595520" y="5907240"/>
                    <a:ext cx="338040" cy="498240"/>
                    <a:chOff x="1595520" y="5907240"/>
                    <a:chExt cx="338040" cy="498240"/>
                  </a:xfrm>
                </p:grpSpPr>
                <p:grpSp>
                  <p:nvGrpSpPr>
                    <p:cNvPr id="1544" name="Group 902"/>
                    <p:cNvGrpSpPr/>
                    <p:nvPr/>
                  </p:nvGrpSpPr>
                  <p:grpSpPr>
                    <a:xfrm>
                      <a:off x="1649520" y="5907240"/>
                      <a:ext cx="229320" cy="498240"/>
                      <a:chOff x="1649520" y="5907240"/>
                      <a:chExt cx="229320" cy="498240"/>
                    </a:xfrm>
                  </p:grpSpPr>
                  <p:sp>
                    <p:nvSpPr>
                      <p:cNvPr id="1545" name="Rectangle 903"/>
                      <p:cNvSpPr/>
                      <p:nvPr/>
                    </p:nvSpPr>
                    <p:spPr>
                      <a:xfrm>
                        <a:off x="1649520" y="5907240"/>
                        <a:ext cx="229320" cy="178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546" name="Rectangle 904"/>
                      <p:cNvSpPr/>
                      <p:nvPr/>
                    </p:nvSpPr>
                    <p:spPr>
                      <a:xfrm>
                        <a:off x="1649520" y="5948280"/>
                        <a:ext cx="229320" cy="457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i="1" lang="en-US" sz="32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547" name="Rectangle 905"/>
                    <p:cNvSpPr/>
                    <p:nvPr/>
                  </p:nvSpPr>
                  <p:spPr>
                    <a:xfrm>
                      <a:off x="1595520" y="5907240"/>
                      <a:ext cx="338040" cy="3225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48" name="Group 906"/>
                  <p:cNvGrpSpPr/>
                  <p:nvPr/>
                </p:nvGrpSpPr>
                <p:grpSpPr>
                  <a:xfrm>
                    <a:off x="2608200" y="5907240"/>
                    <a:ext cx="336600" cy="312480"/>
                    <a:chOff x="2608200" y="5907240"/>
                    <a:chExt cx="336600" cy="312480"/>
                  </a:xfrm>
                </p:grpSpPr>
                <p:sp>
                  <p:nvSpPr>
                    <p:cNvPr id="1549" name="Rectangle 907"/>
                    <p:cNvSpPr/>
                    <p:nvPr/>
                  </p:nvSpPr>
                  <p:spPr>
                    <a:xfrm>
                      <a:off x="2661840" y="5907240"/>
                      <a:ext cx="228600" cy="31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50" name="Rectangle 908"/>
                    <p:cNvSpPr/>
                    <p:nvPr/>
                  </p:nvSpPr>
                  <p:spPr>
                    <a:xfrm>
                      <a:off x="2608200" y="5907240"/>
                      <a:ext cx="336600" cy="312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51" name="Group 909"/>
                  <p:cNvGrpSpPr/>
                  <p:nvPr/>
                </p:nvGrpSpPr>
                <p:grpSpPr>
                  <a:xfrm>
                    <a:off x="2944800" y="5907240"/>
                    <a:ext cx="339480" cy="312480"/>
                    <a:chOff x="2944800" y="5907240"/>
                    <a:chExt cx="339480" cy="312480"/>
                  </a:xfrm>
                </p:grpSpPr>
                <p:sp>
                  <p:nvSpPr>
                    <p:cNvPr id="1552" name="Rectangle 910"/>
                    <p:cNvSpPr/>
                    <p:nvPr/>
                  </p:nvSpPr>
                  <p:spPr>
                    <a:xfrm>
                      <a:off x="2999160" y="5907240"/>
                      <a:ext cx="230400" cy="31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53" name="Rectangle 911"/>
                    <p:cNvSpPr/>
                    <p:nvPr/>
                  </p:nvSpPr>
                  <p:spPr>
                    <a:xfrm>
                      <a:off x="2944800" y="5907240"/>
                      <a:ext cx="339480" cy="312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54" name="Group 912"/>
                  <p:cNvGrpSpPr/>
                  <p:nvPr/>
                </p:nvGrpSpPr>
                <p:grpSpPr>
                  <a:xfrm>
                    <a:off x="3284280" y="5907240"/>
                    <a:ext cx="338400" cy="312480"/>
                    <a:chOff x="3284280" y="5907240"/>
                    <a:chExt cx="338400" cy="312480"/>
                  </a:xfrm>
                </p:grpSpPr>
                <p:sp>
                  <p:nvSpPr>
                    <p:cNvPr id="1555" name="Rectangle 913"/>
                    <p:cNvSpPr/>
                    <p:nvPr/>
                  </p:nvSpPr>
                  <p:spPr>
                    <a:xfrm>
                      <a:off x="3338640" y="5907240"/>
                      <a:ext cx="229320" cy="31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56" name="Rectangle 914"/>
                    <p:cNvSpPr/>
                    <p:nvPr/>
                  </p:nvSpPr>
                  <p:spPr>
                    <a:xfrm>
                      <a:off x="3284280" y="5907240"/>
                      <a:ext cx="338400" cy="312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57" name="Group 915"/>
                  <p:cNvGrpSpPr/>
                  <p:nvPr/>
                </p:nvGrpSpPr>
                <p:grpSpPr>
                  <a:xfrm>
                    <a:off x="3622680" y="5907240"/>
                    <a:ext cx="336600" cy="312480"/>
                    <a:chOff x="3622680" y="5907240"/>
                    <a:chExt cx="336600" cy="312480"/>
                  </a:xfrm>
                </p:grpSpPr>
                <p:sp>
                  <p:nvSpPr>
                    <p:cNvPr id="1558" name="Rectangle 916"/>
                    <p:cNvSpPr/>
                    <p:nvPr/>
                  </p:nvSpPr>
                  <p:spPr>
                    <a:xfrm>
                      <a:off x="3676680" y="5907240"/>
                      <a:ext cx="228240" cy="31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59" name="Rectangle 917"/>
                    <p:cNvSpPr/>
                    <p:nvPr/>
                  </p:nvSpPr>
                  <p:spPr>
                    <a:xfrm>
                      <a:off x="3622680" y="5907240"/>
                      <a:ext cx="336600" cy="3124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60" name="Group 918"/>
                  <p:cNvGrpSpPr/>
                  <p:nvPr/>
                </p:nvGrpSpPr>
                <p:grpSpPr>
                  <a:xfrm>
                    <a:off x="1933560" y="6219720"/>
                    <a:ext cx="336600" cy="339840"/>
                    <a:chOff x="1933560" y="6219720"/>
                    <a:chExt cx="336600" cy="339840"/>
                  </a:xfrm>
                </p:grpSpPr>
                <p:sp>
                  <p:nvSpPr>
                    <p:cNvPr id="1561" name="Rectangle 919"/>
                    <p:cNvSpPr/>
                    <p:nvPr/>
                  </p:nvSpPr>
                  <p:spPr>
                    <a:xfrm>
                      <a:off x="1987560" y="6219720"/>
                      <a:ext cx="228240" cy="339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62" name="Rectangle 920"/>
                    <p:cNvSpPr/>
                    <p:nvPr/>
                  </p:nvSpPr>
                  <p:spPr>
                    <a:xfrm>
                      <a:off x="1933560" y="6219720"/>
                      <a:ext cx="336600" cy="339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63" name="Group 921"/>
                  <p:cNvGrpSpPr/>
                  <p:nvPr/>
                </p:nvGrpSpPr>
                <p:grpSpPr>
                  <a:xfrm>
                    <a:off x="2608200" y="6219720"/>
                    <a:ext cx="336600" cy="339840"/>
                    <a:chOff x="2608200" y="6219720"/>
                    <a:chExt cx="336600" cy="339840"/>
                  </a:xfrm>
                </p:grpSpPr>
                <p:sp>
                  <p:nvSpPr>
                    <p:cNvPr id="1564" name="Rectangle 922"/>
                    <p:cNvSpPr/>
                    <p:nvPr/>
                  </p:nvSpPr>
                  <p:spPr>
                    <a:xfrm>
                      <a:off x="2661840" y="6219720"/>
                      <a:ext cx="228600" cy="339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65" name="Rectangle 923"/>
                    <p:cNvSpPr/>
                    <p:nvPr/>
                  </p:nvSpPr>
                  <p:spPr>
                    <a:xfrm>
                      <a:off x="2608200" y="6219720"/>
                      <a:ext cx="336600" cy="339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66" name="Group 924"/>
                  <p:cNvGrpSpPr/>
                  <p:nvPr/>
                </p:nvGrpSpPr>
                <p:grpSpPr>
                  <a:xfrm>
                    <a:off x="3284280" y="6219720"/>
                    <a:ext cx="338400" cy="339840"/>
                    <a:chOff x="3284280" y="6219720"/>
                    <a:chExt cx="338400" cy="339840"/>
                  </a:xfrm>
                </p:grpSpPr>
                <p:sp>
                  <p:nvSpPr>
                    <p:cNvPr id="1567" name="Rectangle 925"/>
                    <p:cNvSpPr/>
                    <p:nvPr/>
                  </p:nvSpPr>
                  <p:spPr>
                    <a:xfrm>
                      <a:off x="3338640" y="6219720"/>
                      <a:ext cx="229320" cy="339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68" name="Rectangle 926"/>
                    <p:cNvSpPr/>
                    <p:nvPr/>
                  </p:nvSpPr>
                  <p:spPr>
                    <a:xfrm>
                      <a:off x="3284280" y="6219720"/>
                      <a:ext cx="338400" cy="3398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569" name="Rectangle 927"/>
                  <p:cNvSpPr/>
                  <p:nvPr/>
                </p:nvSpPr>
                <p:spPr>
                  <a:xfrm>
                    <a:off x="533160" y="200160"/>
                    <a:ext cx="3429000" cy="6362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0" name="Text Box 928"/>
                  <p:cNvSpPr/>
                  <p:nvPr/>
                </p:nvSpPr>
                <p:spPr>
                  <a:xfrm>
                    <a:off x="266760" y="4495680"/>
                    <a:ext cx="342720" cy="31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1" name="Text Box 929"/>
                  <p:cNvSpPr/>
                  <p:nvPr/>
                </p:nvSpPr>
                <p:spPr>
                  <a:xfrm>
                    <a:off x="266760" y="4191120"/>
                    <a:ext cx="342720" cy="31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2" name="Text Box 930"/>
                  <p:cNvSpPr/>
                  <p:nvPr/>
                </p:nvSpPr>
                <p:spPr>
                  <a:xfrm>
                    <a:off x="266760" y="4800600"/>
                    <a:ext cx="3427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3" name="Text Box 931"/>
                  <p:cNvSpPr/>
                  <p:nvPr/>
                </p:nvSpPr>
                <p:spPr>
                  <a:xfrm>
                    <a:off x="266760" y="6161040"/>
                    <a:ext cx="342720" cy="31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4" name="Text Box 932"/>
                  <p:cNvSpPr/>
                  <p:nvPr/>
                </p:nvSpPr>
                <p:spPr>
                  <a:xfrm>
                    <a:off x="266760" y="5811840"/>
                    <a:ext cx="342720" cy="31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5" name="Text Box 933"/>
                  <p:cNvSpPr/>
                  <p:nvPr/>
                </p:nvSpPr>
                <p:spPr>
                  <a:xfrm>
                    <a:off x="228600" y="5495760"/>
                    <a:ext cx="380880" cy="31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6" name="Text Box 934"/>
                  <p:cNvSpPr/>
                  <p:nvPr/>
                </p:nvSpPr>
                <p:spPr>
                  <a:xfrm>
                    <a:off x="266760" y="5170320"/>
                    <a:ext cx="342720" cy="31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7" name="Text Box 935"/>
                  <p:cNvSpPr/>
                  <p:nvPr/>
                </p:nvSpPr>
                <p:spPr>
                  <a:xfrm>
                    <a:off x="266760" y="3886200"/>
                    <a:ext cx="342720" cy="31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8" name="Text Box 936"/>
                  <p:cNvSpPr/>
                  <p:nvPr/>
                </p:nvSpPr>
                <p:spPr>
                  <a:xfrm>
                    <a:off x="266760" y="3581280"/>
                    <a:ext cx="342720" cy="31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9" name="Text Box 937"/>
                  <p:cNvSpPr/>
                  <p:nvPr/>
                </p:nvSpPr>
                <p:spPr>
                  <a:xfrm>
                    <a:off x="228600" y="3265560"/>
                    <a:ext cx="507960" cy="31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0" name="Text Box 938"/>
                  <p:cNvSpPr/>
                  <p:nvPr/>
                </p:nvSpPr>
                <p:spPr>
                  <a:xfrm flipH="1">
                    <a:off x="228600" y="2898720"/>
                    <a:ext cx="457200" cy="30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1" name="Text Box 939"/>
                  <p:cNvSpPr/>
                  <p:nvPr/>
                </p:nvSpPr>
                <p:spPr>
                  <a:xfrm flipH="1">
                    <a:off x="228600" y="762120"/>
                    <a:ext cx="457200" cy="29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2" name="Text Box 940"/>
                  <p:cNvSpPr/>
                  <p:nvPr/>
                </p:nvSpPr>
                <p:spPr>
                  <a:xfrm flipH="1">
                    <a:off x="228600" y="1066680"/>
                    <a:ext cx="457200" cy="30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7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3" name="Text Box 941"/>
                  <p:cNvSpPr/>
                  <p:nvPr/>
                </p:nvSpPr>
                <p:spPr>
                  <a:xfrm flipH="1">
                    <a:off x="228600" y="1395360"/>
                    <a:ext cx="457200" cy="30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4" name="Text Box 942"/>
                  <p:cNvSpPr/>
                  <p:nvPr/>
                </p:nvSpPr>
                <p:spPr>
                  <a:xfrm flipH="1">
                    <a:off x="228600" y="1676520"/>
                    <a:ext cx="457200" cy="29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5" name="Text Box 943"/>
                  <p:cNvSpPr/>
                  <p:nvPr/>
                </p:nvSpPr>
                <p:spPr>
                  <a:xfrm flipH="1">
                    <a:off x="228600" y="1981080"/>
                    <a:ext cx="457200" cy="30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6" name="Text Box 944"/>
                  <p:cNvSpPr/>
                  <p:nvPr/>
                </p:nvSpPr>
                <p:spPr>
                  <a:xfrm flipH="1">
                    <a:off x="228600" y="2286000"/>
                    <a:ext cx="457200" cy="29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3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7" name="Text Box 945"/>
                  <p:cNvSpPr/>
                  <p:nvPr/>
                </p:nvSpPr>
                <p:spPr>
                  <a:xfrm flipH="1">
                    <a:off x="228600" y="2595600"/>
                    <a:ext cx="457200" cy="29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8" name="Text Box 946"/>
                  <p:cNvSpPr/>
                  <p:nvPr/>
                </p:nvSpPr>
                <p:spPr>
                  <a:xfrm flipH="1">
                    <a:off x="228600" y="457200"/>
                    <a:ext cx="457200" cy="30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9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9" name="Text Box 947"/>
                  <p:cNvSpPr/>
                  <p:nvPr/>
                </p:nvSpPr>
                <p:spPr>
                  <a:xfrm flipH="1">
                    <a:off x="228600" y="152280"/>
                    <a:ext cx="457200" cy="30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0" name="Text Box 948"/>
                  <p:cNvSpPr/>
                  <p:nvPr/>
                </p:nvSpPr>
                <p:spPr>
                  <a:xfrm>
                    <a:off x="2104920" y="6553080"/>
                    <a:ext cx="485640" cy="30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Text Box 949"/>
                  <p:cNvSpPr/>
                  <p:nvPr/>
                </p:nvSpPr>
                <p:spPr>
                  <a:xfrm>
                    <a:off x="733320" y="6553080"/>
                    <a:ext cx="485640" cy="30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950"/>
                  <p:cNvSpPr/>
                  <p:nvPr/>
                </p:nvSpPr>
                <p:spPr>
                  <a:xfrm>
                    <a:off x="1069920" y="6553080"/>
                    <a:ext cx="365040" cy="30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951"/>
                  <p:cNvSpPr/>
                  <p:nvPr/>
                </p:nvSpPr>
                <p:spPr>
                  <a:xfrm>
                    <a:off x="1423800" y="6553080"/>
                    <a:ext cx="405000" cy="30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4" name="Text Box 952"/>
                  <p:cNvSpPr/>
                  <p:nvPr/>
                </p:nvSpPr>
                <p:spPr>
                  <a:xfrm>
                    <a:off x="1768320" y="6553080"/>
                    <a:ext cx="365040" cy="30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5" name="Text Box 953"/>
                  <p:cNvSpPr/>
                  <p:nvPr/>
                </p:nvSpPr>
                <p:spPr>
                  <a:xfrm>
                    <a:off x="455400" y="6554880"/>
                    <a:ext cx="363600" cy="30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6" name="Text Box 954"/>
                  <p:cNvSpPr/>
                  <p:nvPr/>
                </p:nvSpPr>
                <p:spPr>
                  <a:xfrm>
                    <a:off x="3444840" y="6553080"/>
                    <a:ext cx="365040" cy="30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7" name="Text Box 955"/>
                  <p:cNvSpPr/>
                  <p:nvPr/>
                </p:nvSpPr>
                <p:spPr>
                  <a:xfrm>
                    <a:off x="2438280" y="6553080"/>
                    <a:ext cx="485640" cy="30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8" name="Text Box 956"/>
                  <p:cNvSpPr/>
                  <p:nvPr/>
                </p:nvSpPr>
                <p:spPr>
                  <a:xfrm>
                    <a:off x="2819160" y="6553080"/>
                    <a:ext cx="365400" cy="30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9" name="Text Box 957"/>
                  <p:cNvSpPr/>
                  <p:nvPr/>
                </p:nvSpPr>
                <p:spPr>
                  <a:xfrm>
                    <a:off x="3124080" y="6553080"/>
                    <a:ext cx="485640" cy="30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0</a:t>
                    </a:r>
                    <a:endParaRPr b="1" i="1" lang="en-US" sz="1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00" name="Group 958"/>
                <p:cNvGrpSpPr/>
                <p:nvPr/>
              </p:nvGrpSpPr>
              <p:grpSpPr>
                <a:xfrm>
                  <a:off x="-114480" y="152280"/>
                  <a:ext cx="571680" cy="854280"/>
                  <a:chOff x="-114480" y="152280"/>
                  <a:chExt cx="571680" cy="854280"/>
                </a:xfrm>
              </p:grpSpPr>
              <p:sp>
                <p:nvSpPr>
                  <p:cNvPr id="1601" name="Text Box 959"/>
                  <p:cNvSpPr/>
                  <p:nvPr/>
                </p:nvSpPr>
                <p:spPr>
                  <a:xfrm>
                    <a:off x="-114480" y="152280"/>
                    <a:ext cx="571680" cy="69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rmAutofit fontScale="92000"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溶解度</a:t>
                    </a: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/</a:t>
                    </a:r>
                    <a:endParaRPr b="1" i="1" lang="en-US" sz="16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2" name="Text Box 960"/>
                  <p:cNvSpPr/>
                  <p:nvPr/>
                </p:nvSpPr>
                <p:spPr>
                  <a:xfrm>
                    <a:off x="38160" y="609480"/>
                    <a:ext cx="3427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g</a:t>
                    </a:r>
                    <a:endParaRPr b="1" i="1" lang="en-US" sz="16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603" name="Text Box 961"/>
            <p:cNvSpPr/>
            <p:nvPr/>
          </p:nvSpPr>
          <p:spPr>
            <a:xfrm>
              <a:off x="4038480" y="655308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0000"/>
                  </a:solidFill>
                  <a:latin typeface="Times New Roman"/>
                </a:rPr>
                <a:t>温度</a:t>
              </a: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/℃</a:t>
              </a: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04" name="Text Box 962"/>
          <p:cNvSpPr/>
          <p:nvPr/>
        </p:nvSpPr>
        <p:spPr>
          <a:xfrm>
            <a:off x="4570560" y="33984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熟石灰的溶解度曲线：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Rectangle 964"/>
          <p:cNvSpPr/>
          <p:nvPr/>
        </p:nvSpPr>
        <p:spPr>
          <a:xfrm>
            <a:off x="3908520" y="2809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大多数固体物质溶解度随温度升高而增大，例如硝酸钾。 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Rectangle 965"/>
          <p:cNvSpPr/>
          <p:nvPr/>
        </p:nvSpPr>
        <p:spPr>
          <a:xfrm>
            <a:off x="4137120" y="4532400"/>
            <a:ext cx="51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</a:rPr>
              <a:t>少数固体物质溶解度受温度影响不大，例如食盐。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Rectangle 966"/>
          <p:cNvSpPr/>
          <p:nvPr/>
        </p:nvSpPr>
        <p:spPr>
          <a:xfrm>
            <a:off x="4591080" y="5867280"/>
            <a:ext cx="45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极少数固体物质溶解度随温度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升高反而减小，例如熟石灰。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下箭头 1"/>
          <p:cNvSpPr/>
          <p:nvPr/>
        </p:nvSpPr>
        <p:spPr>
          <a:xfrm>
            <a:off x="6192720" y="3643200"/>
            <a:ext cx="225720" cy="243000"/>
          </a:xfrm>
          <a:prstGeom prst="downArrow">
            <a:avLst>
              <a:gd name="adj1" fmla="val 50000"/>
              <a:gd name="adj2" fmla="val 4981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流程图: 过程 2"/>
          <p:cNvSpPr/>
          <p:nvPr/>
        </p:nvSpPr>
        <p:spPr>
          <a:xfrm>
            <a:off x="5483160" y="3933720"/>
            <a:ext cx="1527120" cy="479520"/>
          </a:xfrm>
          <a:prstGeom prst="flowChart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降温结晶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流程图: 过程 969"/>
          <p:cNvSpPr/>
          <p:nvPr/>
        </p:nvSpPr>
        <p:spPr>
          <a:xfrm>
            <a:off x="5638680" y="5362560"/>
            <a:ext cx="1441440" cy="479520"/>
          </a:xfrm>
          <a:prstGeom prst="flowChart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蒸发结晶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下箭头 970"/>
          <p:cNvSpPr/>
          <p:nvPr/>
        </p:nvSpPr>
        <p:spPr>
          <a:xfrm>
            <a:off x="6242040" y="5084640"/>
            <a:ext cx="225360" cy="243000"/>
          </a:xfrm>
          <a:prstGeom prst="downArrow">
            <a:avLst>
              <a:gd name="adj1" fmla="val 50000"/>
              <a:gd name="adj2" fmla="val 4989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Picture 7" descr=""/>
          <p:cNvPicPr/>
          <p:nvPr/>
        </p:nvPicPr>
        <p:blipFill>
          <a:blip r:embed="rId1"/>
          <a:stretch/>
        </p:blipFill>
        <p:spPr>
          <a:xfrm>
            <a:off x="5345280" y="1889280"/>
            <a:ext cx="3727440" cy="3098520"/>
          </a:xfrm>
          <a:prstGeom prst="rect">
            <a:avLst/>
          </a:prstGeom>
          <a:ln w="0">
            <a:noFill/>
          </a:ln>
        </p:spPr>
      </p:pic>
      <p:sp>
        <p:nvSpPr>
          <p:cNvPr id="1613" name="TextBox 5"/>
          <p:cNvSpPr/>
          <p:nvPr/>
        </p:nvSpPr>
        <p:spPr>
          <a:xfrm>
            <a:off x="1476360" y="6382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Tahoma"/>
              </a:rPr>
              <a:t>从溶解度曲线图中获取信息</a:t>
            </a:r>
            <a:endParaRPr b="1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TextBox 16"/>
          <p:cNvSpPr/>
          <p:nvPr/>
        </p:nvSpPr>
        <p:spPr>
          <a:xfrm>
            <a:off x="117360" y="1535040"/>
            <a:ext cx="84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如图所示，是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三种固体物质的溶解度曲线。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矩形 21"/>
          <p:cNvSpPr/>
          <p:nvPr/>
        </p:nvSpPr>
        <p:spPr>
          <a:xfrm>
            <a:off x="108000" y="2671920"/>
            <a:ext cx="53942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0g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水中最多能溶解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物质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比较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溶解度的大小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矩形 22"/>
          <p:cNvSpPr/>
          <p:nvPr/>
        </p:nvSpPr>
        <p:spPr>
          <a:xfrm>
            <a:off x="108000" y="4896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点表示的意义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对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物质来说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点处的溶液是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物质的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溶液。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矩形 25"/>
          <p:cNvSpPr/>
          <p:nvPr/>
        </p:nvSpPr>
        <p:spPr>
          <a:xfrm>
            <a:off x="901800" y="3209760"/>
            <a:ext cx="662040" cy="457200"/>
          </a:xfrm>
          <a:prstGeom prst="rect">
            <a:avLst/>
          </a:prstGeom>
          <a:gradFill rotWithShape="0">
            <a:gsLst>
              <a:gs pos="0">
                <a:srgbClr val="bdffeb"/>
              </a:gs>
              <a:gs pos="100000">
                <a:srgbClr val="ebfff9"/>
              </a:gs>
            </a:gsLst>
            <a:lin ang="16200000"/>
          </a:gradFill>
          <a:ln w="9360">
            <a:solidFill>
              <a:srgbClr val="a4eb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30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8" name="矩形 26"/>
          <p:cNvSpPr/>
          <p:nvPr/>
        </p:nvSpPr>
        <p:spPr>
          <a:xfrm>
            <a:off x="930240" y="4363920"/>
            <a:ext cx="1266840" cy="417600"/>
          </a:xfrm>
          <a:prstGeom prst="rect">
            <a:avLst/>
          </a:prstGeom>
          <a:gradFill rotWithShape="0">
            <a:gsLst>
              <a:gs pos="0">
                <a:srgbClr val="bdffeb"/>
              </a:gs>
              <a:gs pos="100000">
                <a:srgbClr val="ebfff9"/>
              </a:gs>
            </a:gsLst>
            <a:lin ang="16200000"/>
          </a:gradFill>
          <a:ln w="9360">
            <a:solidFill>
              <a:srgbClr val="a4eb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A=B</a:t>
            </a:r>
            <a:r>
              <a:rPr b="1" lang="en-US" sz="2400" spc="-1" strike="noStrike">
                <a:solidFill>
                  <a:srgbClr val="c00000"/>
                </a:solidFill>
                <a:latin typeface="바탕"/>
                <a:ea typeface="바탕"/>
              </a:rPr>
              <a:t>&gt;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C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矩形 27"/>
          <p:cNvSpPr/>
          <p:nvPr/>
        </p:nvSpPr>
        <p:spPr>
          <a:xfrm>
            <a:off x="3348000" y="4896000"/>
            <a:ext cx="3673440" cy="477720"/>
          </a:xfrm>
          <a:prstGeom prst="rect">
            <a:avLst/>
          </a:prstGeom>
          <a:gradFill rotWithShape="0">
            <a:gsLst>
              <a:gs pos="0">
                <a:srgbClr val="bdffeb"/>
              </a:gs>
              <a:gs pos="100000">
                <a:srgbClr val="ebfff9"/>
              </a:gs>
            </a:gsLst>
            <a:lin ang="16200000"/>
          </a:gradFill>
          <a:ln w="9360">
            <a:solidFill>
              <a:srgbClr val="a4eb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Tahoma"/>
              </a:rPr>
              <a:t>℃</a:t>
            </a:r>
            <a:r>
              <a:rPr b="1" lang="zh-CN" sz="2400" spc="-1" strike="noStrike">
                <a:solidFill>
                  <a:srgbClr val="c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c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c00000"/>
                </a:solidFill>
                <a:latin typeface="Tahoma"/>
              </a:rPr>
              <a:t>的溶解度相等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矩形 28"/>
          <p:cNvSpPr/>
          <p:nvPr/>
        </p:nvSpPr>
        <p:spPr>
          <a:xfrm>
            <a:off x="5724360" y="5464080"/>
            <a:ext cx="1152720" cy="432000"/>
          </a:xfrm>
          <a:prstGeom prst="rect">
            <a:avLst/>
          </a:prstGeom>
          <a:gradFill rotWithShape="0">
            <a:gsLst>
              <a:gs pos="0">
                <a:srgbClr val="bdffeb"/>
              </a:gs>
              <a:gs pos="100000">
                <a:srgbClr val="ebfff9"/>
              </a:gs>
            </a:gsLst>
            <a:lin ang="16200000"/>
          </a:gradFill>
          <a:ln w="9360">
            <a:solidFill>
              <a:srgbClr val="a4eb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ahoma"/>
              </a:rPr>
              <a:t>不饱和</a:t>
            </a:r>
            <a:endParaRPr b="1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12:08:07Z</dcterms:created>
  <dc:creator>刘树强</dc:creator>
  <dc:description/>
  <dc:language>en-US</dc:language>
  <cp:lastModifiedBy>Windows User</cp:lastModifiedBy>
  <dcterms:modified xsi:type="dcterms:W3CDTF">2020-04-08T07:54:51Z</dcterms:modified>
  <cp:revision>56</cp:revision>
  <dc:subject/>
  <dc:title>PowerPoint 演示文稿</dc:title>
</cp:coreProperties>
</file>