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067-BFD1-4406-89FE-15F76498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133-CCFD-4799-94BC-2F65F7B9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406-21EC-4BF2-B350-F16DE548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BC2-0F97-4689-85B0-CD081F4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85C3-E27B-4D91-9C78-715970CC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E68-13C3-4438-8D44-3A81DD8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5578-BC13-4A92-BA94-54FE262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411C-E9BF-45C4-9A14-D43C334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ABE-866A-47A9-A0F8-34D5F6CA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3600-8032-4413-9E07-A16282E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C9FB-503A-4124-9768-2CB3FA0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79C-9E21-4151-83EC-F28728EB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6A26-A9B5-42A6-9F21-48F39A2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1D07-815F-4BAC-B6D3-92F5103C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C75-19CA-449E-A885-F501B24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FE73-F103-41E1-9A47-64B6EC5A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3CEA-7A2E-4793-99B8-D51727B2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CA7-2D66-4E21-9060-FE1B681D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84DD-E1F8-48B6-93B0-0AE66E39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7A6B-921D-4687-A382-55B133B2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9D4F-50EC-49F6-AF56-8777BC1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29E-7D7A-4856-8DC7-3E8FFDE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6676-9064-46B2-9E8F-52B6EF6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EC27-4DD9-4348-BBA9-761CED9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F21D-DD85-46CD-A439-9C4F7BB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255F-52EF-4D4A-B199-8306834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251B-DF35-42EC-8D07-ED4E5AFE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DDFC-CAAC-4E71-A51A-EB23571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7295-14F6-4E94-A829-04BCAC9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BBD5-6C8F-4FAF-B5E9-86E44FD3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70BE-EDA2-4B85-885A-9FA1D49F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93A-2995-4A67-B8ED-1ADAA34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B95-2C5F-41B6-918C-ADA0627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87A-AD32-43AF-ACAE-0B5B9DE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236-F86F-4BE7-9441-0ABAEC5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033-DDFF-47C9-89E9-6DDAA53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EB5-A80A-4586-BD9C-AE3732EAC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组合 253"/>
          <p:cNvGrpSpPr/>
          <p:nvPr/>
        </p:nvGrpSpPr>
        <p:grpSpPr>
          <a:xfrm>
            <a:off x="7280280" y="22320"/>
            <a:ext cx="1789200" cy="522360"/>
            <a:chOff x="7280280" y="22320"/>
            <a:chExt cx="1789200" cy="522360"/>
          </a:xfrm>
        </p:grpSpPr>
        <p:pic>
          <p:nvPicPr>
            <p:cNvPr id="252" name="image1.png" descr=""/>
            <p:cNvPicPr/>
            <p:nvPr/>
          </p:nvPicPr>
          <p:blipFill>
            <a:blip r:embed="rId2"/>
            <a:stretch/>
          </p:blipFill>
          <p:spPr>
            <a:xfrm>
              <a:off x="7789320" y="22320"/>
              <a:ext cx="6170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image2.png" descr=""/>
            <p:cNvPicPr/>
            <p:nvPr/>
          </p:nvPicPr>
          <p:blipFill>
            <a:blip r:embed="rId3"/>
            <a:stretch/>
          </p:blipFill>
          <p:spPr>
            <a:xfrm>
              <a:off x="7280280" y="304200"/>
              <a:ext cx="1789200" cy="240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9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6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2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6CA-8699-4D91-A9A3-93BE10A9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07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53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67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81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95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09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23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37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39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组合 253"/>
          <p:cNvGrpSpPr/>
          <p:nvPr/>
        </p:nvGrpSpPr>
        <p:grpSpPr>
          <a:xfrm>
            <a:off x="7280280" y="22320"/>
            <a:ext cx="1789200" cy="522360"/>
            <a:chOff x="7280280" y="22320"/>
            <a:chExt cx="1789200" cy="522360"/>
          </a:xfrm>
        </p:grpSpPr>
        <p:pic>
          <p:nvPicPr>
            <p:cNvPr id="753" name="image1.png" descr=""/>
            <p:cNvPicPr/>
            <p:nvPr/>
          </p:nvPicPr>
          <p:blipFill>
            <a:blip r:embed="rId2"/>
            <a:stretch/>
          </p:blipFill>
          <p:spPr>
            <a:xfrm>
              <a:off x="7789320" y="22320"/>
              <a:ext cx="6170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image2.png" descr=""/>
            <p:cNvPicPr/>
            <p:nvPr/>
          </p:nvPicPr>
          <p:blipFill>
            <a:blip r:embed="rId3"/>
            <a:stretch/>
          </p:blipFill>
          <p:spPr>
            <a:xfrm>
              <a:off x="7280280" y="304200"/>
              <a:ext cx="1789200" cy="24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5" name="矩形 256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756" name="矩形 256" descr=""/>
            <p:cNvPicPr/>
            <p:nvPr/>
          </p:nvPicPr>
          <p:blipFill>
            <a:blip r:embed="rId4"/>
            <a:stretch/>
          </p:blipFill>
          <p:spPr>
            <a:xfrm>
              <a:off x="0" y="6400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矩形 257"/>
          <p:cNvGrpSpPr/>
          <p:nvPr/>
        </p:nvGrpSpPr>
        <p:grpSpPr>
          <a:xfrm>
            <a:off x="0" y="-30240"/>
            <a:ext cx="9144000" cy="951120"/>
            <a:chOff x="0" y="-30240"/>
            <a:chExt cx="9144000" cy="951120"/>
          </a:xfrm>
        </p:grpSpPr>
        <p:pic>
          <p:nvPicPr>
            <p:cNvPr id="759" name="矩形 257" descr=""/>
            <p:cNvPicPr/>
            <p:nvPr/>
          </p:nvPicPr>
          <p:blipFill>
            <a:blip r:embed="rId5"/>
            <a:stretch/>
          </p:blipFill>
          <p:spPr>
            <a:xfrm>
              <a:off x="0" y="-30240"/>
              <a:ext cx="914400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0" y="-30240"/>
              <a:ext cx="91440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灯片编号占位符 3"/>
          <p:cNvSpPr/>
          <p:nvPr/>
        </p:nvSpPr>
        <p:spPr>
          <a:xfrm>
            <a:off x="179280" y="6486480"/>
            <a:ext cx="144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fld id="{CDA709F5-2970-468E-87D3-867559692C2B}" type="slidenum"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0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9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9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9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9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0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0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0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0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组合 253"/>
          <p:cNvGrpSpPr/>
          <p:nvPr/>
        </p:nvGrpSpPr>
        <p:grpSpPr>
          <a:xfrm>
            <a:off x="7280280" y="22320"/>
            <a:ext cx="1789200" cy="522360"/>
            <a:chOff x="7280280" y="22320"/>
            <a:chExt cx="1789200" cy="522360"/>
          </a:xfrm>
        </p:grpSpPr>
        <p:pic>
          <p:nvPicPr>
            <p:cNvPr id="1047" name="image1.png" descr=""/>
            <p:cNvPicPr/>
            <p:nvPr/>
          </p:nvPicPr>
          <p:blipFill>
            <a:blip r:embed="rId2"/>
            <a:stretch/>
          </p:blipFill>
          <p:spPr>
            <a:xfrm>
              <a:off x="7789320" y="22320"/>
              <a:ext cx="6170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image2.png" descr=""/>
            <p:cNvPicPr/>
            <p:nvPr/>
          </p:nvPicPr>
          <p:blipFill>
            <a:blip r:embed="rId3"/>
            <a:stretch/>
          </p:blipFill>
          <p:spPr>
            <a:xfrm>
              <a:off x="7280280" y="304200"/>
              <a:ext cx="1789200" cy="24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96B-B0A9-420F-89AD-929514CAE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file:///F:/&#20998;&#21333;&#20803;&#36164;&#26009;/&#31532;&#21313;&#19968;&#21333;&#20803;/&#31895;&#30416;&#20013;&#21487;&#28342;&#24615;&#26434;&#36136;&#30340;&#21435;&#38500;.wmv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1093" name="Text Box 7"/>
          <p:cNvSpPr/>
          <p:nvPr/>
        </p:nvSpPr>
        <p:spPr>
          <a:xfrm>
            <a:off x="1384200" y="20574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复分解反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8"/>
          <p:cNvSpPr/>
          <p:nvPr/>
        </p:nvSpPr>
        <p:spPr>
          <a:xfrm>
            <a:off x="3657600" y="4038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1"/>
          <p:cNvSpPr/>
          <p:nvPr/>
        </p:nvSpPr>
        <p:spPr>
          <a:xfrm>
            <a:off x="4394880" y="3244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专题突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52280" y="108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练习：请写出下列复分解反应的实质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4627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NaO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e(OH)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pt-BR" sz="2800" spc="-1" strike="noStrike">
                <a:solidFill>
                  <a:srgbClr val="ff0066"/>
                </a:solidFill>
                <a:latin typeface="Arial"/>
              </a:rPr>
              <a:t>BaSO</a:t>
            </a:r>
            <a:r>
              <a:rPr b="1" lang="pt-BR" sz="28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pt-BR" sz="2800" spc="-1" strike="noStrike">
                <a:solidFill>
                  <a:srgbClr val="ff0066"/>
                </a:solidFill>
                <a:latin typeface="Arial"/>
              </a:rPr>
              <a:t>↓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2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NaC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pl-PL" sz="2800" spc="-1" strike="noStrike">
                <a:solidFill>
                  <a:srgbClr val="ff0066"/>
                </a:solidFill>
                <a:latin typeface="Arial"/>
              </a:rPr>
              <a:t>AgCl↓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NaNO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2HC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2NaCl+</a:t>
            </a:r>
            <a:r>
              <a:rPr b="1" lang="pl-PL" sz="2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pl-PL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ff0066"/>
                </a:solidFill>
                <a:latin typeface="Arial"/>
              </a:rPr>
              <a:t>O+CO</a:t>
            </a:r>
            <a:r>
              <a:rPr b="1" lang="pl-PL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NaO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NaNO</a:t>
            </a:r>
            <a:r>
              <a:rPr b="1" lang="en-US" sz="2800" spc="-1" strike="noStrike" baseline="-25000">
                <a:solidFill>
                  <a:srgbClr val="0d0d0d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+N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↑+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l + NaOH = NaCl +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"/>
          <p:cNvSpPr/>
          <p:nvPr/>
        </p:nvSpPr>
        <p:spPr>
          <a:xfrm>
            <a:off x="47520" y="6162840"/>
            <a:ext cx="85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应用：物质间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（离子间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能反应而不共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2"/>
          <p:cNvSpPr/>
          <p:nvPr/>
        </p:nvSpPr>
        <p:spPr>
          <a:xfrm>
            <a:off x="358920" y="1525680"/>
            <a:ext cx="474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3OH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= Fe(OH)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↓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5"/>
          <p:cNvSpPr/>
          <p:nvPr/>
        </p:nvSpPr>
        <p:spPr>
          <a:xfrm>
            <a:off x="5562720" y="302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Cl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AgCl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6"/>
          <p:cNvSpPr/>
          <p:nvPr/>
        </p:nvSpPr>
        <p:spPr>
          <a:xfrm>
            <a:off x="333360" y="2514600"/>
            <a:ext cx="46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 S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= BaS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↓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8"/>
          <p:cNvSpPr/>
          <p:nvPr/>
        </p:nvSpPr>
        <p:spPr>
          <a:xfrm>
            <a:off x="533520" y="415296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H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C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=C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Box 9"/>
          <p:cNvSpPr/>
          <p:nvPr/>
        </p:nvSpPr>
        <p:spPr>
          <a:xfrm>
            <a:off x="333360" y="510696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=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 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10"/>
          <p:cNvSpPr/>
          <p:nvPr/>
        </p:nvSpPr>
        <p:spPr>
          <a:xfrm>
            <a:off x="4800600" y="56404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+OH</a:t>
            </a:r>
            <a:r>
              <a:rPr b="1" lang="en-US" sz="28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=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Box 3"/>
          <p:cNvSpPr/>
          <p:nvPr/>
        </p:nvSpPr>
        <p:spPr>
          <a:xfrm>
            <a:off x="7303320" y="268200"/>
            <a:ext cx="140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b0000"/>
                </a:solidFill>
                <a:latin typeface="Arial"/>
              </a:rPr>
              <a:t>方法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逆向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788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复分解反应实质总结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0" name="TextBox 6"/>
          <p:cNvSpPr/>
          <p:nvPr/>
        </p:nvSpPr>
        <p:spPr>
          <a:xfrm>
            <a:off x="44280" y="498600"/>
            <a:ext cx="72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7"/>
          <p:cNvSpPr/>
          <p:nvPr/>
        </p:nvSpPr>
        <p:spPr>
          <a:xfrm>
            <a:off x="406440" y="762120"/>
            <a:ext cx="87375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         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                     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                        B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                           AgCl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8"/>
          <p:cNvSpPr/>
          <p:nvPr/>
        </p:nvSpPr>
        <p:spPr>
          <a:xfrm>
            <a:off x="685800" y="81288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3O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9"/>
          <p:cNvSpPr/>
          <p:nvPr/>
        </p:nvSpPr>
        <p:spPr>
          <a:xfrm>
            <a:off x="4761000" y="811080"/>
            <a:ext cx="27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g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2O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10"/>
          <p:cNvSpPr/>
          <p:nvPr/>
        </p:nvSpPr>
        <p:spPr>
          <a:xfrm>
            <a:off x="603360" y="1243080"/>
            <a:ext cx="27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2O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11"/>
          <p:cNvSpPr/>
          <p:nvPr/>
        </p:nvSpPr>
        <p:spPr>
          <a:xfrm>
            <a:off x="4869000" y="1373040"/>
            <a:ext cx="27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3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3OH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12"/>
          <p:cNvSpPr/>
          <p:nvPr/>
        </p:nvSpPr>
        <p:spPr>
          <a:xfrm>
            <a:off x="465120" y="1808280"/>
            <a:ext cx="270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 C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13"/>
          <p:cNvSpPr/>
          <p:nvPr/>
        </p:nvSpPr>
        <p:spPr>
          <a:xfrm>
            <a:off x="4869000" y="1857240"/>
            <a:ext cx="270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Ba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 C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14"/>
          <p:cNvSpPr/>
          <p:nvPr/>
        </p:nvSpPr>
        <p:spPr>
          <a:xfrm>
            <a:off x="547560" y="2284560"/>
            <a:ext cx="270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Ba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 S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15"/>
          <p:cNvSpPr/>
          <p:nvPr/>
        </p:nvSpPr>
        <p:spPr>
          <a:xfrm>
            <a:off x="5291280" y="237024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g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+Cl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16"/>
          <p:cNvSpPr/>
          <p:nvPr/>
        </p:nvSpPr>
        <p:spPr>
          <a:xfrm>
            <a:off x="50760" y="3235320"/>
            <a:ext cx="11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41"/>
          <p:cNvGrpSpPr/>
          <p:nvPr/>
        </p:nvGrpSpPr>
        <p:grpSpPr>
          <a:xfrm>
            <a:off x="4356000" y="2954160"/>
            <a:ext cx="1406520" cy="1348560"/>
            <a:chOff x="4356000" y="2954160"/>
            <a:chExt cx="1406520" cy="1348560"/>
          </a:xfrm>
        </p:grpSpPr>
        <p:sp>
          <p:nvSpPr>
            <p:cNvPr id="1222" name="TextBox 19"/>
            <p:cNvSpPr/>
            <p:nvPr/>
          </p:nvSpPr>
          <p:spPr>
            <a:xfrm>
              <a:off x="4356000" y="2954160"/>
              <a:ext cx="1390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Box 20"/>
            <p:cNvSpPr/>
            <p:nvPr/>
          </p:nvSpPr>
          <p:spPr>
            <a:xfrm>
              <a:off x="4466520" y="3654000"/>
              <a:ext cx="129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组合 27"/>
          <p:cNvGrpSpPr/>
          <p:nvPr/>
        </p:nvGrpSpPr>
        <p:grpSpPr>
          <a:xfrm>
            <a:off x="3373560" y="2992320"/>
            <a:ext cx="1131840" cy="648720"/>
            <a:chOff x="3373560" y="2992320"/>
            <a:chExt cx="1131840" cy="648720"/>
          </a:xfrm>
        </p:grpSpPr>
        <p:sp>
          <p:nvSpPr>
            <p:cNvPr id="1225" name="TextBox 18"/>
            <p:cNvSpPr/>
            <p:nvPr/>
          </p:nvSpPr>
          <p:spPr>
            <a:xfrm>
              <a:off x="3373560" y="2992320"/>
              <a:ext cx="1131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6" name="直接箭头连接符 24"/>
            <p:cNvCxnSpPr/>
            <p:nvPr/>
          </p:nvCxnSpPr>
          <p:spPr>
            <a:xfrm flipV="1">
              <a:off x="4325760" y="3016800"/>
              <a:ext cx="1080" cy="51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7" name="组合 28"/>
          <p:cNvGrpSpPr/>
          <p:nvPr/>
        </p:nvGrpSpPr>
        <p:grpSpPr>
          <a:xfrm>
            <a:off x="3513240" y="3595680"/>
            <a:ext cx="1077840" cy="648720"/>
            <a:chOff x="3513240" y="3595680"/>
            <a:chExt cx="1077840" cy="648720"/>
          </a:xfrm>
        </p:grpSpPr>
        <p:sp>
          <p:nvSpPr>
            <p:cNvPr id="1228" name="TextBox 17"/>
            <p:cNvSpPr/>
            <p:nvPr/>
          </p:nvSpPr>
          <p:spPr>
            <a:xfrm>
              <a:off x="3513240" y="3595680"/>
              <a:ext cx="1077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9" name="直接箭头连接符 26"/>
            <p:cNvCxnSpPr/>
            <p:nvPr/>
          </p:nvCxnSpPr>
          <p:spPr>
            <a:xfrm flipV="1">
              <a:off x="4411440" y="3644280"/>
              <a:ext cx="1080" cy="518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30" name="TextBox 29"/>
          <p:cNvSpPr/>
          <p:nvPr/>
        </p:nvSpPr>
        <p:spPr>
          <a:xfrm>
            <a:off x="1208160" y="2954160"/>
            <a:ext cx="234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H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+CO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30"/>
          <p:cNvSpPr/>
          <p:nvPr/>
        </p:nvSpPr>
        <p:spPr>
          <a:xfrm>
            <a:off x="1179360" y="3578400"/>
            <a:ext cx="245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+ OH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31"/>
          <p:cNvSpPr/>
          <p:nvPr/>
        </p:nvSpPr>
        <p:spPr>
          <a:xfrm>
            <a:off x="90360" y="4238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33"/>
          <p:cNvSpPr/>
          <p:nvPr/>
        </p:nvSpPr>
        <p:spPr>
          <a:xfrm>
            <a:off x="3298680" y="4284720"/>
            <a:ext cx="118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4"/>
          <p:cNvSpPr/>
          <p:nvPr/>
        </p:nvSpPr>
        <p:spPr>
          <a:xfrm>
            <a:off x="1327320" y="426240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+OH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35"/>
          <p:cNvSpPr/>
          <p:nvPr/>
        </p:nvSpPr>
        <p:spPr>
          <a:xfrm>
            <a:off x="3710160" y="5257800"/>
            <a:ext cx="9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00206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37"/>
          <p:cNvSpPr/>
          <p:nvPr/>
        </p:nvSpPr>
        <p:spPr>
          <a:xfrm>
            <a:off x="4995720" y="525312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00b05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38"/>
          <p:cNvSpPr/>
          <p:nvPr/>
        </p:nvSpPr>
        <p:spPr>
          <a:xfrm>
            <a:off x="1928880" y="5227560"/>
            <a:ext cx="129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39"/>
          <p:cNvSpPr/>
          <p:nvPr/>
        </p:nvSpPr>
        <p:spPr>
          <a:xfrm>
            <a:off x="528480" y="502452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40"/>
          <p:cNvSpPr/>
          <p:nvPr/>
        </p:nvSpPr>
        <p:spPr>
          <a:xfrm>
            <a:off x="5533920" y="4245120"/>
            <a:ext cx="137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42"/>
          <p:cNvSpPr/>
          <p:nvPr/>
        </p:nvSpPr>
        <p:spPr>
          <a:xfrm>
            <a:off x="547560" y="5811840"/>
            <a:ext cx="11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a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43"/>
          <p:cNvSpPr/>
          <p:nvPr/>
        </p:nvSpPr>
        <p:spPr>
          <a:xfrm>
            <a:off x="4889520" y="625968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44"/>
          <p:cNvSpPr/>
          <p:nvPr/>
        </p:nvSpPr>
        <p:spPr>
          <a:xfrm>
            <a:off x="5992920" y="6103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u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45"/>
          <p:cNvSpPr/>
          <p:nvPr/>
        </p:nvSpPr>
        <p:spPr>
          <a:xfrm>
            <a:off x="6865920" y="54021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g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6"/>
          <p:cNvSpPr/>
          <p:nvPr/>
        </p:nvSpPr>
        <p:spPr>
          <a:xfrm>
            <a:off x="6664320" y="4665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l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直接连接符 2"/>
          <p:cNvSpPr/>
          <p:nvPr/>
        </p:nvSpPr>
        <p:spPr>
          <a:xfrm>
            <a:off x="4195800" y="55738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直接连接符 48"/>
          <p:cNvSpPr/>
          <p:nvPr/>
        </p:nvSpPr>
        <p:spPr>
          <a:xfrm flipV="1">
            <a:off x="5533920" y="4822920"/>
            <a:ext cx="360360" cy="53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直接连接符 49"/>
          <p:cNvSpPr/>
          <p:nvPr/>
        </p:nvSpPr>
        <p:spPr>
          <a:xfrm flipV="1">
            <a:off x="5992920" y="5191200"/>
            <a:ext cx="71892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50"/>
          <p:cNvSpPr/>
          <p:nvPr/>
        </p:nvSpPr>
        <p:spPr>
          <a:xfrm>
            <a:off x="5950080" y="5649840"/>
            <a:ext cx="9158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直接连接符 51"/>
          <p:cNvSpPr/>
          <p:nvPr/>
        </p:nvSpPr>
        <p:spPr>
          <a:xfrm>
            <a:off x="5762520" y="5843520"/>
            <a:ext cx="459000" cy="41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直接连接符 52"/>
          <p:cNvSpPr/>
          <p:nvPr/>
        </p:nvSpPr>
        <p:spPr>
          <a:xfrm flipV="1">
            <a:off x="5291280" y="5837040"/>
            <a:ext cx="20304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直接连接符 53"/>
          <p:cNvSpPr/>
          <p:nvPr/>
        </p:nvSpPr>
        <p:spPr>
          <a:xfrm>
            <a:off x="3043080" y="56088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直接连接符 54"/>
          <p:cNvSpPr/>
          <p:nvPr/>
        </p:nvSpPr>
        <p:spPr>
          <a:xfrm>
            <a:off x="1314360" y="5402160"/>
            <a:ext cx="61452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直接连接符 55"/>
          <p:cNvSpPr/>
          <p:nvPr/>
        </p:nvSpPr>
        <p:spPr>
          <a:xfrm flipV="1">
            <a:off x="1687680" y="5811480"/>
            <a:ext cx="691920" cy="29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56"/>
          <p:cNvSpPr/>
          <p:nvPr/>
        </p:nvSpPr>
        <p:spPr>
          <a:xfrm>
            <a:off x="1238400" y="6269040"/>
            <a:ext cx="79524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68"/>
          <p:cNvSpPr/>
          <p:nvPr/>
        </p:nvSpPr>
        <p:spPr>
          <a:xfrm>
            <a:off x="2048040" y="6118200"/>
            <a:ext cx="1244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Box 59"/>
          <p:cNvSpPr/>
          <p:nvPr/>
        </p:nvSpPr>
        <p:spPr>
          <a:xfrm>
            <a:off x="7135920" y="3373560"/>
            <a:ext cx="170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1f6"/>
                </a:solidFill>
                <a:latin typeface="Arial"/>
              </a:rPr>
              <a:t>能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1f6"/>
                </a:solidFill>
                <a:latin typeface="Arial"/>
              </a:rPr>
              <a:t>不共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 Box 4"/>
          <p:cNvSpPr/>
          <p:nvPr/>
        </p:nvSpPr>
        <p:spPr>
          <a:xfrm>
            <a:off x="0" y="2286000"/>
            <a:ext cx="9601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各组物质，能共同存在于水溶液中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KOH        B.Mg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gN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BaCl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K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         D.HCl  K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0" y="4416480"/>
            <a:ext cx="861048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各组离子能在同一种溶液中大量共存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b05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b05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b05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OH</a:t>
            </a:r>
            <a:r>
              <a:rPr b="1" lang="en-US" sz="2800" spc="-1" strike="noStrike" baseline="50000">
                <a:solidFill>
                  <a:srgbClr val="00b05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g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Cl</a:t>
            </a:r>
            <a:r>
              <a:rPr b="1" lang="en-US" sz="2800" spc="-1" strike="noStrike" baseline="50000">
                <a:solidFill>
                  <a:srgbClr val="00b05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7"/>
          <p:cNvSpPr/>
          <p:nvPr/>
        </p:nvSpPr>
        <p:spPr>
          <a:xfrm>
            <a:off x="8231040" y="2209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8"/>
          <p:cNvSpPr/>
          <p:nvPr/>
        </p:nvSpPr>
        <p:spPr>
          <a:xfrm>
            <a:off x="458640" y="48006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WordArt 9" descr=""/>
          <p:cNvPicPr/>
          <p:nvPr/>
        </p:nvPicPr>
        <p:blipFill>
          <a:blip r:embed="rId1"/>
          <a:stretch/>
        </p:blipFill>
        <p:spPr>
          <a:xfrm>
            <a:off x="219240" y="1590840"/>
            <a:ext cx="5267160" cy="506160"/>
          </a:xfrm>
          <a:prstGeom prst="rect">
            <a:avLst/>
          </a:prstGeom>
          <a:ln w="0">
            <a:noFill/>
          </a:ln>
        </p:spPr>
      </p:pic>
      <p:sp>
        <p:nvSpPr>
          <p:cNvPr id="1262" name="WordArt 12"/>
          <p:cNvSpPr txBox="1"/>
          <p:nvPr/>
        </p:nvSpPr>
        <p:spPr>
          <a:xfrm>
            <a:off x="609480" y="0"/>
            <a:ext cx="6400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板块二：复分解反应实质的应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这三个条件我们进行分析总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水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气体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沉淀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2819520" y="1143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808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碳酸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（碳酸氢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3419640" y="3564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产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碱的沉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或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盐的沉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762120" y="2133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838080" y="2895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2057400" y="2851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铵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4165560" y="1809720"/>
            <a:ext cx="49528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4"/>
          <p:cNvSpPr/>
          <p:nvPr/>
        </p:nvSpPr>
        <p:spPr>
          <a:xfrm>
            <a:off x="6070680" y="114300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→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9"/>
          <p:cNvSpPr/>
          <p:nvPr/>
        </p:nvSpPr>
        <p:spPr>
          <a:xfrm>
            <a:off x="3657600" y="2855880"/>
            <a:ext cx="41911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"/>
          <p:cNvSpPr/>
          <p:nvPr/>
        </p:nvSpPr>
        <p:spPr>
          <a:xfrm>
            <a:off x="604800" y="4572000"/>
            <a:ext cx="700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3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应的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1"/>
          <p:cNvSpPr/>
          <p:nvPr/>
        </p:nvSpPr>
        <p:spPr>
          <a:xfrm>
            <a:off x="587520" y="5229360"/>
            <a:ext cx="86868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C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Ba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成碳酸盐的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2"/>
          <p:cNvSpPr/>
          <p:nvPr/>
        </p:nvSpPr>
        <p:spPr>
          <a:xfrm>
            <a:off x="0" y="123336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物质除杂的原则</a:t>
            </a: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去杂质、保留主要成分，又不能混入新的杂质（即：不能舍本逐末、不能玉石俱焚、也不能引狼入室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方法是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入某种物质将杂质离子变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淀、气体或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除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WordArt 12"/>
          <p:cNvSpPr txBox="1"/>
          <p:nvPr/>
        </p:nvSpPr>
        <p:spPr>
          <a:xfrm>
            <a:off x="620640" y="152280"/>
            <a:ext cx="6400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d0d0d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d0d0d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77" name="Group 2"/>
          <p:cNvGrpSpPr/>
          <p:nvPr/>
        </p:nvGrpSpPr>
        <p:grpSpPr>
          <a:xfrm>
            <a:off x="-111240" y="317520"/>
            <a:ext cx="9254880" cy="812880"/>
            <a:chOff x="-111240" y="317520"/>
            <a:chExt cx="9254880" cy="812880"/>
          </a:xfrm>
        </p:grpSpPr>
        <p:pic>
          <p:nvPicPr>
            <p:cNvPr id="1278" name="Picture 3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1"/>
            <a:stretch/>
          </p:blipFill>
          <p:spPr>
            <a:xfrm>
              <a:off x="-111240" y="317520"/>
              <a:ext cx="891612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Text Box 4"/>
            <p:cNvSpPr/>
            <p:nvPr/>
          </p:nvSpPr>
          <p:spPr>
            <a:xfrm>
              <a:off x="333000" y="483480"/>
              <a:ext cx="88106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考点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：复分解反应的应用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物质的除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TextBox 1"/>
          <p:cNvSpPr/>
          <p:nvPr/>
        </p:nvSpPr>
        <p:spPr>
          <a:xfrm>
            <a:off x="312840" y="3962520"/>
            <a:ext cx="372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l(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2"/>
          <p:cNvSpPr/>
          <p:nvPr/>
        </p:nvSpPr>
        <p:spPr>
          <a:xfrm>
            <a:off x="40384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加入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8"/>
          <p:cNvSpPr/>
          <p:nvPr/>
        </p:nvSpPr>
        <p:spPr>
          <a:xfrm>
            <a:off x="312840" y="4546440"/>
            <a:ext cx="806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 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 2HCl =2NaCl +C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9"/>
          <p:cNvSpPr/>
          <p:nvPr/>
        </p:nvSpPr>
        <p:spPr>
          <a:xfrm>
            <a:off x="127080" y="5116680"/>
            <a:ext cx="403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H(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0"/>
          <p:cNvSpPr/>
          <p:nvPr/>
        </p:nvSpPr>
        <p:spPr>
          <a:xfrm>
            <a:off x="312840" y="5745240"/>
            <a:ext cx="806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+ Ca(OH)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=Ca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↓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+ 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11"/>
          <p:cNvSpPr/>
          <p:nvPr/>
        </p:nvSpPr>
        <p:spPr>
          <a:xfrm>
            <a:off x="3854520" y="51609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加入澄清石灰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Group 3"/>
          <p:cNvGrpSpPr/>
          <p:nvPr/>
        </p:nvGrpSpPr>
        <p:grpSpPr>
          <a:xfrm>
            <a:off x="533520" y="3689280"/>
            <a:ext cx="7446600" cy="3092400"/>
            <a:chOff x="533520" y="3689280"/>
            <a:chExt cx="7446600" cy="3092400"/>
          </a:xfrm>
        </p:grpSpPr>
        <p:pic>
          <p:nvPicPr>
            <p:cNvPr id="1287" name="图片 1" descr=""/>
            <p:cNvPicPr/>
            <p:nvPr/>
          </p:nvPicPr>
          <p:blipFill>
            <a:blip r:embed="rId1"/>
            <a:stretch/>
          </p:blipFill>
          <p:spPr>
            <a:xfrm>
              <a:off x="533520" y="3689280"/>
              <a:ext cx="744660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椭圆​​ 2"/>
            <p:cNvSpPr/>
            <p:nvPr/>
          </p:nvSpPr>
          <p:spPr>
            <a:xfrm>
              <a:off x="1104480" y="4030200"/>
              <a:ext cx="2149560" cy="8316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zh-CN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椭圆​​ 6"/>
            <p:cNvSpPr/>
            <p:nvPr/>
          </p:nvSpPr>
          <p:spPr>
            <a:xfrm>
              <a:off x="5596200" y="4080960"/>
              <a:ext cx="1720080" cy="57492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zh-CN" sz="1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椭圆​​ 8"/>
            <p:cNvSpPr/>
            <p:nvPr/>
          </p:nvSpPr>
          <p:spPr>
            <a:xfrm>
              <a:off x="820440" y="5415840"/>
              <a:ext cx="1862280" cy="7664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椭圆​​ 10"/>
            <p:cNvSpPr/>
            <p:nvPr/>
          </p:nvSpPr>
          <p:spPr>
            <a:xfrm>
              <a:off x="5400720" y="5031000"/>
              <a:ext cx="1574640" cy="447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椭圆​​ 11"/>
            <p:cNvSpPr/>
            <p:nvPr/>
          </p:nvSpPr>
          <p:spPr>
            <a:xfrm>
              <a:off x="4254840" y="5734440"/>
              <a:ext cx="2863080" cy="821160"/>
            </a:xfrm>
            <a:prstGeom prst="ellipse">
              <a:avLst/>
            </a:prstGeom>
            <a:solidFill>
              <a:srgbClr val="cccc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​​ 10"/>
            <p:cNvSpPr/>
            <p:nvPr/>
          </p:nvSpPr>
          <p:spPr>
            <a:xfrm>
              <a:off x="3083760" y="4981680"/>
              <a:ext cx="1575360" cy="447840"/>
            </a:xfrm>
            <a:prstGeom prst="ellipse">
              <a:avLst/>
            </a:prstGeom>
            <a:solidFill>
              <a:srgbClr val="e1f4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椭圆 57"/>
          <p:cNvSpPr/>
          <p:nvPr/>
        </p:nvSpPr>
        <p:spPr>
          <a:xfrm>
            <a:off x="4921200" y="3887640"/>
            <a:ext cx="2395440" cy="2894040"/>
          </a:xfrm>
          <a:prstGeom prst="ellipse">
            <a:avLst/>
          </a:prstGeom>
          <a:noFill/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21"/>
          <p:cNvGrpSpPr/>
          <p:nvPr/>
        </p:nvGrpSpPr>
        <p:grpSpPr>
          <a:xfrm>
            <a:off x="3240" y="100080"/>
            <a:ext cx="9144000" cy="907920"/>
            <a:chOff x="3240" y="100080"/>
            <a:chExt cx="9144000" cy="907920"/>
          </a:xfrm>
        </p:grpSpPr>
        <p:pic>
          <p:nvPicPr>
            <p:cNvPr id="1296" name="Picture 22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2"/>
            <a:stretch/>
          </p:blipFill>
          <p:spPr>
            <a:xfrm>
              <a:off x="3240" y="10008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Text Box 23"/>
            <p:cNvSpPr/>
            <p:nvPr/>
          </p:nvSpPr>
          <p:spPr>
            <a:xfrm>
              <a:off x="111240" y="144360"/>
              <a:ext cx="66229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发现之旅：认识粗盐的成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Rectangle 3"/>
          <p:cNvSpPr/>
          <p:nvPr/>
        </p:nvSpPr>
        <p:spPr>
          <a:xfrm>
            <a:off x="111240" y="2179800"/>
            <a:ext cx="71881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溶液中的杂质离子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如何选择试剂除去杂质离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7"/>
          <p:cNvSpPr/>
          <p:nvPr/>
        </p:nvSpPr>
        <p:spPr>
          <a:xfrm>
            <a:off x="1503360" y="843120"/>
            <a:ext cx="7356600" cy="1759320"/>
          </a:xfrm>
          <a:prstGeom prst="rect">
            <a:avLst/>
          </a:prstGeom>
          <a:solidFill>
            <a:srgbClr val="fae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海水晒盐得到的食盐中还含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硫酸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氯化镁，氯化钙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等可溶性杂质，我们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何处理，才能得到纯净的氯化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Group 3"/>
          <p:cNvGrpSpPr/>
          <p:nvPr/>
        </p:nvGrpSpPr>
        <p:grpSpPr>
          <a:xfrm>
            <a:off x="990720" y="2428920"/>
            <a:ext cx="5093640" cy="3481200"/>
            <a:chOff x="990720" y="2428920"/>
            <a:chExt cx="5093640" cy="3481200"/>
          </a:xfrm>
        </p:grpSpPr>
        <p:pic>
          <p:nvPicPr>
            <p:cNvPr id="1301" name="图片 1" descr=""/>
            <p:cNvPicPr/>
            <p:nvPr/>
          </p:nvPicPr>
          <p:blipFill>
            <a:blip r:embed="rId1"/>
            <a:stretch/>
          </p:blipFill>
          <p:spPr>
            <a:xfrm>
              <a:off x="990720" y="2428920"/>
              <a:ext cx="5093640" cy="34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椭圆​​ 2"/>
            <p:cNvSpPr/>
            <p:nvPr/>
          </p:nvSpPr>
          <p:spPr>
            <a:xfrm>
              <a:off x="1381320" y="2812680"/>
              <a:ext cx="1470240" cy="936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zh-CN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椭圆​​ 6"/>
            <p:cNvSpPr/>
            <p:nvPr/>
          </p:nvSpPr>
          <p:spPr>
            <a:xfrm>
              <a:off x="4453920" y="2869920"/>
              <a:ext cx="1176480" cy="64728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zh-CN" sz="1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椭圆​​ 8"/>
            <p:cNvSpPr/>
            <p:nvPr/>
          </p:nvSpPr>
          <p:spPr>
            <a:xfrm>
              <a:off x="1186920" y="4372560"/>
              <a:ext cx="1274040" cy="8629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椭圆​​ 10"/>
            <p:cNvSpPr/>
            <p:nvPr/>
          </p:nvSpPr>
          <p:spPr>
            <a:xfrm>
              <a:off x="4320360" y="3939120"/>
              <a:ext cx="1077120" cy="5043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椭圆​​ 11"/>
            <p:cNvSpPr/>
            <p:nvPr/>
          </p:nvSpPr>
          <p:spPr>
            <a:xfrm>
              <a:off x="3536280" y="4731120"/>
              <a:ext cx="1958400" cy="924480"/>
            </a:xfrm>
            <a:prstGeom prst="ellipse">
              <a:avLst/>
            </a:prstGeom>
            <a:solidFill>
              <a:srgbClr val="cccc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椭圆​​ 10"/>
            <p:cNvSpPr/>
            <p:nvPr/>
          </p:nvSpPr>
          <p:spPr>
            <a:xfrm>
              <a:off x="2735280" y="3883680"/>
              <a:ext cx="1077480" cy="504360"/>
            </a:xfrm>
            <a:prstGeom prst="ellipse">
              <a:avLst/>
            </a:prstGeom>
            <a:solidFill>
              <a:srgbClr val="e1f4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21"/>
          <p:cNvGrpSpPr/>
          <p:nvPr/>
        </p:nvGrpSpPr>
        <p:grpSpPr>
          <a:xfrm>
            <a:off x="119160" y="390600"/>
            <a:ext cx="9144000" cy="907920"/>
            <a:chOff x="119160" y="390600"/>
            <a:chExt cx="9144000" cy="907920"/>
          </a:xfrm>
        </p:grpSpPr>
        <p:pic>
          <p:nvPicPr>
            <p:cNvPr id="1309" name="Picture 22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2"/>
            <a:stretch/>
          </p:blipFill>
          <p:spPr>
            <a:xfrm>
              <a:off x="119160" y="39060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Text Box 23"/>
            <p:cNvSpPr/>
            <p:nvPr/>
          </p:nvSpPr>
          <p:spPr>
            <a:xfrm>
              <a:off x="227160" y="434880"/>
              <a:ext cx="66229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发现之旅：认识粗盐的成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3"/>
          <p:cNvSpPr/>
          <p:nvPr/>
        </p:nvSpPr>
        <p:spPr>
          <a:xfrm>
            <a:off x="623880" y="1523880"/>
            <a:ext cx="7188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选择什么试剂除去杂质离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椭圆形标注 1"/>
          <p:cNvSpPr/>
          <p:nvPr/>
        </p:nvSpPr>
        <p:spPr>
          <a:xfrm>
            <a:off x="5495760" y="1255680"/>
            <a:ext cx="2873520" cy="1919160"/>
          </a:xfrm>
          <a:prstGeom prst="wedgeEllipseCallout">
            <a:avLst>
              <a:gd name="adj1" fmla="val -49125"/>
              <a:gd name="adj2" fmla="val 54694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2"/>
          <p:cNvSpPr/>
          <p:nvPr/>
        </p:nvSpPr>
        <p:spPr>
          <a:xfrm>
            <a:off x="6211800" y="2413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3"/>
          <p:cNvSpPr/>
          <p:nvPr/>
        </p:nvSpPr>
        <p:spPr>
          <a:xfrm>
            <a:off x="5867280" y="1676520"/>
            <a:ext cx="2667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椭圆形标注 4"/>
          <p:cNvSpPr/>
          <p:nvPr/>
        </p:nvSpPr>
        <p:spPr>
          <a:xfrm>
            <a:off x="5877000" y="3179880"/>
            <a:ext cx="3267000" cy="1463400"/>
          </a:xfrm>
          <a:prstGeom prst="wedgeEllipseCallout">
            <a:avLst>
              <a:gd name="adj1" fmla="val -67476"/>
              <a:gd name="adj2" fmla="val 22509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18"/>
          <p:cNvSpPr/>
          <p:nvPr/>
        </p:nvSpPr>
        <p:spPr>
          <a:xfrm>
            <a:off x="6446880" y="3330720"/>
            <a:ext cx="2127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9"/>
          <p:cNvSpPr/>
          <p:nvPr/>
        </p:nvSpPr>
        <p:spPr>
          <a:xfrm>
            <a:off x="6710400" y="3940200"/>
            <a:ext cx="1824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云形标注 6"/>
          <p:cNvSpPr/>
          <p:nvPr/>
        </p:nvSpPr>
        <p:spPr>
          <a:xfrm>
            <a:off x="5398920" y="5029200"/>
            <a:ext cx="3175200" cy="1676520"/>
          </a:xfrm>
          <a:prstGeom prst="cloudCallout">
            <a:avLst>
              <a:gd name="adj1" fmla="val -74768"/>
              <a:gd name="adj2" fmla="val -49402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22"/>
          <p:cNvSpPr/>
          <p:nvPr/>
        </p:nvSpPr>
        <p:spPr>
          <a:xfrm>
            <a:off x="6189840" y="5194440"/>
            <a:ext cx="206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BaS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4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23"/>
          <p:cNvSpPr/>
          <p:nvPr/>
        </p:nvSpPr>
        <p:spPr>
          <a:xfrm>
            <a:off x="6189840" y="5775480"/>
            <a:ext cx="196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Cl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3"/>
          <p:cNvGrpSpPr/>
          <p:nvPr/>
        </p:nvGrpSpPr>
        <p:grpSpPr>
          <a:xfrm>
            <a:off x="679320" y="1944720"/>
            <a:ext cx="6130440" cy="4684320"/>
            <a:chOff x="679320" y="1944720"/>
            <a:chExt cx="6130440" cy="4684320"/>
          </a:xfrm>
        </p:grpSpPr>
        <p:pic>
          <p:nvPicPr>
            <p:cNvPr id="1322" name="图片 1" descr=""/>
            <p:cNvPicPr/>
            <p:nvPr/>
          </p:nvPicPr>
          <p:blipFill>
            <a:blip r:embed="rId1"/>
            <a:stretch/>
          </p:blipFill>
          <p:spPr>
            <a:xfrm>
              <a:off x="734040" y="1944720"/>
              <a:ext cx="5886360" cy="46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椭圆​​ 2"/>
            <p:cNvSpPr/>
            <p:nvPr/>
          </p:nvSpPr>
          <p:spPr>
            <a:xfrm>
              <a:off x="930960" y="1972080"/>
              <a:ext cx="1402560" cy="8733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zh-CN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椭圆​​ 6"/>
            <p:cNvSpPr/>
            <p:nvPr/>
          </p:nvSpPr>
          <p:spPr>
            <a:xfrm>
              <a:off x="2516040" y="2025720"/>
              <a:ext cx="2664360" cy="120600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OH)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椭圆​​ 8"/>
            <p:cNvSpPr/>
            <p:nvPr/>
          </p:nvSpPr>
          <p:spPr>
            <a:xfrm>
              <a:off x="930960" y="3144240"/>
              <a:ext cx="1204920" cy="10976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椭圆​​ 10"/>
            <p:cNvSpPr/>
            <p:nvPr/>
          </p:nvSpPr>
          <p:spPr>
            <a:xfrm>
              <a:off x="4217400" y="3315240"/>
              <a:ext cx="2592360" cy="1148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椭圆​​ 11"/>
            <p:cNvSpPr/>
            <p:nvPr/>
          </p:nvSpPr>
          <p:spPr>
            <a:xfrm>
              <a:off x="679320" y="4724280"/>
              <a:ext cx="2263320" cy="1244520"/>
            </a:xfrm>
            <a:prstGeom prst="ellipse">
              <a:avLst/>
            </a:prstGeom>
            <a:solidFill>
              <a:srgbClr val="cccc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椭圆​​ 10"/>
            <p:cNvSpPr/>
            <p:nvPr/>
          </p:nvSpPr>
          <p:spPr>
            <a:xfrm>
              <a:off x="2333520" y="3210840"/>
              <a:ext cx="1244520" cy="678600"/>
            </a:xfrm>
            <a:prstGeom prst="ellipse">
              <a:avLst/>
            </a:prstGeom>
            <a:solidFill>
              <a:srgbClr val="e1f4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1"/>
          <p:cNvGrpSpPr/>
          <p:nvPr/>
        </p:nvGrpSpPr>
        <p:grpSpPr>
          <a:xfrm>
            <a:off x="119160" y="390600"/>
            <a:ext cx="9144000" cy="907920"/>
            <a:chOff x="119160" y="390600"/>
            <a:chExt cx="9144000" cy="907920"/>
          </a:xfrm>
        </p:grpSpPr>
        <p:pic>
          <p:nvPicPr>
            <p:cNvPr id="1330" name="Picture 22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2"/>
            <a:stretch/>
          </p:blipFill>
          <p:spPr>
            <a:xfrm>
              <a:off x="119160" y="39060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Text Box 23"/>
            <p:cNvSpPr/>
            <p:nvPr/>
          </p:nvSpPr>
          <p:spPr>
            <a:xfrm>
              <a:off x="227160" y="434880"/>
              <a:ext cx="66229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发现之旅：认识粗盐的成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Rectangle 3"/>
          <p:cNvSpPr/>
          <p:nvPr/>
        </p:nvSpPr>
        <p:spPr>
          <a:xfrm>
            <a:off x="623880" y="1298520"/>
            <a:ext cx="718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如何保证杂质离子除干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1"/>
          <p:cNvSpPr/>
          <p:nvPr/>
        </p:nvSpPr>
        <p:spPr>
          <a:xfrm>
            <a:off x="6705720" y="1298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药品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过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​​ 2"/>
          <p:cNvSpPr/>
          <p:nvPr/>
        </p:nvSpPr>
        <p:spPr>
          <a:xfrm>
            <a:off x="3060720" y="5576760"/>
            <a:ext cx="1403280" cy="873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椭圆​​ 8"/>
          <p:cNvSpPr/>
          <p:nvPr/>
        </p:nvSpPr>
        <p:spPr>
          <a:xfrm>
            <a:off x="2941560" y="4157640"/>
            <a:ext cx="1641600" cy="1096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椭圆​​ 10"/>
          <p:cNvSpPr/>
          <p:nvPr/>
        </p:nvSpPr>
        <p:spPr>
          <a:xfrm>
            <a:off x="4583160" y="5249880"/>
            <a:ext cx="1923840" cy="114948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</a:t>
            </a:r>
            <a:r>
              <a:rPr b="1" lang="en-US" sz="3200" spc="-1" strike="noStrike" baseline="30000">
                <a:solidFill>
                  <a:srgbClr val="292929"/>
                </a:solidFill>
                <a:latin typeface="Constantia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任意多边形 3"/>
          <p:cNvSpPr/>
          <p:nvPr/>
        </p:nvSpPr>
        <p:spPr>
          <a:xfrm>
            <a:off x="2873520" y="4005360"/>
            <a:ext cx="3803400" cy="2539800"/>
          </a:xfrm>
          <a:custGeom>
            <a:avLst/>
            <a:gdLst/>
            <a:ahLst/>
            <a:rect l="l" t="t" r="r" b="b"/>
            <a:pathLst>
              <a:path w="3802789" h="2540000">
                <a:moveTo>
                  <a:pt x="2148114" y="1001486"/>
                </a:moveTo>
                <a:cubicBezTo>
                  <a:pt x="2101629" y="885275"/>
                  <a:pt x="2145254" y="966703"/>
                  <a:pt x="2075542" y="885371"/>
                </a:cubicBezTo>
                <a:cubicBezTo>
                  <a:pt x="2059799" y="867004"/>
                  <a:pt x="2046060" y="846998"/>
                  <a:pt x="2032000" y="827314"/>
                </a:cubicBezTo>
                <a:cubicBezTo>
                  <a:pt x="2021861" y="813119"/>
                  <a:pt x="2015306" y="796106"/>
                  <a:pt x="2002971" y="783771"/>
                </a:cubicBezTo>
                <a:cubicBezTo>
                  <a:pt x="1956590" y="737390"/>
                  <a:pt x="1933759" y="730187"/>
                  <a:pt x="1886857" y="696686"/>
                </a:cubicBezTo>
                <a:cubicBezTo>
                  <a:pt x="1867172" y="682626"/>
                  <a:pt x="1845905" y="670248"/>
                  <a:pt x="1828800" y="653143"/>
                </a:cubicBezTo>
                <a:cubicBezTo>
                  <a:pt x="1816465" y="640808"/>
                  <a:pt x="1812106" y="621935"/>
                  <a:pt x="1799771" y="609600"/>
                </a:cubicBezTo>
                <a:cubicBezTo>
                  <a:pt x="1787436" y="597265"/>
                  <a:pt x="1769629" y="591738"/>
                  <a:pt x="1756228" y="580571"/>
                </a:cubicBezTo>
                <a:cubicBezTo>
                  <a:pt x="1740459" y="567430"/>
                  <a:pt x="1728888" y="549630"/>
                  <a:pt x="1712685" y="537028"/>
                </a:cubicBezTo>
                <a:cubicBezTo>
                  <a:pt x="1637823" y="478802"/>
                  <a:pt x="1647755" y="486356"/>
                  <a:pt x="1582057" y="464457"/>
                </a:cubicBezTo>
                <a:cubicBezTo>
                  <a:pt x="1553028" y="445105"/>
                  <a:pt x="1524405" y="425131"/>
                  <a:pt x="1494971" y="406400"/>
                </a:cubicBezTo>
                <a:cubicBezTo>
                  <a:pt x="1471171" y="391254"/>
                  <a:pt x="1442348" y="382805"/>
                  <a:pt x="1422400" y="362857"/>
                </a:cubicBezTo>
                <a:cubicBezTo>
                  <a:pt x="1295188" y="235645"/>
                  <a:pt x="1456558" y="391322"/>
                  <a:pt x="1335314" y="290286"/>
                </a:cubicBezTo>
                <a:cubicBezTo>
                  <a:pt x="1319545" y="277145"/>
                  <a:pt x="1307540" y="259884"/>
                  <a:pt x="1291771" y="246743"/>
                </a:cubicBezTo>
                <a:cubicBezTo>
                  <a:pt x="1271872" y="230161"/>
                  <a:pt x="1186989" y="181253"/>
                  <a:pt x="1175657" y="174171"/>
                </a:cubicBezTo>
                <a:cubicBezTo>
                  <a:pt x="1133551" y="147855"/>
                  <a:pt x="1123603" y="134694"/>
                  <a:pt x="1074057" y="116114"/>
                </a:cubicBezTo>
                <a:cubicBezTo>
                  <a:pt x="1055379" y="109110"/>
                  <a:pt x="1035180" y="107080"/>
                  <a:pt x="1016000" y="101600"/>
                </a:cubicBezTo>
                <a:cubicBezTo>
                  <a:pt x="1001289" y="97397"/>
                  <a:pt x="986971" y="91924"/>
                  <a:pt x="972457" y="87086"/>
                </a:cubicBezTo>
                <a:cubicBezTo>
                  <a:pt x="847668" y="3893"/>
                  <a:pt x="1005555" y="103635"/>
                  <a:pt x="885371" y="43543"/>
                </a:cubicBezTo>
                <a:cubicBezTo>
                  <a:pt x="869769" y="35742"/>
                  <a:pt x="858377" y="20030"/>
                  <a:pt x="841828" y="14514"/>
                </a:cubicBezTo>
                <a:cubicBezTo>
                  <a:pt x="813909" y="5208"/>
                  <a:pt x="783771" y="4838"/>
                  <a:pt x="754742" y="0"/>
                </a:cubicBezTo>
                <a:cubicBezTo>
                  <a:pt x="745876" y="493"/>
                  <a:pt x="467435" y="8423"/>
                  <a:pt x="391885" y="29028"/>
                </a:cubicBezTo>
                <a:cubicBezTo>
                  <a:pt x="335904" y="44296"/>
                  <a:pt x="337578" y="63440"/>
                  <a:pt x="290285" y="87086"/>
                </a:cubicBezTo>
                <a:cubicBezTo>
                  <a:pt x="276601" y="93928"/>
                  <a:pt x="261256" y="96762"/>
                  <a:pt x="246742" y="101600"/>
                </a:cubicBezTo>
                <a:cubicBezTo>
                  <a:pt x="237066" y="116114"/>
                  <a:pt x="230049" y="132808"/>
                  <a:pt x="217714" y="145143"/>
                </a:cubicBezTo>
                <a:cubicBezTo>
                  <a:pt x="205379" y="157478"/>
                  <a:pt x="183416" y="159379"/>
                  <a:pt x="174171" y="174171"/>
                </a:cubicBezTo>
                <a:cubicBezTo>
                  <a:pt x="157953" y="200119"/>
                  <a:pt x="162115" y="235797"/>
                  <a:pt x="145142" y="261257"/>
                </a:cubicBezTo>
                <a:lnTo>
                  <a:pt x="116114" y="304800"/>
                </a:lnTo>
                <a:cubicBezTo>
                  <a:pt x="111276" y="324152"/>
                  <a:pt x="109458" y="344522"/>
                  <a:pt x="101600" y="362857"/>
                </a:cubicBezTo>
                <a:cubicBezTo>
                  <a:pt x="94728" y="378891"/>
                  <a:pt x="78696" y="390067"/>
                  <a:pt x="72571" y="406400"/>
                </a:cubicBezTo>
                <a:cubicBezTo>
                  <a:pt x="63909" y="429499"/>
                  <a:pt x="63409" y="454889"/>
                  <a:pt x="58057" y="478971"/>
                </a:cubicBezTo>
                <a:cubicBezTo>
                  <a:pt x="53730" y="498444"/>
                  <a:pt x="48380" y="517676"/>
                  <a:pt x="43542" y="537028"/>
                </a:cubicBezTo>
                <a:cubicBezTo>
                  <a:pt x="38704" y="575733"/>
                  <a:pt x="32407" y="614283"/>
                  <a:pt x="29028" y="653143"/>
                </a:cubicBezTo>
                <a:cubicBezTo>
                  <a:pt x="2075" y="963113"/>
                  <a:pt x="30712" y="773667"/>
                  <a:pt x="0" y="957943"/>
                </a:cubicBezTo>
                <a:cubicBezTo>
                  <a:pt x="4766" y="1158119"/>
                  <a:pt x="-12453" y="1440995"/>
                  <a:pt x="29028" y="1669143"/>
                </a:cubicBezTo>
                <a:cubicBezTo>
                  <a:pt x="32596" y="1688769"/>
                  <a:pt x="36538" y="1708522"/>
                  <a:pt x="43542" y="1727200"/>
                </a:cubicBezTo>
                <a:cubicBezTo>
                  <a:pt x="74701" y="1810290"/>
                  <a:pt x="69061" y="1756706"/>
                  <a:pt x="87085" y="1828800"/>
                </a:cubicBezTo>
                <a:cubicBezTo>
                  <a:pt x="115221" y="1941343"/>
                  <a:pt x="82343" y="1862856"/>
                  <a:pt x="130628" y="1959428"/>
                </a:cubicBezTo>
                <a:cubicBezTo>
                  <a:pt x="136204" y="1992883"/>
                  <a:pt x="141790" y="2054322"/>
                  <a:pt x="159657" y="2090057"/>
                </a:cubicBezTo>
                <a:cubicBezTo>
                  <a:pt x="171457" y="2113657"/>
                  <a:pt x="220717" y="2175213"/>
                  <a:pt x="232228" y="2191657"/>
                </a:cubicBezTo>
                <a:cubicBezTo>
                  <a:pt x="252235" y="2220238"/>
                  <a:pt x="279252" y="2245645"/>
                  <a:pt x="290285" y="2278743"/>
                </a:cubicBezTo>
                <a:cubicBezTo>
                  <a:pt x="315794" y="2355265"/>
                  <a:pt x="287941" y="2293347"/>
                  <a:pt x="348342" y="2365828"/>
                </a:cubicBezTo>
                <a:cubicBezTo>
                  <a:pt x="359509" y="2379229"/>
                  <a:pt x="365036" y="2397036"/>
                  <a:pt x="377371" y="2409371"/>
                </a:cubicBezTo>
                <a:cubicBezTo>
                  <a:pt x="389706" y="2421706"/>
                  <a:pt x="406719" y="2428261"/>
                  <a:pt x="420914" y="2438400"/>
                </a:cubicBezTo>
                <a:cubicBezTo>
                  <a:pt x="440599" y="2452460"/>
                  <a:pt x="457334" y="2471125"/>
                  <a:pt x="478971" y="2481943"/>
                </a:cubicBezTo>
                <a:cubicBezTo>
                  <a:pt x="496813" y="2490864"/>
                  <a:pt x="517848" y="2490977"/>
                  <a:pt x="537028" y="2496457"/>
                </a:cubicBezTo>
                <a:cubicBezTo>
                  <a:pt x="551739" y="2500660"/>
                  <a:pt x="565728" y="2507260"/>
                  <a:pt x="580571" y="2510971"/>
                </a:cubicBezTo>
                <a:cubicBezTo>
                  <a:pt x="623844" y="2521789"/>
                  <a:pt x="667657" y="2530324"/>
                  <a:pt x="711200" y="2540000"/>
                </a:cubicBezTo>
                <a:lnTo>
                  <a:pt x="2859314" y="2525486"/>
                </a:lnTo>
                <a:cubicBezTo>
                  <a:pt x="2956190" y="2524333"/>
                  <a:pt x="3053465" y="2522988"/>
                  <a:pt x="3149600" y="2510971"/>
                </a:cubicBezTo>
                <a:cubicBezTo>
                  <a:pt x="3171069" y="2508287"/>
                  <a:pt x="3187131" y="2488785"/>
                  <a:pt x="3207657" y="2481943"/>
                </a:cubicBezTo>
                <a:cubicBezTo>
                  <a:pt x="3231060" y="2474142"/>
                  <a:pt x="3256428" y="2473919"/>
                  <a:pt x="3280228" y="2467428"/>
                </a:cubicBezTo>
                <a:cubicBezTo>
                  <a:pt x="3309749" y="2459377"/>
                  <a:pt x="3338285" y="2448076"/>
                  <a:pt x="3367314" y="2438400"/>
                </a:cubicBezTo>
                <a:cubicBezTo>
                  <a:pt x="3446861" y="2385368"/>
                  <a:pt x="3395257" y="2417171"/>
                  <a:pt x="3526971" y="2351314"/>
                </a:cubicBezTo>
                <a:cubicBezTo>
                  <a:pt x="3562465" y="2333567"/>
                  <a:pt x="3597796" y="2318903"/>
                  <a:pt x="3628571" y="2293257"/>
                </a:cubicBezTo>
                <a:cubicBezTo>
                  <a:pt x="3644340" y="2280116"/>
                  <a:pt x="3659116" y="2265601"/>
                  <a:pt x="3672114" y="2249714"/>
                </a:cubicBezTo>
                <a:cubicBezTo>
                  <a:pt x="3702751" y="2212269"/>
                  <a:pt x="3759200" y="2133600"/>
                  <a:pt x="3759200" y="2133600"/>
                </a:cubicBezTo>
                <a:cubicBezTo>
                  <a:pt x="3764038" y="2119086"/>
                  <a:pt x="3766872" y="2103741"/>
                  <a:pt x="3773714" y="2090057"/>
                </a:cubicBezTo>
                <a:cubicBezTo>
                  <a:pt x="3781515" y="2074455"/>
                  <a:pt x="3801718" y="2063928"/>
                  <a:pt x="3802742" y="2046514"/>
                </a:cubicBezTo>
                <a:cubicBezTo>
                  <a:pt x="3803265" y="2037615"/>
                  <a:pt x="3799862" y="1846270"/>
                  <a:pt x="3773714" y="1785257"/>
                </a:cubicBezTo>
                <a:cubicBezTo>
                  <a:pt x="3758559" y="1749895"/>
                  <a:pt x="3727297" y="1724326"/>
                  <a:pt x="3701142" y="1698171"/>
                </a:cubicBezTo>
                <a:cubicBezTo>
                  <a:pt x="3683073" y="1643963"/>
                  <a:pt x="3689333" y="1647444"/>
                  <a:pt x="3643085" y="1596571"/>
                </a:cubicBezTo>
                <a:cubicBezTo>
                  <a:pt x="3610868" y="1561132"/>
                  <a:pt x="3568052" y="1534822"/>
                  <a:pt x="3541485" y="1494971"/>
                </a:cubicBezTo>
                <a:cubicBezTo>
                  <a:pt x="3502781" y="1436914"/>
                  <a:pt x="3526971" y="1461104"/>
                  <a:pt x="3468914" y="1422400"/>
                </a:cubicBezTo>
                <a:cubicBezTo>
                  <a:pt x="3454400" y="1403048"/>
                  <a:pt x="3445499" y="1377761"/>
                  <a:pt x="3425371" y="1364343"/>
                </a:cubicBezTo>
                <a:cubicBezTo>
                  <a:pt x="3399911" y="1347370"/>
                  <a:pt x="3367314" y="1344990"/>
                  <a:pt x="3338285" y="1335314"/>
                </a:cubicBezTo>
                <a:cubicBezTo>
                  <a:pt x="3321736" y="1329798"/>
                  <a:pt x="3310344" y="1314087"/>
                  <a:pt x="3294742" y="1306286"/>
                </a:cubicBezTo>
                <a:cubicBezTo>
                  <a:pt x="3232079" y="1274954"/>
                  <a:pt x="3098548" y="1280029"/>
                  <a:pt x="3062514" y="1277257"/>
                </a:cubicBezTo>
                <a:cubicBezTo>
                  <a:pt x="3039877" y="1272226"/>
                  <a:pt x="2918155" y="1246379"/>
                  <a:pt x="2873828" y="1233714"/>
                </a:cubicBezTo>
                <a:cubicBezTo>
                  <a:pt x="2728071" y="1192070"/>
                  <a:pt x="2953723" y="1250059"/>
                  <a:pt x="2772228" y="1204686"/>
                </a:cubicBezTo>
                <a:cubicBezTo>
                  <a:pt x="2757714" y="1195010"/>
                  <a:pt x="2745234" y="1181173"/>
                  <a:pt x="2728685" y="1175657"/>
                </a:cubicBezTo>
                <a:cubicBezTo>
                  <a:pt x="2593110" y="1130465"/>
                  <a:pt x="2684630" y="1193952"/>
                  <a:pt x="2598057" y="1132114"/>
                </a:cubicBezTo>
                <a:cubicBezTo>
                  <a:pt x="2462586" y="1035348"/>
                  <a:pt x="2612576" y="1146632"/>
                  <a:pt x="2496457" y="1030514"/>
                </a:cubicBezTo>
                <a:cubicBezTo>
                  <a:pt x="2484122" y="1018179"/>
                  <a:pt x="2465880" y="1013155"/>
                  <a:pt x="2452914" y="1001486"/>
                </a:cubicBezTo>
                <a:cubicBezTo>
                  <a:pt x="2425662" y="976959"/>
                  <a:pt x="2359593" y="893889"/>
                  <a:pt x="2307771" y="870857"/>
                </a:cubicBezTo>
                <a:cubicBezTo>
                  <a:pt x="2229475" y="836058"/>
                  <a:pt x="2204863" y="840510"/>
                  <a:pt x="2119085" y="827314"/>
                </a:cubicBezTo>
                <a:cubicBezTo>
                  <a:pt x="2014402" y="811209"/>
                  <a:pt x="2064077" y="812800"/>
                  <a:pt x="2002971" y="8128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"/>
          <p:cNvSpPr/>
          <p:nvPr/>
        </p:nvSpPr>
        <p:spPr>
          <a:xfrm>
            <a:off x="7007400" y="2662200"/>
            <a:ext cx="197316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杂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Group 3"/>
          <p:cNvGrpSpPr/>
          <p:nvPr/>
        </p:nvGrpSpPr>
        <p:grpSpPr>
          <a:xfrm>
            <a:off x="679320" y="1944720"/>
            <a:ext cx="6374880" cy="4684320"/>
            <a:chOff x="679320" y="1944720"/>
            <a:chExt cx="6374880" cy="4684320"/>
          </a:xfrm>
        </p:grpSpPr>
        <p:pic>
          <p:nvPicPr>
            <p:cNvPr id="1340" name="图片 1" descr=""/>
            <p:cNvPicPr/>
            <p:nvPr/>
          </p:nvPicPr>
          <p:blipFill>
            <a:blip r:embed="rId1"/>
            <a:stretch/>
          </p:blipFill>
          <p:spPr>
            <a:xfrm>
              <a:off x="738000" y="1944720"/>
              <a:ext cx="6316200" cy="46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1" name="椭圆​​ 2"/>
            <p:cNvSpPr/>
            <p:nvPr/>
          </p:nvSpPr>
          <p:spPr>
            <a:xfrm>
              <a:off x="949320" y="1972080"/>
              <a:ext cx="1505160" cy="8733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zh-CN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椭圆​​ 6"/>
            <p:cNvSpPr/>
            <p:nvPr/>
          </p:nvSpPr>
          <p:spPr>
            <a:xfrm>
              <a:off x="2649960" y="2025720"/>
              <a:ext cx="2859120" cy="120600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OH)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椭圆​​ 8"/>
            <p:cNvSpPr/>
            <p:nvPr/>
          </p:nvSpPr>
          <p:spPr>
            <a:xfrm>
              <a:off x="949320" y="3144240"/>
              <a:ext cx="1293120" cy="10976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椭圆​​ 10"/>
            <p:cNvSpPr/>
            <p:nvPr/>
          </p:nvSpPr>
          <p:spPr>
            <a:xfrm>
              <a:off x="4505400" y="3093120"/>
              <a:ext cx="2548800" cy="1148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椭圆​​ 11"/>
            <p:cNvSpPr/>
            <p:nvPr/>
          </p:nvSpPr>
          <p:spPr>
            <a:xfrm>
              <a:off x="679320" y="4724280"/>
              <a:ext cx="2428560" cy="1244520"/>
            </a:xfrm>
            <a:prstGeom prst="ellipse">
              <a:avLst/>
            </a:prstGeom>
            <a:solidFill>
              <a:srgbClr val="cccc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292929"/>
                  </a:solidFill>
                  <a:latin typeface="Constantia"/>
                </a:rPr>
                <a:t> 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椭圆​​ 10"/>
            <p:cNvSpPr/>
            <p:nvPr/>
          </p:nvSpPr>
          <p:spPr>
            <a:xfrm>
              <a:off x="2454480" y="3210840"/>
              <a:ext cx="1335600" cy="678600"/>
            </a:xfrm>
            <a:prstGeom prst="ellipse">
              <a:avLst/>
            </a:prstGeom>
            <a:solidFill>
              <a:srgbClr val="e1f4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Group 21"/>
          <p:cNvGrpSpPr/>
          <p:nvPr/>
        </p:nvGrpSpPr>
        <p:grpSpPr>
          <a:xfrm>
            <a:off x="119160" y="390600"/>
            <a:ext cx="9144000" cy="907920"/>
            <a:chOff x="119160" y="390600"/>
            <a:chExt cx="9144000" cy="907920"/>
          </a:xfrm>
        </p:grpSpPr>
        <p:pic>
          <p:nvPicPr>
            <p:cNvPr id="1348" name="Picture 22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2"/>
            <a:stretch/>
          </p:blipFill>
          <p:spPr>
            <a:xfrm>
              <a:off x="119160" y="39060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Text Box 23"/>
            <p:cNvSpPr/>
            <p:nvPr/>
          </p:nvSpPr>
          <p:spPr>
            <a:xfrm>
              <a:off x="227160" y="434880"/>
              <a:ext cx="66229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发现之旅：认识粗盐的成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Rectangle 3"/>
          <p:cNvSpPr/>
          <p:nvPr/>
        </p:nvSpPr>
        <p:spPr>
          <a:xfrm>
            <a:off x="623880" y="1298520"/>
            <a:ext cx="718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如何保证杂质离子除干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椭圆​​ 2"/>
          <p:cNvSpPr/>
          <p:nvPr/>
        </p:nvSpPr>
        <p:spPr>
          <a:xfrm>
            <a:off x="3060720" y="5576760"/>
            <a:ext cx="1403280" cy="873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椭圆​​ 8"/>
          <p:cNvSpPr/>
          <p:nvPr/>
        </p:nvSpPr>
        <p:spPr>
          <a:xfrm>
            <a:off x="2941560" y="4157640"/>
            <a:ext cx="1641600" cy="1096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椭圆​​ 10"/>
          <p:cNvSpPr/>
          <p:nvPr/>
        </p:nvSpPr>
        <p:spPr>
          <a:xfrm>
            <a:off x="4583160" y="5249880"/>
            <a:ext cx="1923840" cy="114948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</a:t>
            </a:r>
            <a:r>
              <a:rPr b="1" lang="en-US" sz="3200" spc="-1" strike="noStrike" baseline="30000">
                <a:solidFill>
                  <a:srgbClr val="292929"/>
                </a:solidFill>
                <a:latin typeface="Constantia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椭圆形标注 1"/>
          <p:cNvSpPr/>
          <p:nvPr/>
        </p:nvSpPr>
        <p:spPr>
          <a:xfrm>
            <a:off x="4354560" y="4157640"/>
            <a:ext cx="2295360" cy="936720"/>
          </a:xfrm>
          <a:prstGeom prst="wedgeEllipseCallout">
            <a:avLst>
              <a:gd name="adj1" fmla="val -62712"/>
              <a:gd name="adj2" fmla="val 72814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任意多边形 4"/>
          <p:cNvSpPr/>
          <p:nvPr/>
        </p:nvSpPr>
        <p:spPr>
          <a:xfrm>
            <a:off x="3033720" y="4408560"/>
            <a:ext cx="1320840" cy="1963800"/>
          </a:xfrm>
          <a:custGeom>
            <a:avLst/>
            <a:gdLst/>
            <a:ahLst/>
            <a:rect l="l" t="t" r="r" b="b"/>
            <a:pathLst>
              <a:path w="1320800" h="1963366">
                <a:moveTo>
                  <a:pt x="870857" y="3938"/>
                </a:moveTo>
                <a:cubicBezTo>
                  <a:pt x="783771" y="6357"/>
                  <a:pt x="657800" y="10581"/>
                  <a:pt x="551543" y="18452"/>
                </a:cubicBezTo>
                <a:cubicBezTo>
                  <a:pt x="526941" y="20274"/>
                  <a:pt x="503243" y="28553"/>
                  <a:pt x="478971" y="32966"/>
                </a:cubicBezTo>
                <a:cubicBezTo>
                  <a:pt x="450017" y="38230"/>
                  <a:pt x="420914" y="42643"/>
                  <a:pt x="391885" y="47481"/>
                </a:cubicBezTo>
                <a:cubicBezTo>
                  <a:pt x="292070" y="114025"/>
                  <a:pt x="337898" y="94506"/>
                  <a:pt x="261257" y="120052"/>
                </a:cubicBezTo>
                <a:cubicBezTo>
                  <a:pt x="256419" y="134566"/>
                  <a:pt x="253585" y="149911"/>
                  <a:pt x="246743" y="163595"/>
                </a:cubicBezTo>
                <a:cubicBezTo>
                  <a:pt x="238942" y="179197"/>
                  <a:pt x="224799" y="191197"/>
                  <a:pt x="217714" y="207138"/>
                </a:cubicBezTo>
                <a:cubicBezTo>
                  <a:pt x="205286" y="235100"/>
                  <a:pt x="198361" y="265195"/>
                  <a:pt x="188685" y="294224"/>
                </a:cubicBezTo>
                <a:lnTo>
                  <a:pt x="174171" y="337766"/>
                </a:lnTo>
                <a:cubicBezTo>
                  <a:pt x="144882" y="689245"/>
                  <a:pt x="182827" y="369946"/>
                  <a:pt x="130628" y="613538"/>
                </a:cubicBezTo>
                <a:cubicBezTo>
                  <a:pt x="123460" y="646989"/>
                  <a:pt x="122234" y="681479"/>
                  <a:pt x="116114" y="715138"/>
                </a:cubicBezTo>
                <a:cubicBezTo>
                  <a:pt x="112546" y="734764"/>
                  <a:pt x="105780" y="753690"/>
                  <a:pt x="101600" y="773195"/>
                </a:cubicBezTo>
                <a:cubicBezTo>
                  <a:pt x="91262" y="821439"/>
                  <a:pt x="84537" y="870472"/>
                  <a:pt x="72571" y="918338"/>
                </a:cubicBezTo>
                <a:cubicBezTo>
                  <a:pt x="65150" y="948023"/>
                  <a:pt x="53219" y="976395"/>
                  <a:pt x="43543" y="1005424"/>
                </a:cubicBezTo>
                <a:cubicBezTo>
                  <a:pt x="38705" y="1019938"/>
                  <a:pt x="32028" y="1033964"/>
                  <a:pt x="29028" y="1048966"/>
                </a:cubicBezTo>
                <a:lnTo>
                  <a:pt x="0" y="1194109"/>
                </a:lnTo>
                <a:cubicBezTo>
                  <a:pt x="4838" y="1358604"/>
                  <a:pt x="5632" y="1523268"/>
                  <a:pt x="14514" y="1687595"/>
                </a:cubicBezTo>
                <a:cubicBezTo>
                  <a:pt x="16768" y="1729297"/>
                  <a:pt x="73656" y="1798081"/>
                  <a:pt x="87085" y="1818224"/>
                </a:cubicBezTo>
                <a:cubicBezTo>
                  <a:pt x="96761" y="1832738"/>
                  <a:pt x="99565" y="1856250"/>
                  <a:pt x="116114" y="1861766"/>
                </a:cubicBezTo>
                <a:cubicBezTo>
                  <a:pt x="261605" y="1910264"/>
                  <a:pt x="143697" y="1875991"/>
                  <a:pt x="290285" y="1905309"/>
                </a:cubicBezTo>
                <a:cubicBezTo>
                  <a:pt x="313300" y="1909912"/>
                  <a:pt x="367677" y="1923964"/>
                  <a:pt x="391885" y="1934338"/>
                </a:cubicBezTo>
                <a:cubicBezTo>
                  <a:pt x="411772" y="1942861"/>
                  <a:pt x="430590" y="1953690"/>
                  <a:pt x="449943" y="1963366"/>
                </a:cubicBezTo>
                <a:cubicBezTo>
                  <a:pt x="595611" y="1956430"/>
                  <a:pt x="729779" y="1957851"/>
                  <a:pt x="870857" y="1934338"/>
                </a:cubicBezTo>
                <a:cubicBezTo>
                  <a:pt x="890534" y="1931059"/>
                  <a:pt x="909807" y="1925556"/>
                  <a:pt x="928914" y="1919824"/>
                </a:cubicBezTo>
                <a:cubicBezTo>
                  <a:pt x="958222" y="1911031"/>
                  <a:pt x="1016000" y="1890795"/>
                  <a:pt x="1016000" y="1890795"/>
                </a:cubicBezTo>
                <a:cubicBezTo>
                  <a:pt x="1025676" y="1876281"/>
                  <a:pt x="1033861" y="1860653"/>
                  <a:pt x="1045028" y="1847252"/>
                </a:cubicBezTo>
                <a:cubicBezTo>
                  <a:pt x="1089029" y="1794451"/>
                  <a:pt x="1095875" y="1810882"/>
                  <a:pt x="1132114" y="1745652"/>
                </a:cubicBezTo>
                <a:cubicBezTo>
                  <a:pt x="1250485" y="1532587"/>
                  <a:pt x="1091211" y="1777981"/>
                  <a:pt x="1190171" y="1629538"/>
                </a:cubicBezTo>
                <a:cubicBezTo>
                  <a:pt x="1195009" y="1605347"/>
                  <a:pt x="1198702" y="1580899"/>
                  <a:pt x="1204685" y="1556966"/>
                </a:cubicBezTo>
                <a:cubicBezTo>
                  <a:pt x="1212917" y="1524038"/>
                  <a:pt x="1238249" y="1467462"/>
                  <a:pt x="1248228" y="1440852"/>
                </a:cubicBezTo>
                <a:cubicBezTo>
                  <a:pt x="1290169" y="1329009"/>
                  <a:pt x="1231499" y="1476529"/>
                  <a:pt x="1277257" y="1339252"/>
                </a:cubicBezTo>
                <a:cubicBezTo>
                  <a:pt x="1285496" y="1314535"/>
                  <a:pt x="1296609" y="1290871"/>
                  <a:pt x="1306285" y="1266681"/>
                </a:cubicBezTo>
                <a:cubicBezTo>
                  <a:pt x="1301447" y="1131214"/>
                  <a:pt x="1291771" y="995834"/>
                  <a:pt x="1291771" y="860281"/>
                </a:cubicBezTo>
                <a:cubicBezTo>
                  <a:pt x="1291771" y="524095"/>
                  <a:pt x="1278174" y="595349"/>
                  <a:pt x="1320800" y="424852"/>
                </a:cubicBezTo>
                <a:cubicBezTo>
                  <a:pt x="1315962" y="337766"/>
                  <a:pt x="1314554" y="250422"/>
                  <a:pt x="1306285" y="163595"/>
                </a:cubicBezTo>
                <a:cubicBezTo>
                  <a:pt x="1304834" y="148365"/>
                  <a:pt x="1300258" y="132782"/>
                  <a:pt x="1291771" y="120052"/>
                </a:cubicBezTo>
                <a:cubicBezTo>
                  <a:pt x="1280385" y="102973"/>
                  <a:pt x="1265545" y="87529"/>
                  <a:pt x="1248228" y="76509"/>
                </a:cubicBezTo>
                <a:cubicBezTo>
                  <a:pt x="1206431" y="49911"/>
                  <a:pt x="1131612" y="10333"/>
                  <a:pt x="1074057" y="3938"/>
                </a:cubicBezTo>
                <a:cubicBezTo>
                  <a:pt x="1006566" y="-3561"/>
                  <a:pt x="957943" y="1519"/>
                  <a:pt x="870857" y="393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Box 5"/>
          <p:cNvSpPr/>
          <p:nvPr/>
        </p:nvSpPr>
        <p:spPr>
          <a:xfrm>
            <a:off x="4554360" y="4260960"/>
            <a:ext cx="22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稀盐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椭圆形标注 6"/>
          <p:cNvSpPr/>
          <p:nvPr/>
        </p:nvSpPr>
        <p:spPr>
          <a:xfrm>
            <a:off x="6848640" y="4157640"/>
            <a:ext cx="2179440" cy="1666800"/>
          </a:xfrm>
          <a:prstGeom prst="wedgeEllipseCallout">
            <a:avLst>
              <a:gd name="adj1" fmla="val -83430"/>
              <a:gd name="adj2" fmla="val 67453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Box 7"/>
          <p:cNvSpPr/>
          <p:nvPr/>
        </p:nvSpPr>
        <p:spPr>
          <a:xfrm>
            <a:off x="7000920" y="4322880"/>
            <a:ext cx="2655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Constantia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24"/>
          <p:cNvSpPr/>
          <p:nvPr/>
        </p:nvSpPr>
        <p:spPr>
          <a:xfrm>
            <a:off x="6981840" y="4925880"/>
            <a:ext cx="191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2"/>
          <p:cNvSpPr/>
          <p:nvPr/>
        </p:nvSpPr>
        <p:spPr>
          <a:xfrm>
            <a:off x="7054920" y="1620720"/>
            <a:ext cx="19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加盐酸前需要什么操作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Box 5"/>
          <p:cNvSpPr/>
          <p:nvPr/>
        </p:nvSpPr>
        <p:spPr>
          <a:xfrm>
            <a:off x="663480" y="4521240"/>
            <a:ext cx="798984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溶液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如何确定药品的加入顺序操作最简便且节约药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"/>
          <p:cNvGrpSpPr/>
          <p:nvPr/>
        </p:nvGrpSpPr>
        <p:grpSpPr>
          <a:xfrm>
            <a:off x="609480" y="1039680"/>
            <a:ext cx="2351160" cy="3481560"/>
            <a:chOff x="609480" y="1039680"/>
            <a:chExt cx="2351160" cy="3481560"/>
          </a:xfrm>
        </p:grpSpPr>
        <p:pic>
          <p:nvPicPr>
            <p:cNvPr id="1363" name="图片 1" descr=""/>
            <p:cNvPicPr/>
            <p:nvPr/>
          </p:nvPicPr>
          <p:blipFill>
            <a:blip r:embed="rId1"/>
            <a:stretch/>
          </p:blipFill>
          <p:spPr>
            <a:xfrm>
              <a:off x="609480" y="1039680"/>
              <a:ext cx="23511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4" name="椭圆​​ 6"/>
            <p:cNvSpPr/>
            <p:nvPr/>
          </p:nvSpPr>
          <p:spPr>
            <a:xfrm>
              <a:off x="860400" y="1156680"/>
              <a:ext cx="1761120" cy="87408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zh-CN" sz="1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椭圆​​ 10"/>
            <p:cNvSpPr/>
            <p:nvPr/>
          </p:nvSpPr>
          <p:spPr>
            <a:xfrm>
              <a:off x="1066680" y="2212200"/>
              <a:ext cx="1348200" cy="870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椭圆​​ 11"/>
            <p:cNvSpPr/>
            <p:nvPr/>
          </p:nvSpPr>
          <p:spPr>
            <a:xfrm>
              <a:off x="1066680" y="3342240"/>
              <a:ext cx="1621440" cy="924480"/>
            </a:xfrm>
            <a:prstGeom prst="ellipse">
              <a:avLst/>
            </a:prstGeom>
            <a:solidFill>
              <a:srgbClr val="cccc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椭圆形标注 16"/>
          <p:cNvSpPr/>
          <p:nvPr/>
        </p:nvSpPr>
        <p:spPr>
          <a:xfrm>
            <a:off x="2689200" y="1017720"/>
            <a:ext cx="2263680" cy="1014120"/>
          </a:xfrm>
          <a:prstGeom prst="wedgeEllipseCallout">
            <a:avLst>
              <a:gd name="adj1" fmla="val -61657"/>
              <a:gd name="adj2" fmla="val 4481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17"/>
          <p:cNvSpPr/>
          <p:nvPr/>
        </p:nvSpPr>
        <p:spPr>
          <a:xfrm>
            <a:off x="3124080" y="10922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椭圆形标注 18"/>
          <p:cNvSpPr/>
          <p:nvPr/>
        </p:nvSpPr>
        <p:spPr>
          <a:xfrm>
            <a:off x="2943360" y="1843200"/>
            <a:ext cx="1780920" cy="1463400"/>
          </a:xfrm>
          <a:prstGeom prst="wedgeEllipseCallout">
            <a:avLst>
              <a:gd name="adj1" fmla="val -93546"/>
              <a:gd name="adj2" fmla="val 6643"/>
            </a:avLst>
          </a:prstGeom>
          <a:gradFill rotWithShape="0">
            <a:gsLst>
              <a:gs pos="0">
                <a:srgbClr val="ffe7c6"/>
              </a:gs>
              <a:gs pos="100000">
                <a:srgbClr val="fff8ee"/>
              </a:gs>
            </a:gsLst>
            <a:lin ang="16200000"/>
          </a:gradFill>
          <a:ln w="9360">
            <a:solidFill>
              <a:srgbClr val="e3c8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9"/>
          <p:cNvSpPr/>
          <p:nvPr/>
        </p:nvSpPr>
        <p:spPr>
          <a:xfrm>
            <a:off x="3036960" y="2282760"/>
            <a:ext cx="1824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椭圆形标注 20"/>
          <p:cNvSpPr/>
          <p:nvPr/>
        </p:nvSpPr>
        <p:spPr>
          <a:xfrm>
            <a:off x="2689200" y="3343320"/>
            <a:ext cx="2035080" cy="1177920"/>
          </a:xfrm>
          <a:prstGeom prst="wedgeEllipseCallout">
            <a:avLst>
              <a:gd name="adj1" fmla="val -76032"/>
              <a:gd name="adj2" fmla="val -3449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21"/>
          <p:cNvSpPr/>
          <p:nvPr/>
        </p:nvSpPr>
        <p:spPr>
          <a:xfrm>
            <a:off x="2838600" y="3639960"/>
            <a:ext cx="196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Cl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图片 1" descr=""/>
          <p:cNvPicPr/>
          <p:nvPr/>
        </p:nvPicPr>
        <p:blipFill>
          <a:blip r:embed="rId2"/>
          <a:stretch/>
        </p:blipFill>
        <p:spPr>
          <a:xfrm>
            <a:off x="6910560" y="1092240"/>
            <a:ext cx="1742760" cy="3429000"/>
          </a:xfrm>
          <a:prstGeom prst="rect">
            <a:avLst/>
          </a:prstGeom>
          <a:ln w="0">
            <a:noFill/>
          </a:ln>
        </p:spPr>
      </p:pic>
      <p:sp>
        <p:nvSpPr>
          <p:cNvPr id="1374" name="椭圆​​ 8"/>
          <p:cNvSpPr/>
          <p:nvPr/>
        </p:nvSpPr>
        <p:spPr>
          <a:xfrm>
            <a:off x="7256520" y="1017720"/>
            <a:ext cx="1276200" cy="1096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椭圆​​ 2"/>
          <p:cNvSpPr/>
          <p:nvPr/>
        </p:nvSpPr>
        <p:spPr>
          <a:xfrm>
            <a:off x="7129440" y="2138400"/>
            <a:ext cx="1403280" cy="87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椭圆​​ 10"/>
          <p:cNvSpPr/>
          <p:nvPr/>
        </p:nvSpPr>
        <p:spPr>
          <a:xfrm>
            <a:off x="7227720" y="3114720"/>
            <a:ext cx="1501920" cy="10206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3200" spc="-1" strike="noStrike" baseline="30000">
                <a:solidFill>
                  <a:srgbClr val="292929"/>
                </a:solidFill>
                <a:latin typeface="Constantia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任意多边形 33"/>
          <p:cNvSpPr/>
          <p:nvPr/>
        </p:nvSpPr>
        <p:spPr>
          <a:xfrm>
            <a:off x="7170840" y="1120680"/>
            <a:ext cx="1320840" cy="1963800"/>
          </a:xfrm>
          <a:custGeom>
            <a:avLst/>
            <a:gdLst/>
            <a:ahLst/>
            <a:rect l="l" t="t" r="r" b="b"/>
            <a:pathLst>
              <a:path w="1320800" h="1963366">
                <a:moveTo>
                  <a:pt x="870857" y="3938"/>
                </a:moveTo>
                <a:cubicBezTo>
                  <a:pt x="783771" y="6357"/>
                  <a:pt x="657800" y="10581"/>
                  <a:pt x="551543" y="18452"/>
                </a:cubicBezTo>
                <a:cubicBezTo>
                  <a:pt x="526941" y="20274"/>
                  <a:pt x="503243" y="28553"/>
                  <a:pt x="478971" y="32966"/>
                </a:cubicBezTo>
                <a:cubicBezTo>
                  <a:pt x="450017" y="38230"/>
                  <a:pt x="420914" y="42643"/>
                  <a:pt x="391885" y="47481"/>
                </a:cubicBezTo>
                <a:cubicBezTo>
                  <a:pt x="292070" y="114025"/>
                  <a:pt x="337898" y="94506"/>
                  <a:pt x="261257" y="120052"/>
                </a:cubicBezTo>
                <a:cubicBezTo>
                  <a:pt x="256419" y="134566"/>
                  <a:pt x="253585" y="149911"/>
                  <a:pt x="246743" y="163595"/>
                </a:cubicBezTo>
                <a:cubicBezTo>
                  <a:pt x="238942" y="179197"/>
                  <a:pt x="224799" y="191197"/>
                  <a:pt x="217714" y="207138"/>
                </a:cubicBezTo>
                <a:cubicBezTo>
                  <a:pt x="205286" y="235100"/>
                  <a:pt x="198361" y="265195"/>
                  <a:pt x="188685" y="294224"/>
                </a:cubicBezTo>
                <a:lnTo>
                  <a:pt x="174171" y="337766"/>
                </a:lnTo>
                <a:cubicBezTo>
                  <a:pt x="144882" y="689245"/>
                  <a:pt x="182827" y="369946"/>
                  <a:pt x="130628" y="613538"/>
                </a:cubicBezTo>
                <a:cubicBezTo>
                  <a:pt x="123460" y="646989"/>
                  <a:pt x="122234" y="681479"/>
                  <a:pt x="116114" y="715138"/>
                </a:cubicBezTo>
                <a:cubicBezTo>
                  <a:pt x="112546" y="734764"/>
                  <a:pt x="105780" y="753690"/>
                  <a:pt x="101600" y="773195"/>
                </a:cubicBezTo>
                <a:cubicBezTo>
                  <a:pt x="91262" y="821439"/>
                  <a:pt x="84537" y="870472"/>
                  <a:pt x="72571" y="918338"/>
                </a:cubicBezTo>
                <a:cubicBezTo>
                  <a:pt x="65150" y="948023"/>
                  <a:pt x="53219" y="976395"/>
                  <a:pt x="43543" y="1005424"/>
                </a:cubicBezTo>
                <a:cubicBezTo>
                  <a:pt x="38705" y="1019938"/>
                  <a:pt x="32028" y="1033964"/>
                  <a:pt x="29028" y="1048966"/>
                </a:cubicBezTo>
                <a:lnTo>
                  <a:pt x="0" y="1194109"/>
                </a:lnTo>
                <a:cubicBezTo>
                  <a:pt x="4838" y="1358604"/>
                  <a:pt x="5632" y="1523268"/>
                  <a:pt x="14514" y="1687595"/>
                </a:cubicBezTo>
                <a:cubicBezTo>
                  <a:pt x="16768" y="1729297"/>
                  <a:pt x="73656" y="1798081"/>
                  <a:pt x="87085" y="1818224"/>
                </a:cubicBezTo>
                <a:cubicBezTo>
                  <a:pt x="96761" y="1832738"/>
                  <a:pt x="99565" y="1856250"/>
                  <a:pt x="116114" y="1861766"/>
                </a:cubicBezTo>
                <a:cubicBezTo>
                  <a:pt x="261605" y="1910264"/>
                  <a:pt x="143697" y="1875991"/>
                  <a:pt x="290285" y="1905309"/>
                </a:cubicBezTo>
                <a:cubicBezTo>
                  <a:pt x="313300" y="1909912"/>
                  <a:pt x="367677" y="1923964"/>
                  <a:pt x="391885" y="1934338"/>
                </a:cubicBezTo>
                <a:cubicBezTo>
                  <a:pt x="411772" y="1942861"/>
                  <a:pt x="430590" y="1953690"/>
                  <a:pt x="449943" y="1963366"/>
                </a:cubicBezTo>
                <a:cubicBezTo>
                  <a:pt x="595611" y="1956430"/>
                  <a:pt x="729779" y="1957851"/>
                  <a:pt x="870857" y="1934338"/>
                </a:cubicBezTo>
                <a:cubicBezTo>
                  <a:pt x="890534" y="1931059"/>
                  <a:pt x="909807" y="1925556"/>
                  <a:pt x="928914" y="1919824"/>
                </a:cubicBezTo>
                <a:cubicBezTo>
                  <a:pt x="958222" y="1911031"/>
                  <a:pt x="1016000" y="1890795"/>
                  <a:pt x="1016000" y="1890795"/>
                </a:cubicBezTo>
                <a:cubicBezTo>
                  <a:pt x="1025676" y="1876281"/>
                  <a:pt x="1033861" y="1860653"/>
                  <a:pt x="1045028" y="1847252"/>
                </a:cubicBezTo>
                <a:cubicBezTo>
                  <a:pt x="1089029" y="1794451"/>
                  <a:pt x="1095875" y="1810882"/>
                  <a:pt x="1132114" y="1745652"/>
                </a:cubicBezTo>
                <a:cubicBezTo>
                  <a:pt x="1250485" y="1532587"/>
                  <a:pt x="1091211" y="1777981"/>
                  <a:pt x="1190171" y="1629538"/>
                </a:cubicBezTo>
                <a:cubicBezTo>
                  <a:pt x="1195009" y="1605347"/>
                  <a:pt x="1198702" y="1580899"/>
                  <a:pt x="1204685" y="1556966"/>
                </a:cubicBezTo>
                <a:cubicBezTo>
                  <a:pt x="1212917" y="1524038"/>
                  <a:pt x="1238249" y="1467462"/>
                  <a:pt x="1248228" y="1440852"/>
                </a:cubicBezTo>
                <a:cubicBezTo>
                  <a:pt x="1290169" y="1329009"/>
                  <a:pt x="1231499" y="1476529"/>
                  <a:pt x="1277257" y="1339252"/>
                </a:cubicBezTo>
                <a:cubicBezTo>
                  <a:pt x="1285496" y="1314535"/>
                  <a:pt x="1296609" y="1290871"/>
                  <a:pt x="1306285" y="1266681"/>
                </a:cubicBezTo>
                <a:cubicBezTo>
                  <a:pt x="1301447" y="1131214"/>
                  <a:pt x="1291771" y="995834"/>
                  <a:pt x="1291771" y="860281"/>
                </a:cubicBezTo>
                <a:cubicBezTo>
                  <a:pt x="1291771" y="524095"/>
                  <a:pt x="1278174" y="595349"/>
                  <a:pt x="1320800" y="424852"/>
                </a:cubicBezTo>
                <a:cubicBezTo>
                  <a:pt x="1315962" y="337766"/>
                  <a:pt x="1314554" y="250422"/>
                  <a:pt x="1306285" y="163595"/>
                </a:cubicBezTo>
                <a:cubicBezTo>
                  <a:pt x="1304834" y="148365"/>
                  <a:pt x="1300258" y="132782"/>
                  <a:pt x="1291771" y="120052"/>
                </a:cubicBezTo>
                <a:cubicBezTo>
                  <a:pt x="1280385" y="102973"/>
                  <a:pt x="1265545" y="87529"/>
                  <a:pt x="1248228" y="76509"/>
                </a:cubicBezTo>
                <a:cubicBezTo>
                  <a:pt x="1206431" y="49911"/>
                  <a:pt x="1131612" y="10333"/>
                  <a:pt x="1074057" y="3938"/>
                </a:cubicBezTo>
                <a:cubicBezTo>
                  <a:pt x="1006566" y="-3561"/>
                  <a:pt x="957943" y="1519"/>
                  <a:pt x="870857" y="393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椭圆形标注 34"/>
          <p:cNvSpPr/>
          <p:nvPr/>
        </p:nvSpPr>
        <p:spPr>
          <a:xfrm>
            <a:off x="4967280" y="1368360"/>
            <a:ext cx="1943280" cy="1206720"/>
          </a:xfrm>
          <a:prstGeom prst="wedgeEllipseCallout">
            <a:avLst>
              <a:gd name="adj1" fmla="val 80148"/>
              <a:gd name="adj2" fmla="val 6601"/>
            </a:avLst>
          </a:prstGeom>
          <a:solidFill>
            <a:srgbClr val="e1f4ff"/>
          </a:solidFill>
          <a:ln w="25560">
            <a:solidFill>
              <a:srgbClr val="a5b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35"/>
          <p:cNvSpPr/>
          <p:nvPr/>
        </p:nvSpPr>
        <p:spPr>
          <a:xfrm>
            <a:off x="5105520" y="1617840"/>
            <a:ext cx="180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稀盐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椭圆形标注 36"/>
          <p:cNvSpPr/>
          <p:nvPr/>
        </p:nvSpPr>
        <p:spPr>
          <a:xfrm>
            <a:off x="4950000" y="2971800"/>
            <a:ext cx="1960560" cy="1295280"/>
          </a:xfrm>
          <a:prstGeom prst="wedgeEllipseCallout">
            <a:avLst>
              <a:gd name="adj1" fmla="val 84749"/>
              <a:gd name="adj2" fmla="val 7750"/>
            </a:avLst>
          </a:prstGeom>
          <a:solidFill>
            <a:srgbClr val="ffe2c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8"/>
          <p:cNvSpPr/>
          <p:nvPr/>
        </p:nvSpPr>
        <p:spPr>
          <a:xfrm>
            <a:off x="5010120" y="3321000"/>
            <a:ext cx="191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6"/>
          <p:cNvSpPr/>
          <p:nvPr/>
        </p:nvSpPr>
        <p:spPr>
          <a:xfrm>
            <a:off x="663480" y="351000"/>
            <a:ext cx="769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先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溶液，后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溶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5" descr=""/>
          <p:cNvPicPr/>
          <p:nvPr/>
        </p:nvPicPr>
        <p:blipFill>
          <a:blip r:embed="rId1"/>
          <a:srcRect l="5417" t="93689" r="402" b="668"/>
          <a:stretch/>
        </p:blipFill>
        <p:spPr>
          <a:xfrm>
            <a:off x="1764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097" name="矩形 3"/>
          <p:cNvSpPr/>
          <p:nvPr/>
        </p:nvSpPr>
        <p:spPr>
          <a:xfrm>
            <a:off x="326880" y="1557360"/>
            <a:ext cx="91440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由两种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　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相互交换成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生成另外两种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　 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反应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4"/>
          <p:cNvSpPr/>
          <p:nvPr/>
        </p:nvSpPr>
        <p:spPr>
          <a:xfrm>
            <a:off x="326880" y="2602080"/>
            <a:ext cx="8709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种化合物相互交换成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生成物中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或　　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生成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复分解反应才可以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6"/>
          <p:cNvSpPr/>
          <p:nvPr/>
        </p:nvSpPr>
        <p:spPr>
          <a:xfrm>
            <a:off x="326880" y="4286160"/>
            <a:ext cx="75916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双交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价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对象 7" descr=""/>
          <p:cNvPicPr/>
          <p:nvPr/>
        </p:nvPicPr>
        <p:blipFill>
          <a:blip r:embed="rId2"/>
          <a:stretch/>
        </p:blipFill>
        <p:spPr>
          <a:xfrm>
            <a:off x="684360" y="5824440"/>
            <a:ext cx="4863960" cy="1041480"/>
          </a:xfrm>
          <a:prstGeom prst="rect">
            <a:avLst/>
          </a:prstGeom>
          <a:ln w="0">
            <a:noFill/>
          </a:ln>
        </p:spPr>
      </p:pic>
      <p:sp>
        <p:nvSpPr>
          <p:cNvPr id="1101" name="矩形 8"/>
          <p:cNvSpPr/>
          <p:nvPr/>
        </p:nvSpPr>
        <p:spPr>
          <a:xfrm>
            <a:off x="2020320" y="1909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化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9"/>
          <p:cNvSpPr/>
          <p:nvPr/>
        </p:nvSpPr>
        <p:spPr>
          <a:xfrm>
            <a:off x="7152120" y="1906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化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10"/>
          <p:cNvSpPr/>
          <p:nvPr/>
        </p:nvSpPr>
        <p:spPr>
          <a:xfrm>
            <a:off x="6170400" y="2897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11"/>
          <p:cNvSpPr/>
          <p:nvPr/>
        </p:nvSpPr>
        <p:spPr>
          <a:xfrm>
            <a:off x="7644960" y="2944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12"/>
          <p:cNvSpPr/>
          <p:nvPr/>
        </p:nvSpPr>
        <p:spPr>
          <a:xfrm>
            <a:off x="966600" y="348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13"/>
          <p:cNvSpPr/>
          <p:nvPr/>
        </p:nvSpPr>
        <p:spPr>
          <a:xfrm>
            <a:off x="258840" y="5418000"/>
            <a:ext cx="759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1"/>
          <p:cNvSpPr/>
          <p:nvPr/>
        </p:nvSpPr>
        <p:spPr>
          <a:xfrm>
            <a:off x="542880" y="1027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复分解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Text Box 17"/>
          <p:cNvSpPr/>
          <p:nvPr/>
        </p:nvSpPr>
        <p:spPr>
          <a:xfrm>
            <a:off x="6031080" y="2963880"/>
            <a:ext cx="31683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过量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 Black"/>
              </a:rPr>
              <a:t>3      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2"/>
          <p:cNvSpPr/>
          <p:nvPr/>
        </p:nvSpPr>
        <p:spPr>
          <a:xfrm>
            <a:off x="324000" y="260280"/>
            <a:ext cx="1728720" cy="2463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N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S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 Blac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Ca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Mg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3"/>
          <p:cNvSpPr/>
          <p:nvPr/>
        </p:nvSpPr>
        <p:spPr>
          <a:xfrm>
            <a:off x="3303720" y="4254480"/>
            <a:ext cx="1496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4"/>
          <p:cNvSpPr/>
          <p:nvPr/>
        </p:nvSpPr>
        <p:spPr>
          <a:xfrm>
            <a:off x="2179800" y="1981080"/>
            <a:ext cx="1222200" cy="289080"/>
          </a:xfrm>
          <a:prstGeom prst="rightArrow">
            <a:avLst>
              <a:gd name="adj1" fmla="val 50000"/>
              <a:gd name="adj2" fmla="val 1056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5"/>
          <p:cNvSpPr/>
          <p:nvPr/>
        </p:nvSpPr>
        <p:spPr>
          <a:xfrm>
            <a:off x="3635280" y="117360"/>
            <a:ext cx="1586160" cy="2463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Mg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  <a:ea typeface="微软雅黑"/>
              </a:rPr>
              <a:t>B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6"/>
          <p:cNvSpPr/>
          <p:nvPr/>
        </p:nvSpPr>
        <p:spPr>
          <a:xfrm>
            <a:off x="7812000" y="39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AutoShape 9"/>
          <p:cNvSpPr/>
          <p:nvPr/>
        </p:nvSpPr>
        <p:spPr>
          <a:xfrm>
            <a:off x="5610240" y="1900080"/>
            <a:ext cx="1150920" cy="287640"/>
          </a:xfrm>
          <a:prstGeom prst="rightArrow">
            <a:avLst>
              <a:gd name="adj1" fmla="val 50000"/>
              <a:gd name="adj2" fmla="val 10003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0"/>
          <p:cNvSpPr/>
          <p:nvPr/>
        </p:nvSpPr>
        <p:spPr>
          <a:xfrm>
            <a:off x="7308720" y="44280"/>
            <a:ext cx="1511280" cy="240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 Black"/>
              </a:rPr>
              <a:t>Na</a:t>
            </a:r>
            <a:r>
              <a:rPr b="1" lang="zh-CN" sz="2800" spc="-1" strike="noStrike">
                <a:solidFill>
                  <a:srgbClr val="0000cc"/>
                </a:solidFill>
                <a:latin typeface="Arial Black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1"/>
          <p:cNvSpPr/>
          <p:nvPr/>
        </p:nvSpPr>
        <p:spPr>
          <a:xfrm>
            <a:off x="7380360" y="3860640"/>
            <a:ext cx="1763640" cy="1918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 Black"/>
              </a:rPr>
              <a:t>CO</a:t>
            </a:r>
            <a:r>
              <a:rPr b="1" lang="zh-CN" sz="2800" spc="-1" strike="noStrike" baseline="-25000">
                <a:solidFill>
                  <a:srgbClr val="0000cc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12"/>
          <p:cNvSpPr/>
          <p:nvPr/>
        </p:nvSpPr>
        <p:spPr>
          <a:xfrm>
            <a:off x="6031080" y="5460840"/>
            <a:ext cx="1152360" cy="216000"/>
          </a:xfrm>
          <a:prstGeom prst="leftArrow">
            <a:avLst>
              <a:gd name="adj1" fmla="val 50000"/>
              <a:gd name="adj2" fmla="val 1333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3"/>
          <p:cNvSpPr/>
          <p:nvPr/>
        </p:nvSpPr>
        <p:spPr>
          <a:xfrm>
            <a:off x="2025720" y="571680"/>
            <a:ext cx="1479600" cy="10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过量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Cl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4"/>
          <p:cNvSpPr/>
          <p:nvPr/>
        </p:nvSpPr>
        <p:spPr>
          <a:xfrm>
            <a:off x="2025720" y="4719600"/>
            <a:ext cx="1278000" cy="1006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Cl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5"/>
          <p:cNvSpPr/>
          <p:nvPr/>
        </p:nvSpPr>
        <p:spPr>
          <a:xfrm>
            <a:off x="5370480" y="727200"/>
            <a:ext cx="194328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过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OH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 Black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2"/>
          <p:cNvSpPr/>
          <p:nvPr/>
        </p:nvSpPr>
        <p:spPr>
          <a:xfrm>
            <a:off x="3367080" y="524340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68400" y="4941720"/>
            <a:ext cx="1261800" cy="581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Group 18"/>
          <p:cNvGrpSpPr/>
          <p:nvPr/>
        </p:nvGrpSpPr>
        <p:grpSpPr>
          <a:xfrm>
            <a:off x="971640" y="4221000"/>
            <a:ext cx="1152360" cy="1150920"/>
            <a:chOff x="971640" y="4221000"/>
            <a:chExt cx="1152360" cy="1150920"/>
          </a:xfrm>
        </p:grpSpPr>
        <p:sp>
          <p:nvSpPr>
            <p:cNvPr id="1399" name="AutoShape 12"/>
            <p:cNvSpPr/>
            <p:nvPr/>
          </p:nvSpPr>
          <p:spPr>
            <a:xfrm>
              <a:off x="971640" y="5085000"/>
              <a:ext cx="1082520" cy="286920"/>
            </a:xfrm>
            <a:prstGeom prst="leftArrow">
              <a:avLst>
                <a:gd name="adj1" fmla="val 50000"/>
                <a:gd name="adj2" fmla="val 9421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 Box 20"/>
            <p:cNvSpPr/>
            <p:nvPr/>
          </p:nvSpPr>
          <p:spPr>
            <a:xfrm>
              <a:off x="971640" y="4221000"/>
              <a:ext cx="1152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蒸发    结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AutoShape 12"/>
          <p:cNvSpPr/>
          <p:nvPr/>
        </p:nvSpPr>
        <p:spPr>
          <a:xfrm flipV="1" rot="16200000">
            <a:off x="8392680" y="3214440"/>
            <a:ext cx="790560" cy="289080"/>
          </a:xfrm>
          <a:prstGeom prst="leftArrow">
            <a:avLst>
              <a:gd name="adj1" fmla="val 50000"/>
              <a:gd name="adj2" fmla="val 6836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2"/>
          <p:cNvSpPr/>
          <p:nvPr/>
        </p:nvSpPr>
        <p:spPr>
          <a:xfrm>
            <a:off x="34920" y="3211560"/>
            <a:ext cx="3168720" cy="520560"/>
          </a:xfrm>
          <a:prstGeom prst="rect">
            <a:avLst/>
          </a:prstGeom>
          <a:solidFill>
            <a:srgbClr val="fdf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红色物质都要除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23"/>
          <p:cNvSpPr/>
          <p:nvPr/>
        </p:nvSpPr>
        <p:spPr>
          <a:xfrm>
            <a:off x="3637080" y="2473200"/>
            <a:ext cx="1438200" cy="57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aS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24"/>
          <p:cNvSpPr/>
          <p:nvPr/>
        </p:nvSpPr>
        <p:spPr>
          <a:xfrm>
            <a:off x="7010280" y="2363760"/>
            <a:ext cx="2133720" cy="100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Mg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25"/>
          <p:cNvSpPr/>
          <p:nvPr/>
        </p:nvSpPr>
        <p:spPr>
          <a:xfrm>
            <a:off x="7475400" y="5676840"/>
            <a:ext cx="1368720" cy="21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a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26"/>
          <p:cNvSpPr/>
          <p:nvPr/>
        </p:nvSpPr>
        <p:spPr>
          <a:xfrm>
            <a:off x="6458400" y="4386240"/>
            <a:ext cx="60732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过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27"/>
          <p:cNvSpPr/>
          <p:nvPr/>
        </p:nvSpPr>
        <p:spPr>
          <a:xfrm>
            <a:off x="108000" y="3141720"/>
            <a:ext cx="5613480" cy="581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出各步反应的化学方程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28"/>
          <p:cNvSpPr/>
          <p:nvPr/>
        </p:nvSpPr>
        <p:spPr>
          <a:xfrm>
            <a:off x="3205080" y="556884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调至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H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roup 29"/>
          <p:cNvGrpSpPr/>
          <p:nvPr/>
        </p:nvGrpSpPr>
        <p:grpSpPr>
          <a:xfrm>
            <a:off x="2170080" y="5965920"/>
            <a:ext cx="987480" cy="613440"/>
            <a:chOff x="2170080" y="5965920"/>
            <a:chExt cx="987480" cy="613440"/>
          </a:xfrm>
        </p:grpSpPr>
        <p:sp>
          <p:nvSpPr>
            <p:cNvPr id="1410" name="Text Box 30"/>
            <p:cNvSpPr/>
            <p:nvPr/>
          </p:nvSpPr>
          <p:spPr>
            <a:xfrm>
              <a:off x="2170080" y="5965920"/>
              <a:ext cx="98748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CO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31"/>
            <p:cNvSpPr/>
            <p:nvPr/>
          </p:nvSpPr>
          <p:spPr>
            <a:xfrm flipH="1" flipV="1" rot="5340000">
              <a:off x="2582280" y="6270840"/>
              <a:ext cx="506520" cy="108360"/>
            </a:xfrm>
            <a:prstGeom prst="rightArrow">
              <a:avLst>
                <a:gd name="adj1" fmla="val 50000"/>
                <a:gd name="adj2" fmla="val 11686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11"/>
          <p:cNvSpPr/>
          <p:nvPr/>
        </p:nvSpPr>
        <p:spPr>
          <a:xfrm>
            <a:off x="4489560" y="4294080"/>
            <a:ext cx="1697040" cy="1918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 Black"/>
              </a:rPr>
              <a:t>CO</a:t>
            </a:r>
            <a:r>
              <a:rPr b="1" lang="zh-CN" sz="2800" spc="-1" strike="noStrike" baseline="-25000">
                <a:solidFill>
                  <a:srgbClr val="0000cc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34920" y="1123920"/>
            <a:ext cx="88930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黑体"/>
              </a:rPr>
              <a:t>各步反应的化学方程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BaCl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+Na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S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4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====BaS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4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↓+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MgCl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+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OH==== Mg(OH)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↓+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CaCl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+Na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==== Ca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↓+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BaCl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+Na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==== Ba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↓+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HCl+NaOH==== 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O  +  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（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）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HCl+Na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 ==== </a:t>
            </a:r>
            <a:r>
              <a:rPr b="1" lang="zh-CN" sz="3200" spc="-1" strike="noStrike">
                <a:solidFill>
                  <a:srgbClr val="29292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NaC l+ 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Constantia"/>
              </a:rPr>
              <a:t>O  +  CO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Group 3"/>
          <p:cNvGrpSpPr/>
          <p:nvPr/>
        </p:nvGrpSpPr>
        <p:grpSpPr>
          <a:xfrm>
            <a:off x="34920" y="0"/>
            <a:ext cx="9144000" cy="1052640"/>
            <a:chOff x="34920" y="0"/>
            <a:chExt cx="9144000" cy="1052640"/>
          </a:xfrm>
        </p:grpSpPr>
        <p:pic>
          <p:nvPicPr>
            <p:cNvPr id="1415" name="Picture 4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1"/>
            <a:stretch/>
          </p:blipFill>
          <p:spPr>
            <a:xfrm>
              <a:off x="34920" y="0"/>
              <a:ext cx="91440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Text Box 5"/>
            <p:cNvSpPr/>
            <p:nvPr/>
          </p:nvSpPr>
          <p:spPr>
            <a:xfrm>
              <a:off x="142920" y="139320"/>
              <a:ext cx="8064360" cy="888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探索之旅：</a:t>
              </a:r>
              <a:r>
                <a:rPr b="0" lang="zh-CN" sz="4600" spc="-1" strike="noStrike" u="sng">
                  <a:solidFill>
                    <a:srgbClr val="0066cc"/>
                  </a:solidFill>
                  <a:uFillTx/>
                  <a:latin typeface="Times New Roman"/>
                  <a:ea typeface="黑体"/>
                  <a:hlinkClick r:id="rId2"/>
                </a:rPr>
                <a:t>除去粗盐中的杂质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AutoShape 6"/>
          <p:cNvSpPr/>
          <p:nvPr/>
        </p:nvSpPr>
        <p:spPr>
          <a:xfrm rot="16200000">
            <a:off x="8461440" y="5229000"/>
            <a:ext cx="431640" cy="75960"/>
          </a:xfrm>
          <a:prstGeom prst="rightArrow">
            <a:avLst>
              <a:gd name="adj1" fmla="val 50000"/>
              <a:gd name="adj2" fmla="val 1420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Picture 7" descr="A12"/>
          <p:cNvPicPr/>
          <p:nvPr/>
        </p:nvPicPr>
        <p:blipFill>
          <a:blip r:embed="rId3"/>
          <a:stretch/>
        </p:blipFill>
        <p:spPr>
          <a:xfrm>
            <a:off x="1187280" y="6524640"/>
            <a:ext cx="6769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Picture 2" descr="http:/hiphotos.baidu.com/%C9%EE%C9%BD%C0%CF%C1%D6123/pic/item/27c0a40e0cf3d7ca2d9f5d31f21fbe096a63a96b.jpg"/>
          <p:cNvPicPr/>
          <p:nvPr/>
        </p:nvPicPr>
        <p:blipFill>
          <a:blip r:embed="rId1"/>
          <a:stretch/>
        </p:blipFill>
        <p:spPr>
          <a:xfrm>
            <a:off x="396720" y="3068640"/>
            <a:ext cx="8618760" cy="2233440"/>
          </a:xfrm>
          <a:prstGeom prst="rect">
            <a:avLst/>
          </a:prstGeom>
          <a:ln w="0">
            <a:noFill/>
          </a:ln>
        </p:spPr>
      </p:pic>
      <p:sp>
        <p:nvSpPr>
          <p:cNvPr id="1420" name="Text Box 3"/>
          <p:cNvSpPr/>
          <p:nvPr/>
        </p:nvSpPr>
        <p:spPr>
          <a:xfrm>
            <a:off x="396720" y="863640"/>
            <a:ext cx="86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去粗盐中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硫酸钠，氯化镁，氯化钙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等可溶性杂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②③④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的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②③④步还可以怎样排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Group 4"/>
          <p:cNvGrpSpPr/>
          <p:nvPr/>
        </p:nvGrpSpPr>
        <p:grpSpPr>
          <a:xfrm>
            <a:off x="762120" y="2124000"/>
            <a:ext cx="2368440" cy="1513080"/>
            <a:chOff x="762120" y="2124000"/>
            <a:chExt cx="2368440" cy="1513080"/>
          </a:xfrm>
        </p:grpSpPr>
        <p:sp>
          <p:nvSpPr>
            <p:cNvPr id="1422" name="Text Box 5"/>
            <p:cNvSpPr/>
            <p:nvPr/>
          </p:nvSpPr>
          <p:spPr>
            <a:xfrm>
              <a:off x="762120" y="2124000"/>
              <a:ext cx="236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除去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6"/>
            <p:cNvSpPr/>
            <p:nvPr/>
          </p:nvSpPr>
          <p:spPr>
            <a:xfrm flipV="1" rot="16200000">
              <a:off x="1366200" y="3024720"/>
              <a:ext cx="1008720" cy="215640"/>
            </a:xfrm>
            <a:prstGeom prst="rightArrow">
              <a:avLst>
                <a:gd name="adj1" fmla="val 50000"/>
                <a:gd name="adj2" fmla="val 116945"/>
              </a:avLst>
            </a:prstGeom>
            <a:solidFill>
              <a:srgbClr val="fdf7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7"/>
          <p:cNvGrpSpPr/>
          <p:nvPr/>
        </p:nvGrpSpPr>
        <p:grpSpPr>
          <a:xfrm>
            <a:off x="1908000" y="4866480"/>
            <a:ext cx="2268720" cy="1590480"/>
            <a:chOff x="1908000" y="4866480"/>
            <a:chExt cx="2268720" cy="1590480"/>
          </a:xfrm>
        </p:grpSpPr>
        <p:sp>
          <p:nvSpPr>
            <p:cNvPr id="1425" name="Text Box 8"/>
            <p:cNvSpPr/>
            <p:nvPr/>
          </p:nvSpPr>
          <p:spPr>
            <a:xfrm>
              <a:off x="1908000" y="5877360"/>
              <a:ext cx="226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除去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gCl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9"/>
            <p:cNvSpPr/>
            <p:nvPr/>
          </p:nvSpPr>
          <p:spPr>
            <a:xfrm flipV="1" rot="5460000">
              <a:off x="2159280" y="5263920"/>
              <a:ext cx="1008360" cy="215640"/>
            </a:xfrm>
            <a:prstGeom prst="rightArrow">
              <a:avLst>
                <a:gd name="adj1" fmla="val 50000"/>
                <a:gd name="adj2" fmla="val 116903"/>
              </a:avLst>
            </a:prstGeom>
            <a:solidFill>
              <a:srgbClr val="fdf7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10"/>
          <p:cNvGrpSpPr/>
          <p:nvPr/>
        </p:nvGrpSpPr>
        <p:grpSpPr>
          <a:xfrm>
            <a:off x="2987640" y="2492280"/>
            <a:ext cx="4861080" cy="1142640"/>
            <a:chOff x="2987640" y="2492280"/>
            <a:chExt cx="4861080" cy="1142640"/>
          </a:xfrm>
        </p:grpSpPr>
        <p:sp>
          <p:nvSpPr>
            <p:cNvPr id="1428" name="Text Box 11"/>
            <p:cNvSpPr/>
            <p:nvPr/>
          </p:nvSpPr>
          <p:spPr>
            <a:xfrm>
              <a:off x="2987640" y="2492280"/>
              <a:ext cx="486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除去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aCl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和过量的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aCl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2"/>
            <p:cNvSpPr/>
            <p:nvPr/>
          </p:nvSpPr>
          <p:spPr>
            <a:xfrm flipV="1" rot="16200000">
              <a:off x="3193920" y="3202560"/>
              <a:ext cx="648360" cy="215640"/>
            </a:xfrm>
            <a:prstGeom prst="rightArrow">
              <a:avLst>
                <a:gd name="adj1" fmla="val 50000"/>
                <a:gd name="adj2" fmla="val 75167"/>
              </a:avLst>
            </a:prstGeom>
            <a:solidFill>
              <a:srgbClr val="fdf7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13"/>
          <p:cNvGrpSpPr/>
          <p:nvPr/>
        </p:nvGrpSpPr>
        <p:grpSpPr>
          <a:xfrm>
            <a:off x="4788000" y="5082840"/>
            <a:ext cx="3456000" cy="1878480"/>
            <a:chOff x="4788000" y="5082840"/>
            <a:chExt cx="3456000" cy="1878480"/>
          </a:xfrm>
        </p:grpSpPr>
        <p:sp>
          <p:nvSpPr>
            <p:cNvPr id="1431" name="Text Box 14"/>
            <p:cNvSpPr/>
            <p:nvPr/>
          </p:nvSpPr>
          <p:spPr>
            <a:xfrm>
              <a:off x="4788000" y="5733000"/>
              <a:ext cx="345600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除去过量的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和过量的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15"/>
            <p:cNvSpPr/>
            <p:nvPr/>
          </p:nvSpPr>
          <p:spPr>
            <a:xfrm flipV="1" rot="5460000">
              <a:off x="5317920" y="5337000"/>
              <a:ext cx="720720" cy="215640"/>
            </a:xfrm>
            <a:prstGeom prst="rightArrow">
              <a:avLst>
                <a:gd name="adj1" fmla="val 50000"/>
                <a:gd name="adj2" fmla="val 83556"/>
              </a:avLst>
            </a:prstGeom>
            <a:solidFill>
              <a:srgbClr val="fdf7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Group 16"/>
          <p:cNvGrpSpPr/>
          <p:nvPr/>
        </p:nvGrpSpPr>
        <p:grpSpPr>
          <a:xfrm>
            <a:off x="36360" y="0"/>
            <a:ext cx="9144000" cy="1052640"/>
            <a:chOff x="36360" y="0"/>
            <a:chExt cx="9144000" cy="1052640"/>
          </a:xfrm>
        </p:grpSpPr>
        <p:pic>
          <p:nvPicPr>
            <p:cNvPr id="1434" name="Picture 17" descr="x1pGg9EMswqL-9ut5xf6jC2_H7AZnNPPLRE4-CwQb-1mqK3beE846VNMIcypkxhd4SluvRrmmlKwUYbgBRcXfuqagipZpD1ZL-g33Rt6lVf8j-wT6qSwlKW2bBs7fMaL4QHD04QkOdZOGUlBIeLblmaFA"/>
            <p:cNvPicPr/>
            <p:nvPr/>
          </p:nvPicPr>
          <p:blipFill>
            <a:blip r:embed="rId2"/>
            <a:stretch/>
          </p:blipFill>
          <p:spPr>
            <a:xfrm>
              <a:off x="36360" y="0"/>
              <a:ext cx="91440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5" name="Text Box 18"/>
            <p:cNvSpPr/>
            <p:nvPr/>
          </p:nvSpPr>
          <p:spPr>
            <a:xfrm>
              <a:off x="144360" y="139320"/>
              <a:ext cx="8064360" cy="794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课堂检测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Picture 3" descr="88efb61f15e6684b314e1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7" name="Text Box 4"/>
          <p:cNvSpPr/>
          <p:nvPr/>
        </p:nvSpPr>
        <p:spPr>
          <a:xfrm>
            <a:off x="1676520" y="144792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隶书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5" descr="N_144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5" descr=""/>
          <p:cNvPicPr/>
          <p:nvPr/>
        </p:nvPicPr>
        <p:blipFill>
          <a:blip r:embed="rId1"/>
          <a:srcRect l="5417" t="93689" r="402" b="668"/>
          <a:stretch/>
        </p:blipFill>
        <p:spPr>
          <a:xfrm>
            <a:off x="1764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109" name="矩形 2"/>
          <p:cNvSpPr/>
          <p:nvPr/>
        </p:nvSpPr>
        <p:spPr>
          <a:xfrm>
            <a:off x="216000" y="77004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复分解反应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表格 3" descr=""/>
          <p:cNvPicPr/>
          <p:nvPr/>
        </p:nvPicPr>
        <p:blipFill>
          <a:blip r:embed="rId2"/>
          <a:stretch/>
        </p:blipFill>
        <p:spPr>
          <a:xfrm>
            <a:off x="165240" y="1395360"/>
            <a:ext cx="8820000" cy="5102280"/>
          </a:xfrm>
          <a:prstGeom prst="rect">
            <a:avLst/>
          </a:prstGeom>
          <a:ln w="0">
            <a:noFill/>
          </a:ln>
        </p:spPr>
      </p:pic>
      <p:cxnSp>
        <p:nvCxnSpPr>
          <p:cNvPr id="1111" name="直接箭头连接符 6"/>
          <p:cNvCxnSpPr/>
          <p:nvPr/>
        </p:nvCxnSpPr>
        <p:spPr>
          <a:xfrm>
            <a:off x="1152360" y="4292280"/>
            <a:ext cx="504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2" name="直接箭头连接符 7"/>
          <p:cNvCxnSpPr/>
          <p:nvPr/>
        </p:nvCxnSpPr>
        <p:spPr>
          <a:xfrm>
            <a:off x="1235160" y="3514320"/>
            <a:ext cx="504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3" name="直接箭头连接符 8"/>
          <p:cNvCxnSpPr/>
          <p:nvPr/>
        </p:nvCxnSpPr>
        <p:spPr>
          <a:xfrm>
            <a:off x="647640" y="2823840"/>
            <a:ext cx="50544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4" name="直接箭头连接符 9"/>
          <p:cNvCxnSpPr/>
          <p:nvPr/>
        </p:nvCxnSpPr>
        <p:spPr>
          <a:xfrm>
            <a:off x="4653000" y="1009440"/>
            <a:ext cx="504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5" name="直接箭头连接符 10"/>
          <p:cNvCxnSpPr/>
          <p:nvPr/>
        </p:nvCxnSpPr>
        <p:spPr>
          <a:xfrm>
            <a:off x="1357200" y="5847840"/>
            <a:ext cx="50400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6" name="直接箭头连接符 11"/>
          <p:cNvCxnSpPr/>
          <p:nvPr/>
        </p:nvCxnSpPr>
        <p:spPr>
          <a:xfrm>
            <a:off x="1104840" y="5070240"/>
            <a:ext cx="50544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5" descr=""/>
          <p:cNvPicPr/>
          <p:nvPr/>
        </p:nvPicPr>
        <p:blipFill>
          <a:blip r:embed="rId1"/>
          <a:srcRect l="5417" t="93689" r="402" b="668"/>
          <a:stretch/>
        </p:blipFill>
        <p:spPr>
          <a:xfrm>
            <a:off x="1764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118" name="矩形 2"/>
          <p:cNvSpPr/>
          <p:nvPr/>
        </p:nvSpPr>
        <p:spPr>
          <a:xfrm>
            <a:off x="471600" y="1371600"/>
            <a:ext cx="7870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部分酸碱盐的溶解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大部分酸都可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碱一般按照溶解性可分为可溶性碱、难溶性碱。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常见的可溶性碱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氢氧化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微溶于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氨水、氢氧化钾、氢氧化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常见的难溶性碱有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    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红褐色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　   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白色的氢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化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　　   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3"/>
          <p:cNvSpPr/>
          <p:nvPr/>
        </p:nvSpPr>
        <p:spPr>
          <a:xfrm>
            <a:off x="3862440" y="297180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4"/>
          <p:cNvSpPr/>
          <p:nvPr/>
        </p:nvSpPr>
        <p:spPr>
          <a:xfrm>
            <a:off x="1761480" y="3924360"/>
            <a:ext cx="1357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u(OH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6"/>
          <p:cNvSpPr/>
          <p:nvPr/>
        </p:nvSpPr>
        <p:spPr>
          <a:xfrm>
            <a:off x="4984560" y="3911760"/>
            <a:ext cx="131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Fe(OH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7"/>
          <p:cNvSpPr/>
          <p:nvPr/>
        </p:nvSpPr>
        <p:spPr>
          <a:xfrm>
            <a:off x="2079360" y="4583160"/>
            <a:ext cx="1445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Mg(OH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50560" y="1041480"/>
            <a:ext cx="8893080" cy="29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复分解反应要发生，需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要具备一定的条件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1066680" y="3551400"/>
            <a:ext cx="662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沉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气体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生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"/>
          <p:cNvSpPr/>
          <p:nvPr/>
        </p:nvSpPr>
        <p:spPr>
          <a:xfrm>
            <a:off x="5335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b0000"/>
                </a:solidFill>
                <a:latin typeface="华文行楷"/>
                <a:ea typeface="华文行楷"/>
              </a:rPr>
              <a:t>宏观辨识与微观探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2"/>
          <p:cNvSpPr/>
          <p:nvPr/>
        </p:nvSpPr>
        <p:spPr>
          <a:xfrm>
            <a:off x="1371600" y="988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(H</a:t>
            </a:r>
            <a:r>
              <a:rPr b="1" lang="en-US" sz="2800" spc="-1" strike="noStrike" baseline="30000">
                <a:solidFill>
                  <a:srgbClr val="0066cc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+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酸根离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"/>
          <p:cNvSpPr/>
          <p:nvPr/>
        </p:nvSpPr>
        <p:spPr>
          <a:xfrm>
            <a:off x="1274760" y="1870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碱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（  金属离子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+  OH</a:t>
            </a:r>
            <a:r>
              <a:rPr b="1" lang="en-US" sz="3600" spc="-1" strike="noStrike" baseline="30000">
                <a:solidFill>
                  <a:srgbClr val="0066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1274760" y="4038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（  金属离子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酸根离子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914400" y="1189080"/>
            <a:ext cx="343080" cy="3744720"/>
          </a:xfrm>
          <a:custGeom>
            <a:avLst/>
            <a:gdLst>
              <a:gd name="textAreaLeft" fmla="*/ 219240 w 343080"/>
              <a:gd name="textAreaRight" fmla="*/ 343440 w 343080"/>
              <a:gd name="textAreaTop" fmla="*/ 202680 h 3744720"/>
              <a:gd name="textAreaBottom" fmla="*/ 354204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8"/>
                  <a:pt x="10800" y="3736"/>
                </a:cubicBezTo>
                <a:lnTo>
                  <a:pt x="10800" y="7064"/>
                </a:lnTo>
                <a:cubicBezTo>
                  <a:pt x="10800" y="8932"/>
                  <a:pt x="5400" y="10800"/>
                  <a:pt x="0" y="10800"/>
                </a:cubicBezTo>
                <a:cubicBezTo>
                  <a:pt x="5400" y="10800"/>
                  <a:pt x="10800" y="12668"/>
                  <a:pt x="10800" y="14536"/>
                </a:cubicBezTo>
                <a:lnTo>
                  <a:pt x="10800" y="17864"/>
                </a:lnTo>
                <a:cubicBezTo>
                  <a:pt x="10800" y="1973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800600" y="103320"/>
            <a:ext cx="1980720" cy="1779480"/>
            <a:chOff x="4800600" y="103320"/>
            <a:chExt cx="1980720" cy="1779480"/>
          </a:xfrm>
        </p:grpSpPr>
        <p:sp>
          <p:nvSpPr>
            <p:cNvPr id="1131" name="Text Box 7"/>
            <p:cNvSpPr/>
            <p:nvPr/>
          </p:nvSpPr>
          <p:spPr>
            <a:xfrm>
              <a:off x="5083560" y="103320"/>
              <a:ext cx="169776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 C1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 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 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AutoShape 8"/>
            <p:cNvSpPr/>
            <p:nvPr/>
          </p:nvSpPr>
          <p:spPr>
            <a:xfrm>
              <a:off x="4800600" y="289440"/>
              <a:ext cx="212040" cy="13111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43920 h 1311120"/>
                <a:gd name="textAreaBottom" fmla="*/ 126720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61"/>
                    <a:pt x="10800" y="2322"/>
                  </a:cubicBezTo>
                  <a:lnTo>
                    <a:pt x="10800" y="8478"/>
                  </a:lnTo>
                  <a:cubicBezTo>
                    <a:pt x="10800" y="9639"/>
                    <a:pt x="5400" y="10800"/>
                    <a:pt x="0" y="10800"/>
                  </a:cubicBezTo>
                  <a:cubicBezTo>
                    <a:pt x="5400" y="10800"/>
                    <a:pt x="10800" y="11961"/>
                    <a:pt x="10800" y="13122"/>
                  </a:cubicBezTo>
                  <a:lnTo>
                    <a:pt x="10800" y="19278"/>
                  </a:lnTo>
                  <a:cubicBezTo>
                    <a:pt x="10800" y="2043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9"/>
          <p:cNvGrpSpPr/>
          <p:nvPr/>
        </p:nvGrpSpPr>
        <p:grpSpPr>
          <a:xfrm>
            <a:off x="5313240" y="1870200"/>
            <a:ext cx="2514600" cy="2744280"/>
            <a:chOff x="5313240" y="1870200"/>
            <a:chExt cx="2514600" cy="2744280"/>
          </a:xfrm>
        </p:grpSpPr>
        <p:sp>
          <p:nvSpPr>
            <p:cNvPr id="1134" name="Text Box 10"/>
            <p:cNvSpPr/>
            <p:nvPr/>
          </p:nvSpPr>
          <p:spPr>
            <a:xfrm>
              <a:off x="5694480" y="1870200"/>
              <a:ext cx="2133360" cy="27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aOH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KOH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a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 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1"/>
            <p:cNvSpPr/>
            <p:nvPr/>
          </p:nvSpPr>
          <p:spPr>
            <a:xfrm>
              <a:off x="5313240" y="2192040"/>
              <a:ext cx="304920" cy="13989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6360 h 1398960"/>
                <a:gd name="textAreaBottom" fmla="*/ 1362600 h 13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12"/>
          <p:cNvGrpSpPr/>
          <p:nvPr/>
        </p:nvGrpSpPr>
        <p:grpSpPr>
          <a:xfrm>
            <a:off x="1357920" y="4485600"/>
            <a:ext cx="7009560" cy="1028880"/>
            <a:chOff x="1357920" y="4485600"/>
            <a:chExt cx="7009560" cy="1028880"/>
          </a:xfrm>
        </p:grpSpPr>
        <p:sp>
          <p:nvSpPr>
            <p:cNvPr id="1137" name="Rectangle 13"/>
            <p:cNvSpPr/>
            <p:nvPr/>
          </p:nvSpPr>
          <p:spPr>
            <a:xfrm>
              <a:off x="1357920" y="486576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aC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4"/>
            <p:cNvSpPr/>
            <p:nvPr/>
          </p:nvSpPr>
          <p:spPr>
            <a:xfrm>
              <a:off x="2576520" y="486576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5"/>
            <p:cNvSpPr/>
            <p:nvPr/>
          </p:nvSpPr>
          <p:spPr>
            <a:xfrm>
              <a:off x="4100400" y="486576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KC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6"/>
            <p:cNvSpPr/>
            <p:nvPr/>
          </p:nvSpPr>
          <p:spPr>
            <a:xfrm>
              <a:off x="5167080" y="4835520"/>
              <a:ext cx="175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aC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17"/>
            <p:cNvSpPr/>
            <p:nvPr/>
          </p:nvSpPr>
          <p:spPr>
            <a:xfrm rot="5358000">
              <a:off x="4478760" y="1927800"/>
              <a:ext cx="381240" cy="556416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45080 h 5564160"/>
                <a:gd name="textAreaBottom" fmla="*/ 5419080 h 55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094"/>
                  </a:lnTo>
                  <a:cubicBezTo>
                    <a:pt x="10800" y="10994"/>
                    <a:pt x="5400" y="11894"/>
                    <a:pt x="0" y="11894"/>
                  </a:cubicBezTo>
                  <a:cubicBezTo>
                    <a:pt x="5400" y="11894"/>
                    <a:pt x="10800" y="12794"/>
                    <a:pt x="10800" y="1369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18"/>
            <p:cNvSpPr/>
            <p:nvPr/>
          </p:nvSpPr>
          <p:spPr>
            <a:xfrm>
              <a:off x="6538680" y="4835520"/>
              <a:ext cx="182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uS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 Box 19"/>
          <p:cNvSpPr/>
          <p:nvPr/>
        </p:nvSpPr>
        <p:spPr>
          <a:xfrm>
            <a:off x="137160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WordArt 20"/>
          <p:cNvSpPr txBox="1"/>
          <p:nvPr/>
        </p:nvSpPr>
        <p:spPr>
          <a:xfrm>
            <a:off x="250920" y="115920"/>
            <a:ext cx="3558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微观角度看溶液中的酸碱盐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5" name="TextBox 1"/>
          <p:cNvSpPr/>
          <p:nvPr/>
        </p:nvSpPr>
        <p:spPr>
          <a:xfrm>
            <a:off x="0" y="5288040"/>
            <a:ext cx="87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分解反应的微观实质是：溶液中自由移动的离子结合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淀、气体或水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自由移动的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离子数目减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176720" cy="4213080"/>
          </a:xfrm>
          <a:prstGeom prst="rect">
            <a:avLst/>
          </a:prstGeom>
          <a:ln w="0">
            <a:noFill/>
          </a:ln>
        </p:spPr>
      </p:pic>
      <p:sp>
        <p:nvSpPr>
          <p:cNvPr id="1147" name="AutoShape 3"/>
          <p:cNvSpPr/>
          <p:nvPr/>
        </p:nvSpPr>
        <p:spPr>
          <a:xfrm>
            <a:off x="971640" y="1413000"/>
            <a:ext cx="3060720" cy="3024000"/>
          </a:xfrm>
          <a:prstGeom prst="downArrowCallout">
            <a:avLst>
              <a:gd name="adj1" fmla="val 25306"/>
              <a:gd name="adj2" fmla="val 25304"/>
              <a:gd name="adj3" fmla="val 16667"/>
              <a:gd name="adj4" fmla="val 6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4"/>
          <p:cNvSpPr/>
          <p:nvPr/>
        </p:nvSpPr>
        <p:spPr>
          <a:xfrm>
            <a:off x="2195640" y="1773360"/>
            <a:ext cx="720720" cy="7189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5"/>
          <p:cNvSpPr/>
          <p:nvPr/>
        </p:nvSpPr>
        <p:spPr>
          <a:xfrm>
            <a:off x="1260360" y="2133720"/>
            <a:ext cx="792360" cy="792000"/>
          </a:xfrm>
          <a:prstGeom prst="ellipse">
            <a:avLst/>
          </a:prstGeom>
          <a:gradFill rotWithShape="0">
            <a:gsLst>
              <a:gs pos="0">
                <a:srgbClr val="ffe2c5"/>
              </a:gs>
              <a:gs pos="100000">
                <a:srgbClr val="76695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6"/>
          <p:cNvSpPr/>
          <p:nvPr/>
        </p:nvSpPr>
        <p:spPr>
          <a:xfrm>
            <a:off x="2916360" y="4797360"/>
            <a:ext cx="576000" cy="57636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7"/>
          <p:cNvSpPr/>
          <p:nvPr/>
        </p:nvSpPr>
        <p:spPr>
          <a:xfrm>
            <a:off x="1619280" y="5084640"/>
            <a:ext cx="863640" cy="8654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8"/>
          <p:cNvSpPr/>
          <p:nvPr/>
        </p:nvSpPr>
        <p:spPr>
          <a:xfrm>
            <a:off x="2700360" y="4508640"/>
            <a:ext cx="1081080" cy="107928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9"/>
          <p:cNvSpPr/>
          <p:nvPr/>
        </p:nvSpPr>
        <p:spPr>
          <a:xfrm>
            <a:off x="2584440" y="576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溶液和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326880" y="55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看图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1"/>
          <p:cNvSpPr/>
          <p:nvPr/>
        </p:nvSpPr>
        <p:spPr>
          <a:xfrm>
            <a:off x="4572000" y="4141800"/>
            <a:ext cx="4495680" cy="183204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结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质是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50000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en-US" sz="3200" spc="-1" strike="noStrike" baseline="50000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12" descr=""/>
          <p:cNvPicPr/>
          <p:nvPr/>
        </p:nvPicPr>
        <p:blipFill>
          <a:blip r:embed="rId2"/>
          <a:stretch/>
        </p:blipFill>
        <p:spPr>
          <a:xfrm>
            <a:off x="5605560" y="1414440"/>
            <a:ext cx="3095640" cy="925560"/>
          </a:xfrm>
          <a:prstGeom prst="rect">
            <a:avLst/>
          </a:prstGeom>
          <a:ln w="0">
            <a:noFill/>
          </a:ln>
        </p:spPr>
      </p:pic>
      <p:sp>
        <p:nvSpPr>
          <p:cNvPr id="1157" name="Rectangle 13"/>
          <p:cNvSpPr/>
          <p:nvPr/>
        </p:nvSpPr>
        <p:spPr>
          <a:xfrm>
            <a:off x="4167360" y="155412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4"/>
          <p:cNvSpPr/>
          <p:nvPr/>
        </p:nvSpPr>
        <p:spPr>
          <a:xfrm>
            <a:off x="442764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旁观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5"/>
          <p:cNvSpPr/>
          <p:nvPr/>
        </p:nvSpPr>
        <p:spPr>
          <a:xfrm>
            <a:off x="6248520" y="25909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395280" y="636840"/>
            <a:ext cx="675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0000"/>
                </a:solidFill>
                <a:latin typeface="Arial"/>
              </a:rPr>
              <a:t>NaOH+HNO</a:t>
            </a:r>
            <a:r>
              <a:rPr b="1" lang="en-US" sz="3200" spc="-1" strike="noStrike" baseline="-25000">
                <a:solidFill>
                  <a:srgbClr val="ab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b0000"/>
                </a:solidFill>
                <a:latin typeface="Arial"/>
              </a:rPr>
              <a:t>==</a:t>
            </a:r>
            <a:r>
              <a:rPr b="1" lang="en-US" sz="2800" spc="-1" strike="noStrike">
                <a:solidFill>
                  <a:srgbClr val="ab0000"/>
                </a:solidFill>
                <a:latin typeface="Arial"/>
              </a:rPr>
              <a:t> NaNO</a:t>
            </a:r>
            <a:r>
              <a:rPr b="1" lang="en-US" sz="2800" spc="-1" strike="noStrike" baseline="-25000">
                <a:solidFill>
                  <a:srgbClr val="ab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ab0000"/>
                </a:solidFill>
                <a:latin typeface="Arial"/>
              </a:rPr>
              <a:t>+H</a:t>
            </a:r>
            <a:r>
              <a:rPr b="1" lang="en-US" sz="2800" spc="-1" strike="noStrike" baseline="-25000">
                <a:solidFill>
                  <a:srgbClr val="ab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ab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059 0.02338 0.01198 0.04421 0.02257 0.06644 C 0.02691 0.07569 0.03298 0.08495 0.03837 0.09352 C 0.04028 0.09653 0.04392 0.10208 0.04392 0.10231 C 0.04618 0.10995 0.05069 0.11551 0.05434 0.12292 C 0.05677 0.12824 0.05903 0.1338 0.06146 0.13958 C 0.06354 0.14468 0.06771 0.14745 0.07048 0.15208 C 0.07413 0.16667 0.08229 0.18079 0.09132 0.1919 C 0.09653 0.2081 0.10521 0.22083 0.11267 0.23565 C 0.11441 0.24421 0.11614 0.25509 0.11979 0.26273 C 0.12187 0.26736 0.12691 0.27523 0.12691 0.27569 C 0.12743 0.27755 0.1276 0.27963 0.12847 0.28148 C 0.13055 0.28611 0.13785 0.29931 0.13559 0.29421 C 0.13507 0.29282 0.13455 0.29167 0.13385 0.29028 E">
                                      <p:cBhvr>
                                        <p:cTn id="100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-0.00209 0.01412 -0.00487 0.03056 -0.01025 0.04306 C -0.01337 0.05047 -0.01754 0.05695 -0.02049 0.06459 C -0.02118 0.06644 -0.02153 0.06852 -0.02205 0.0706 C -0.02257 0.07315 -0.02257 0.07616 -0.02344 0.07847 C -0.02448 0.08148 -0.02674 0.08357 -0.02796 0.08634 C -0.03525 0.10347 -0.03837 0.12963 -0.04844 0.14306 C -0.04896 0.14514 -0.04966 0.14699 -0.05 0.14908 C -0.0507 0.15278 -0.05052 0.15695 -0.05139 0.16065 C -0.05365 0.16945 -0.05868 0.17662 -0.06025 0.18634 C -0.06198 0.19676 -0.06268 0.20417 -0.06615 0.21366 C -0.06789 0.22361 -0.06997 0.23588 -0.07344 0.24514 C -0.07587 0.25185 -0.07969 0.25787 -0.0823 0.26459 C -0.08299 0.26644 -0.08299 0.26875 -0.08386 0.2706 C -0.08698 0.27685 -0.09132 0.28172 -0.0941 0.2882 C -0.09549 0.29144 -0.09688 0.29491 -0.09844 0.29792 C -0.10122 0.30324 -0.1073 0.31366 -0.1073 0.31366 C -0.11007 0.32408 -0.10799 0.31783 -0.11476 0.33125 C -0.11997 0.34121 -0.1191 0.35047 -0.12639 0.35672 C -0.13073 0.36551 -0.13264 0.36343 -0.13976 0.36667 C -0.14271 0.37292 -0.14254 0.37477 -0.14254 0.3706 E">
                                      <p:cBhvr>
                                        <p:cTn id="115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2"/>
          <p:cNvSpPr/>
          <p:nvPr/>
        </p:nvSpPr>
        <p:spPr>
          <a:xfrm>
            <a:off x="326880" y="55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看图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3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4176720" cy="4213080"/>
          </a:xfrm>
          <a:prstGeom prst="rect">
            <a:avLst/>
          </a:prstGeom>
          <a:ln w="0">
            <a:noFill/>
          </a:ln>
        </p:spPr>
      </p:pic>
      <p:sp>
        <p:nvSpPr>
          <p:cNvPr id="1163" name="AutoShape 4"/>
          <p:cNvSpPr/>
          <p:nvPr/>
        </p:nvSpPr>
        <p:spPr>
          <a:xfrm>
            <a:off x="684360" y="1413000"/>
            <a:ext cx="3060720" cy="3024000"/>
          </a:xfrm>
          <a:prstGeom prst="downArrowCallout">
            <a:avLst>
              <a:gd name="adj1" fmla="val 25306"/>
              <a:gd name="adj2" fmla="val 25304"/>
              <a:gd name="adj3" fmla="val 16667"/>
              <a:gd name="adj4" fmla="val 6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5"/>
          <p:cNvSpPr/>
          <p:nvPr/>
        </p:nvSpPr>
        <p:spPr>
          <a:xfrm>
            <a:off x="2629080" y="1916280"/>
            <a:ext cx="720720" cy="7189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6"/>
          <p:cNvSpPr/>
          <p:nvPr/>
        </p:nvSpPr>
        <p:spPr>
          <a:xfrm>
            <a:off x="900000" y="1916280"/>
            <a:ext cx="720720" cy="7189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7"/>
          <p:cNvSpPr/>
          <p:nvPr/>
        </p:nvSpPr>
        <p:spPr>
          <a:xfrm>
            <a:off x="1763640" y="2349360"/>
            <a:ext cx="1055880" cy="936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8"/>
          <p:cNvSpPr/>
          <p:nvPr/>
        </p:nvSpPr>
        <p:spPr>
          <a:xfrm>
            <a:off x="828720" y="5084640"/>
            <a:ext cx="863640" cy="8654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9"/>
          <p:cNvSpPr/>
          <p:nvPr/>
        </p:nvSpPr>
        <p:spPr>
          <a:xfrm>
            <a:off x="2916360" y="5157720"/>
            <a:ext cx="576000" cy="57636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0"/>
          <p:cNvSpPr/>
          <p:nvPr/>
        </p:nvSpPr>
        <p:spPr>
          <a:xfrm>
            <a:off x="1836720" y="5373720"/>
            <a:ext cx="863640" cy="86508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1"/>
          <p:cNvSpPr/>
          <p:nvPr/>
        </p:nvSpPr>
        <p:spPr>
          <a:xfrm>
            <a:off x="3276720" y="4437000"/>
            <a:ext cx="576000" cy="57636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2"/>
          <p:cNvSpPr/>
          <p:nvPr/>
        </p:nvSpPr>
        <p:spPr>
          <a:xfrm>
            <a:off x="2771640" y="4508640"/>
            <a:ext cx="1081080" cy="107928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3"/>
          <p:cNvSpPr/>
          <p:nvPr/>
        </p:nvSpPr>
        <p:spPr>
          <a:xfrm>
            <a:off x="2819520" y="102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碳酸钠和稀盐酸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4"/>
          <p:cNvSpPr/>
          <p:nvPr/>
        </p:nvSpPr>
        <p:spPr>
          <a:xfrm>
            <a:off x="4583160" y="3949560"/>
            <a:ext cx="4560840" cy="197316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结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碳酸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质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 baseline="50000">
                <a:solidFill>
                  <a:srgbClr val="ffffff"/>
                </a:solidFill>
                <a:latin typeface="Arial"/>
              </a:rPr>
              <a:t>2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600" spc="-1" strike="noStrike" baseline="50000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15"/>
          <p:cNvSpPr/>
          <p:nvPr/>
        </p:nvSpPr>
        <p:spPr>
          <a:xfrm>
            <a:off x="3348000" y="2637000"/>
            <a:ext cx="1297080" cy="936360"/>
          </a:xfrm>
          <a:prstGeom prst="cloudCallout">
            <a:avLst>
              <a:gd name="adj1" fmla="val -17319"/>
              <a:gd name="adj2" fmla="val 15457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6"/>
          <p:cNvSpPr/>
          <p:nvPr/>
        </p:nvSpPr>
        <p:spPr>
          <a:xfrm>
            <a:off x="3809880" y="159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17"/>
          <p:cNvSpPr/>
          <p:nvPr/>
        </p:nvSpPr>
        <p:spPr>
          <a:xfrm>
            <a:off x="4572000" y="26668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旁观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9"/>
          <p:cNvSpPr/>
          <p:nvPr/>
        </p:nvSpPr>
        <p:spPr>
          <a:xfrm>
            <a:off x="6477120" y="2666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23"/>
          <p:cNvGrpSpPr/>
          <p:nvPr/>
        </p:nvGrpSpPr>
        <p:grpSpPr>
          <a:xfrm>
            <a:off x="5222880" y="1441440"/>
            <a:ext cx="3962520" cy="949320"/>
            <a:chOff x="5222880" y="1441440"/>
            <a:chExt cx="3962520" cy="949320"/>
          </a:xfrm>
        </p:grpSpPr>
        <p:pic>
          <p:nvPicPr>
            <p:cNvPr id="1179" name="Picture 18" descr=""/>
            <p:cNvPicPr/>
            <p:nvPr/>
          </p:nvPicPr>
          <p:blipFill>
            <a:blip r:embed="rId2"/>
            <a:stretch/>
          </p:blipFill>
          <p:spPr>
            <a:xfrm>
              <a:off x="5222880" y="1441440"/>
              <a:ext cx="39625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Oval 22"/>
            <p:cNvSpPr/>
            <p:nvPr/>
          </p:nvSpPr>
          <p:spPr>
            <a:xfrm>
              <a:off x="8575920" y="1552680"/>
              <a:ext cx="609480" cy="768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TextBox 1"/>
          <p:cNvSpPr/>
          <p:nvPr/>
        </p:nvSpPr>
        <p:spPr>
          <a:xfrm>
            <a:off x="828720" y="682560"/>
            <a:ext cx="717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HCl==2NaCl+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0.0217 0.03889 0.02708 0.08403 0.03698 0.12569 C 0.04149 0.14468 0.05208 0.16574 0.06076 0.18333 C 0.0618 0.20255 0.06215 0.22176 0.06389 0.24097 C 0.06441 0.24676 0.06666 0.25231 0.06753 0.25833 C 0.075 0.30972 0.05989 0.27431 0.0809 0.29236 C 0.08298 0.29352 0.07673 0.29074 0.07413 0.28958 E">
                                      <p:cBhvr>
                                        <p:cTn id="136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02 -2.96296E-006 C 0.01945 0.0051 0.02552 0.01273 0.0316 0.01922 C 0.03472 0.02639 0.03733 0.0338 0.04045 0.04074 C 0.04306 0.0551 0.04531 0.06991 0.04809 0.08403 C 0.05052 0.11204 0.05156 0.10116 0.04913 0.11713 C 0.04879 0.16158 0.04879 0.20602 0.04809 0.25023 C 0.04792 0.25857 0.03924 0.26968 0.03924 0.26991 C 0.03889 0.27176 0.03906 0.27431 0.0382 0.2757 C 0.0375 0.27709 0.03594 0.27662 0.0349 0.27755 C 0.03264 0.27986 0.03056 0.28287 0.0283 0.28542 C 0.02726 0.28681 0.025 0.28935 0.025 0.28959 C 0.02136 0.29908 0.01406 0.30625 0.00868 0.31297 C 0.00261 0.31019 -0.00278 0.30672 -0.00903 0.3051 C -0.01892 0.30648 -0.02795 0.30834 -0.0375 0.31297 C -0.03854 0.31227 -0.03958 0.31065 -0.04062 0.31088 C -0.04236 0.31135 -0.0434 0.31528 -0.04514 0.31482 C -0.04635 0.31435 -0.04722 0.30903 -0.04722 0.30926 E">
                                      <p:cBhvr>
                                        <p:cTn id="159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-0.00052 0.00185 -0.00052 0.0044 -0.00156 0.00579 C -0.00399 0.00903 -0.01024 0.01366 -0.01024 0.01366 C -0.01875 0.03032 -0.02604 0.05023 -0.0368 0.06458 C -0.0401 0.07847 -0.04427 0.1037 -0.05295 0.11157 C -0.05694 0.13218 -0.05104 0.10579 -0.05885 0.12731 C -0.05972 0.12963 -0.05937 0.13264 -0.06024 0.13518 C -0.06319 0.14421 -0.07239 0.16898 -0.07795 0.17639 C -0.08038 0.18518 -0.0835 0.19329 -0.08819 0.2 C -0.09184 0.21319 -0.0868 0.19861 -0.09409 0.20972 C -0.10364 0.22431 -0.09531 0.21968 -0.10451 0.22338 C -0.11128 0.23727 -0.10312 0.22338 -0.1118 0.23125 C -0.11736 0.23634 -0.12204 0.24699 -0.125 0.25486 C -0.13281 0.27593 -0.13767 0.29838 -0.14566 0.31944 C -0.14392 0.3588 -0.15138 0.35648 -0.1309 0.36065 C -0.13055 0.36065 -0.11354 0.35903 -0.1118 0.35671 C -0.11076 0.35532 -0.1118 0.35278 -0.1118 0.35093 E">
                                      <p:cBhvr>
                                        <p:cTn id="161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4176720" cy="421344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3"/>
          <p:cNvSpPr/>
          <p:nvPr/>
        </p:nvSpPr>
        <p:spPr>
          <a:xfrm>
            <a:off x="684360" y="1432080"/>
            <a:ext cx="3060720" cy="3024000"/>
          </a:xfrm>
          <a:prstGeom prst="downArrowCallout">
            <a:avLst>
              <a:gd name="adj1" fmla="val 25306"/>
              <a:gd name="adj2" fmla="val 25304"/>
              <a:gd name="adj3" fmla="val 16667"/>
              <a:gd name="adj4" fmla="val 6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326880" y="55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看图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5"/>
          <p:cNvSpPr/>
          <p:nvPr/>
        </p:nvSpPr>
        <p:spPr>
          <a:xfrm>
            <a:off x="1620720" y="1484280"/>
            <a:ext cx="901800" cy="9716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 baseline="30000">
                <a:solidFill>
                  <a:srgbClr val="ffffff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6"/>
          <p:cNvSpPr/>
          <p:nvPr/>
        </p:nvSpPr>
        <p:spPr>
          <a:xfrm>
            <a:off x="1547640" y="4797360"/>
            <a:ext cx="1135080" cy="11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7"/>
          <p:cNvSpPr/>
          <p:nvPr/>
        </p:nvSpPr>
        <p:spPr>
          <a:xfrm>
            <a:off x="2556000" y="2133720"/>
            <a:ext cx="863640" cy="86508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8"/>
          <p:cNvSpPr/>
          <p:nvPr/>
        </p:nvSpPr>
        <p:spPr>
          <a:xfrm>
            <a:off x="684360" y="2133720"/>
            <a:ext cx="863280" cy="86508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9"/>
          <p:cNvSpPr/>
          <p:nvPr/>
        </p:nvSpPr>
        <p:spPr>
          <a:xfrm>
            <a:off x="2916360" y="4508640"/>
            <a:ext cx="699840" cy="7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"/>
          <p:cNvSpPr/>
          <p:nvPr/>
        </p:nvSpPr>
        <p:spPr>
          <a:xfrm>
            <a:off x="612720" y="4365720"/>
            <a:ext cx="773280" cy="7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</a:rPr>
              <a:t>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1"/>
          <p:cNvSpPr/>
          <p:nvPr/>
        </p:nvSpPr>
        <p:spPr>
          <a:xfrm>
            <a:off x="1332000" y="4653000"/>
            <a:ext cx="1439640" cy="1512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2"/>
          <p:cNvSpPr/>
          <p:nvPr/>
        </p:nvSpPr>
        <p:spPr>
          <a:xfrm>
            <a:off x="2800440" y="54720"/>
            <a:ext cx="40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氯化钡与硫酸钠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3"/>
          <p:cNvSpPr/>
          <p:nvPr/>
        </p:nvSpPr>
        <p:spPr>
          <a:xfrm>
            <a:off x="4489560" y="4365720"/>
            <a:ext cx="4495680" cy="186120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结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硫酸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钡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质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en-US" sz="2400" spc="-1" strike="noStrike" baseline="5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 baseline="50000">
                <a:solidFill>
                  <a:srgbClr val="ffffff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50000">
                <a:solidFill>
                  <a:srgbClr val="ffffff"/>
                </a:solidFill>
                <a:latin typeface="Arial"/>
              </a:rPr>
              <a:t>2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4"/>
          <p:cNvSpPr/>
          <p:nvPr/>
        </p:nvSpPr>
        <p:spPr>
          <a:xfrm>
            <a:off x="4191120" y="15098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15" descr=""/>
          <p:cNvPicPr/>
          <p:nvPr/>
        </p:nvPicPr>
        <p:blipFill>
          <a:blip r:embed="rId2"/>
          <a:stretch/>
        </p:blipFill>
        <p:spPr>
          <a:xfrm>
            <a:off x="5675400" y="1284120"/>
            <a:ext cx="3360600" cy="1179720"/>
          </a:xfrm>
          <a:prstGeom prst="rect">
            <a:avLst/>
          </a:prstGeom>
          <a:ln w="0">
            <a:noFill/>
          </a:ln>
        </p:spPr>
      </p:pic>
      <p:sp>
        <p:nvSpPr>
          <p:cNvPr id="1196" name="Text Box 16"/>
          <p:cNvSpPr/>
          <p:nvPr/>
        </p:nvSpPr>
        <p:spPr>
          <a:xfrm>
            <a:off x="4356000" y="2921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旁观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7"/>
          <p:cNvSpPr/>
          <p:nvPr/>
        </p:nvSpPr>
        <p:spPr>
          <a:xfrm>
            <a:off x="6248520" y="2743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"/>
          <p:cNvSpPr/>
          <p:nvPr/>
        </p:nvSpPr>
        <p:spPr>
          <a:xfrm>
            <a:off x="1547640" y="762120"/>
            <a:ext cx="580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↓+2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3.05556E-006 0.35185 E">
                                      <p:cBhvr>
                                        <p:cTn id="183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0.00047 C 0.01528 -0.00324 0.02535 0.00417 0.03403 0.00741 C 0.04063 0.0132 0.04045 0.01713 0.04236 0.02755 C 0.04289 0.0426 0.04271 0.05764 0.04393 0.07269 C 0.04427 0.07732 0.04723 0.08612 0.04723 0.08635 C 0.03802 0.12801 0.04723 0.08357 0.04393 0.20139 C 0.04358 0.21366 0.03386 0.22338 0.03091 0.23519 C 0.02969 0.28982 0.03733 0.29676 0.02275 0.32801 C 0.0191 0.34375 0.0198 0.34306 0.02136 0.36389 C 0.02014 0.39144 0.02188 0.40602 0.01146 0.42709 C 0.00886 0.44144 0.01164 0.43426 -3.33333E-006 0.44514 C -0.00156 0.44676 -0.00468 0.44977 -0.00468 0.45 C -0.01076 0.46181 -0.00468 0.45232 -0.01284 0.4588 C -0.01632 0.46135 -0.02257 0.46783 -0.02257 0.46806 C -0.02378 0.46991 -0.02482 0.47199 -0.02586 0.47454 C -0.02656 0.47662 -0.02899 0.48033 -0.0276 0.48149 C -0.02586 0.48287 -0.02257 0.47686 -0.02257 0.47709 E">
                                      <p:cBhvr>
                                        <p:cTn id="197" dur="2000" fill="hold"/>
                                        <p:tgtEl>
                                          <p:spTgt spid="1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0.00047 C 0.0059 -0.00463 -0.00642 -0.00301 -0.01753 0.00278 C -0.02257 0.01366 -0.02621 0.02524 -0.03125 0.03588 C -0.03264 0.04468 -0.03437 0.05371 -0.03576 0.0625 C -0.03715 0.09514 -0.03854 0.09584 -0.03576 0.12431 C -0.03507 0.13195 -0.03142 0.13889 -0.02969 0.1463 C -0.02917 0.15787 -0.02917 0.16991 -0.0283 0.18172 C -0.02708 0.1963 -0.02118 0.21135 -0.0191 0.2257 C -0.01701 0.24005 -0.0151 0.25394 -0.01163 0.2676 C -0.00903 0.29167 -0.01059 0.32662 0.00226 0.34514 C 0.00573 0.36042 0.00816 0.375 0.01424 0.38912 C 0.01615 0.41112 0.01736 0.41783 0.03108 0.42917 C 0.03299 0.43056 0.03524 0.43172 0.03715 0.43357 C 0.04011 0.43612 0.04618 0.44237 0.04618 0.4426 C 0.04792 0.44931 0.05382 0.46227 0.05382 0.4625 C 0.05521 0.46875 0.05365 0.47732 0.05677 0.48195 C 0.05747 0.48287 0.06181 0.47709 0.06302 0.47547 E">
                                      <p:cBhvr>
                                        <p:cTn id="200" dur="2000" fill="hold"/>
                                        <p:tgtEl>
                                          <p:spTgt spid="1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0-04-08T09:46:42Z</dcterms:modified>
  <cp:revision>3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