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png" ContentType="image/png"/>
  <Override PartName="/ppt/media/image1.png" ContentType="image/png"/>
  <Override PartName="/ppt/media/image3.jpeg" ContentType="image/jpe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AFF2-4AE9-4A7C-AE5F-E5D91FEA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D390-BC11-4687-BF38-BA6B76C7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7B62-A384-4094-AFAA-F00D6961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4310-FD42-4D1F-B54B-D3E316A72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CBD4-0BDF-4659-B2E2-AAECBEB5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80EE-44D2-4AD1-B154-C8AFC602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74CC-C904-42A9-AD68-0E8A5215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9DC6-ABC6-4A28-A718-048A252E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3699-AE46-4B3A-83F0-B91CFE8F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A9FF-116B-4D40-9DFB-38E7AAC0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2D83-5243-4633-9938-772E2B2B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8B55-2450-4D0E-AF0E-23B844E5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4083-E1AC-46B6-8A1B-D68B1061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D346-0E43-4955-8297-C92773DD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AE28-1A1B-4284-9840-214E54AC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F72C-52DD-45BA-B37C-F7B8BF7F5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9547-A77D-481D-8B33-6E04E9B1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C0EA-F8B2-46A7-8C6E-0573643C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5A8D-C42C-4B97-927F-0014ED04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FFD1-24C7-44C1-9C7E-2AFD33DD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74CA-E227-4E78-A0CC-B8442452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B2DA-66A2-474B-9AFC-FED4A297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6387-8E03-4B05-88BC-AA8315FB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9416-0359-4FA6-8326-B2879622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18720"/>
            <a:ext cx="2867760" cy="3273120"/>
            <a:chOff x="6273360" y="-18720"/>
            <a:chExt cx="2867760" cy="3273120"/>
          </a:xfrm>
        </p:grpSpPr>
        <p:grpSp>
          <p:nvGrpSpPr>
            <p:cNvPr id="1" name="Group 3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10014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920" y="283068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7960" y="1444680"/>
              <a:ext cx="1006200" cy="753840"/>
              <a:chOff x="7797960" y="1444680"/>
              <a:chExt cx="100620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7960" y="1444680"/>
                <a:ext cx="100620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10014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10014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30120"/>
                <a:ext cx="24264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18720"/>
              <a:ext cx="2867760" cy="2267640"/>
              <a:chOff x="6273360" y="-18720"/>
              <a:chExt cx="2867760" cy="226764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4"/>
                    </a:gs>
                    <a:gs pos="100000">
                      <a:srgbClr val="10014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2880" y="808200"/>
                  <a:ext cx="2984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4e8ac"/>
                    </a:gs>
                    <a:gs pos="100000">
                      <a:srgbClr val="0000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18720"/>
                <a:ext cx="2867760" cy="2267640"/>
                <a:chOff x="6273360" y="-18720"/>
                <a:chExt cx="2867760" cy="226764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3480"/>
                  <a:ext cx="1064880" cy="1140120"/>
                  <a:chOff x="7834680" y="843480"/>
                  <a:chExt cx="1064880" cy="1140120"/>
                </a:xfrm>
              </p:grpSpPr>
              <p:sp>
                <p:nvSpPr>
                  <p:cNvPr id="16" name="AutoShape 18"/>
                  <p:cNvSpPr/>
                  <p:nvPr/>
                </p:nvSpPr>
                <p:spPr>
                  <a:xfrm rot="2711400">
                    <a:off x="7760880" y="1133280"/>
                    <a:ext cx="884160" cy="16020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1392" h="252">
                        <a:moveTo>
                          <a:pt x="0" y="252"/>
                        </a:moveTo>
                        <a:cubicBezTo>
                          <a:pt x="12" y="244"/>
                          <a:pt x="289" y="124"/>
                          <a:pt x="439" y="84"/>
                        </a:cubicBezTo>
                        <a:cubicBezTo>
                          <a:pt x="590" y="44"/>
                          <a:pt x="745" y="24"/>
                          <a:pt x="904" y="12"/>
                        </a:cubicBezTo>
                        <a:cubicBezTo>
                          <a:pt x="1063" y="0"/>
                          <a:pt x="1312" y="5"/>
                          <a:pt x="1392" y="12"/>
                        </a:cubicBezTo>
                        <a:lnTo>
                          <a:pt x="1384" y="51"/>
                        </a:lnTo>
                        <a:cubicBezTo>
                          <a:pt x="1302" y="58"/>
                          <a:pt x="1073" y="35"/>
                          <a:pt x="898" y="51"/>
                        </a:cubicBezTo>
                        <a:cubicBezTo>
                          <a:pt x="615" y="68"/>
                          <a:pt x="508" y="96"/>
                          <a:pt x="332" y="146"/>
                        </a:cubicBezTo>
                        <a:cubicBezTo>
                          <a:pt x="182" y="178"/>
                          <a:pt x="69" y="230"/>
                          <a:pt x="0" y="252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AutoShape 19"/>
                  <p:cNvSpPr/>
                  <p:nvPr/>
                </p:nvSpPr>
                <p:spPr>
                  <a:xfrm rot="2711400">
                    <a:off x="8407440" y="1602000"/>
                    <a:ext cx="473040" cy="250560"/>
                  </a:xfrm>
                  <a:custGeom>
                    <a:avLst/>
                    <a:gdLst>
                      <a:gd name="textAreaLeft" fmla="*/ 0 w 473040"/>
                      <a:gd name="textAreaRight" fmla="*/ 473400 w 47304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747" h="395">
                        <a:moveTo>
                          <a:pt x="2" y="4"/>
                        </a:moveTo>
                        <a:cubicBezTo>
                          <a:pt x="35" y="0"/>
                          <a:pt x="123" y="12"/>
                          <a:pt x="204" y="28"/>
                        </a:cubicBezTo>
                        <a:cubicBezTo>
                          <a:pt x="286" y="44"/>
                          <a:pt x="409" y="67"/>
                          <a:pt x="488" y="99"/>
                        </a:cubicBezTo>
                        <a:cubicBezTo>
                          <a:pt x="568" y="130"/>
                          <a:pt x="638" y="181"/>
                          <a:pt x="680" y="216"/>
                        </a:cubicBezTo>
                        <a:cubicBezTo>
                          <a:pt x="722" y="249"/>
                          <a:pt x="736" y="275"/>
                          <a:pt x="741" y="304"/>
                        </a:cubicBezTo>
                        <a:cubicBezTo>
                          <a:pt x="747" y="334"/>
                          <a:pt x="725" y="390"/>
                          <a:pt x="713" y="393"/>
                        </a:cubicBezTo>
                        <a:cubicBezTo>
                          <a:pt x="701" y="395"/>
                          <a:pt x="692" y="343"/>
                          <a:pt x="671" y="316"/>
                        </a:cubicBezTo>
                        <a:cubicBezTo>
                          <a:pt x="650" y="288"/>
                          <a:pt x="620" y="255"/>
                          <a:pt x="586" y="227"/>
                        </a:cubicBezTo>
                        <a:cubicBezTo>
                          <a:pt x="553" y="199"/>
                          <a:pt x="525" y="172"/>
                          <a:pt x="468" y="148"/>
                        </a:cubicBezTo>
                        <a:cubicBezTo>
                          <a:pt x="411" y="123"/>
                          <a:pt x="323" y="94"/>
                          <a:pt x="245" y="75"/>
                        </a:cubicBezTo>
                        <a:cubicBezTo>
                          <a:pt x="167" y="57"/>
                          <a:pt x="40" y="49"/>
                          <a:pt x="0" y="37"/>
                        </a:cubicBezTo>
                        <a:lnTo>
                          <a:pt x="2" y="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10014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5120" y="771480"/>
                  <a:ext cx="1265400" cy="1051920"/>
                  <a:chOff x="7845120" y="771480"/>
                  <a:chExt cx="1265400" cy="1051920"/>
                </a:xfrm>
              </p:grpSpPr>
              <p:sp>
                <p:nvSpPr>
                  <p:cNvPr id="19" name="AutoShape 21"/>
                  <p:cNvSpPr/>
                  <p:nvPr/>
                </p:nvSpPr>
                <p:spPr>
                  <a:xfrm rot="2103600">
                    <a:off x="7811640" y="1022400"/>
                    <a:ext cx="930240" cy="177840"/>
                  </a:xfrm>
                  <a:custGeom>
                    <a:avLst/>
                    <a:gdLst>
                      <a:gd name="textAreaLeft" fmla="*/ 0 w 930240"/>
                      <a:gd name="textAreaRight" fmla="*/ 930600 w 93024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1464" h="280">
                        <a:moveTo>
                          <a:pt x="0" y="280"/>
                        </a:moveTo>
                        <a:cubicBezTo>
                          <a:pt x="11" y="271"/>
                          <a:pt x="303" y="137"/>
                          <a:pt x="462" y="93"/>
                        </a:cubicBezTo>
                        <a:cubicBezTo>
                          <a:pt x="620" y="48"/>
                          <a:pt x="783" y="26"/>
                          <a:pt x="950" y="12"/>
                        </a:cubicBezTo>
                        <a:cubicBezTo>
                          <a:pt x="1118" y="0"/>
                          <a:pt x="1381" y="6"/>
                          <a:pt x="1464" y="12"/>
                        </a:cubicBezTo>
                        <a:lnTo>
                          <a:pt x="1456" y="56"/>
                        </a:lnTo>
                        <a:cubicBezTo>
                          <a:pt x="1369" y="63"/>
                          <a:pt x="1128" y="38"/>
                          <a:pt x="944" y="56"/>
                        </a:cubicBezTo>
                        <a:cubicBezTo>
                          <a:pt x="646" y="75"/>
                          <a:pt x="533" y="105"/>
                          <a:pt x="349" y="161"/>
                        </a:cubicBezTo>
                        <a:cubicBezTo>
                          <a:pt x="190" y="198"/>
                          <a:pt x="71" y="255"/>
                          <a:pt x="0" y="28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AutoShape 22"/>
                  <p:cNvSpPr/>
                  <p:nvPr/>
                </p:nvSpPr>
                <p:spPr>
                  <a:xfrm rot="2103600">
                    <a:off x="8575560" y="1425600"/>
                    <a:ext cx="500040" cy="279360"/>
                  </a:xfrm>
                  <a:custGeom>
                    <a:avLst/>
                    <a:gdLst>
                      <a:gd name="textAreaLeft" fmla="*/ 0 w 500040"/>
                      <a:gd name="textAreaRight" fmla="*/ 500400 w 50004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787" h="440">
                        <a:moveTo>
                          <a:pt x="2" y="4"/>
                        </a:moveTo>
                        <a:cubicBezTo>
                          <a:pt x="37" y="0"/>
                          <a:pt x="130" y="13"/>
                          <a:pt x="215" y="30"/>
                        </a:cubicBezTo>
                        <a:cubicBezTo>
                          <a:pt x="301" y="48"/>
                          <a:pt x="431" y="75"/>
                          <a:pt x="514" y="111"/>
                        </a:cubicBezTo>
                        <a:cubicBezTo>
                          <a:pt x="598" y="146"/>
                          <a:pt x="672" y="202"/>
                          <a:pt x="717" y="240"/>
                        </a:cubicBezTo>
                        <a:cubicBezTo>
                          <a:pt x="761" y="278"/>
                          <a:pt x="775" y="306"/>
                          <a:pt x="781" y="338"/>
                        </a:cubicBezTo>
                        <a:cubicBezTo>
                          <a:pt x="787" y="371"/>
                          <a:pt x="764" y="435"/>
                          <a:pt x="751" y="438"/>
                        </a:cubicBezTo>
                        <a:cubicBezTo>
                          <a:pt x="739" y="440"/>
                          <a:pt x="729" y="382"/>
                          <a:pt x="707" y="351"/>
                        </a:cubicBezTo>
                        <a:cubicBezTo>
                          <a:pt x="684" y="321"/>
                          <a:pt x="653" y="283"/>
                          <a:pt x="618" y="252"/>
                        </a:cubicBezTo>
                        <a:cubicBezTo>
                          <a:pt x="582" y="221"/>
                          <a:pt x="553" y="192"/>
                          <a:pt x="493" y="164"/>
                        </a:cubicBezTo>
                        <a:cubicBezTo>
                          <a:pt x="433" y="136"/>
                          <a:pt x="340" y="105"/>
                          <a:pt x="258" y="83"/>
                        </a:cubicBezTo>
                        <a:cubicBezTo>
                          <a:pt x="176" y="64"/>
                          <a:pt x="42" y="54"/>
                          <a:pt x="0" y="42"/>
                        </a:cubicBezTo>
                        <a:lnTo>
                          <a:pt x="2" y="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10014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39720" y="735840"/>
                  <a:ext cx="1289520" cy="829080"/>
                  <a:chOff x="7839720" y="735840"/>
                  <a:chExt cx="1289520" cy="829080"/>
                </a:xfrm>
              </p:grpSpPr>
              <p:sp>
                <p:nvSpPr>
                  <p:cNvPr id="22" name="AutoShape 24"/>
                  <p:cNvSpPr/>
                  <p:nvPr/>
                </p:nvSpPr>
                <p:spPr>
                  <a:xfrm rot="1582800">
                    <a:off x="7827840" y="925560"/>
                    <a:ext cx="890640" cy="155520"/>
                  </a:xfrm>
                  <a:custGeom>
                    <a:avLst/>
                    <a:gdLst>
                      <a:gd name="textAreaLeft" fmla="*/ 0 w 890640"/>
                      <a:gd name="textAreaRight" fmla="*/ 891000 w 890640"/>
                      <a:gd name="textAreaTop" fmla="*/ 0 h 155520"/>
                      <a:gd name="textAreaBottom" fmla="*/ 155880 h 155520"/>
                    </a:gdLst>
                    <a:ahLst/>
                    <a:rect l="textAreaLeft" t="textAreaTop" r="textAreaRight" b="textAreaBottom"/>
                    <a:pathLst>
                      <a:path w="1402" h="245">
                        <a:moveTo>
                          <a:pt x="0" y="245"/>
                        </a:moveTo>
                        <a:cubicBezTo>
                          <a:pt x="12" y="237"/>
                          <a:pt x="291" y="120"/>
                          <a:pt x="442" y="81"/>
                        </a:cubicBezTo>
                        <a:cubicBezTo>
                          <a:pt x="594" y="41"/>
                          <a:pt x="750" y="22"/>
                          <a:pt x="910" y="11"/>
                        </a:cubicBezTo>
                        <a:cubicBezTo>
                          <a:pt x="1070" y="0"/>
                          <a:pt x="1322" y="4"/>
                          <a:pt x="1402" y="11"/>
                        </a:cubicBezTo>
                        <a:lnTo>
                          <a:pt x="1394" y="49"/>
                        </a:lnTo>
                        <a:cubicBezTo>
                          <a:pt x="1311" y="56"/>
                          <a:pt x="1080" y="33"/>
                          <a:pt x="904" y="49"/>
                        </a:cubicBezTo>
                        <a:cubicBezTo>
                          <a:pt x="619" y="66"/>
                          <a:pt x="511" y="93"/>
                          <a:pt x="335" y="142"/>
                        </a:cubicBezTo>
                        <a:cubicBezTo>
                          <a:pt x="183" y="173"/>
                          <a:pt x="69" y="224"/>
                          <a:pt x="0" y="24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AutoShape 25"/>
                  <p:cNvSpPr/>
                  <p:nvPr/>
                </p:nvSpPr>
                <p:spPr>
                  <a:xfrm rot="1582800">
                    <a:off x="8621640" y="1226880"/>
                    <a:ext cx="478080" cy="24444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752" h="385">
                        <a:moveTo>
                          <a:pt x="1" y="3"/>
                        </a:moveTo>
                        <a:cubicBezTo>
                          <a:pt x="35" y="0"/>
                          <a:pt x="123" y="11"/>
                          <a:pt x="205" y="27"/>
                        </a:cubicBezTo>
                        <a:cubicBezTo>
                          <a:pt x="287" y="42"/>
                          <a:pt x="411" y="66"/>
                          <a:pt x="491" y="97"/>
                        </a:cubicBezTo>
                        <a:cubicBezTo>
                          <a:pt x="571" y="127"/>
                          <a:pt x="642" y="176"/>
                          <a:pt x="684" y="210"/>
                        </a:cubicBezTo>
                        <a:cubicBezTo>
                          <a:pt x="727" y="243"/>
                          <a:pt x="740" y="267"/>
                          <a:pt x="746" y="296"/>
                        </a:cubicBezTo>
                        <a:cubicBezTo>
                          <a:pt x="752" y="324"/>
                          <a:pt x="729" y="380"/>
                          <a:pt x="717" y="382"/>
                        </a:cubicBezTo>
                        <a:cubicBezTo>
                          <a:pt x="706" y="385"/>
                          <a:pt x="696" y="334"/>
                          <a:pt x="675" y="307"/>
                        </a:cubicBezTo>
                        <a:cubicBezTo>
                          <a:pt x="654" y="280"/>
                          <a:pt x="624" y="247"/>
                          <a:pt x="590" y="220"/>
                        </a:cubicBezTo>
                        <a:cubicBezTo>
                          <a:pt x="556" y="193"/>
                          <a:pt x="528" y="168"/>
                          <a:pt x="471" y="143"/>
                        </a:cubicBezTo>
                        <a:cubicBezTo>
                          <a:pt x="413" y="119"/>
                          <a:pt x="325" y="91"/>
                          <a:pt x="246" y="73"/>
                        </a:cubicBezTo>
                        <a:cubicBezTo>
                          <a:pt x="167" y="55"/>
                          <a:pt x="39" y="48"/>
                          <a:pt x="0" y="36"/>
                        </a:cubicBezTo>
                        <a:lnTo>
                          <a:pt x="1" y="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10014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8280" y="696960"/>
                  <a:ext cx="1302840" cy="669600"/>
                  <a:chOff x="7838280" y="696960"/>
                  <a:chExt cx="1302840" cy="669600"/>
                </a:xfrm>
              </p:grpSpPr>
              <p:sp>
                <p:nvSpPr>
                  <p:cNvPr id="25" name="AutoShape 27"/>
                  <p:cNvSpPr/>
                  <p:nvPr/>
                </p:nvSpPr>
                <p:spPr>
                  <a:xfrm rot="1080000">
                    <a:off x="7843680" y="825480"/>
                    <a:ext cx="858960" cy="171360"/>
                  </a:xfrm>
                  <a:custGeom>
                    <a:avLst/>
                    <a:gdLst>
                      <a:gd name="textAreaLeft" fmla="*/ 0 w 858960"/>
                      <a:gd name="textAreaRight" fmla="*/ 859320 w 85896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1352" h="270">
                        <a:moveTo>
                          <a:pt x="0" y="270"/>
                        </a:moveTo>
                        <a:cubicBezTo>
                          <a:pt x="10" y="261"/>
                          <a:pt x="280" y="132"/>
                          <a:pt x="426" y="89"/>
                        </a:cubicBezTo>
                        <a:cubicBezTo>
                          <a:pt x="573" y="46"/>
                          <a:pt x="723" y="24"/>
                          <a:pt x="878" y="11"/>
                        </a:cubicBezTo>
                        <a:cubicBezTo>
                          <a:pt x="1031" y="0"/>
                          <a:pt x="1275" y="4"/>
                          <a:pt x="1352" y="11"/>
                        </a:cubicBezTo>
                        <a:lnTo>
                          <a:pt x="1344" y="54"/>
                        </a:lnTo>
                        <a:cubicBezTo>
                          <a:pt x="1264" y="61"/>
                          <a:pt x="1041" y="37"/>
                          <a:pt x="872" y="54"/>
                        </a:cubicBezTo>
                        <a:cubicBezTo>
                          <a:pt x="597" y="72"/>
                          <a:pt x="493" y="102"/>
                          <a:pt x="322" y="156"/>
                        </a:cubicBezTo>
                        <a:cubicBezTo>
                          <a:pt x="176" y="190"/>
                          <a:pt x="66" y="246"/>
                          <a:pt x="0" y="27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AutoShape 28"/>
                  <p:cNvSpPr/>
                  <p:nvPr/>
                </p:nvSpPr>
                <p:spPr>
                  <a:xfrm rot="1080000">
                    <a:off x="8648640" y="1029960"/>
                    <a:ext cx="461880" cy="27144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1440"/>
                      <a:gd name="textAreaBottom" fmla="*/ 271800 h 271440"/>
                    </a:gdLst>
                    <a:ahLst/>
                    <a:rect l="textAreaLeft" t="textAreaTop" r="textAreaRight" b="textAreaBottom"/>
                    <a:pathLst>
                      <a:path w="727" h="427">
                        <a:moveTo>
                          <a:pt x="2" y="4"/>
                        </a:moveTo>
                        <a:cubicBezTo>
                          <a:pt x="34" y="0"/>
                          <a:pt x="120" y="12"/>
                          <a:pt x="199" y="30"/>
                        </a:cubicBezTo>
                        <a:cubicBezTo>
                          <a:pt x="278" y="47"/>
                          <a:pt x="398" y="73"/>
                          <a:pt x="476" y="107"/>
                        </a:cubicBezTo>
                        <a:cubicBezTo>
                          <a:pt x="553" y="141"/>
                          <a:pt x="621" y="196"/>
                          <a:pt x="662" y="233"/>
                        </a:cubicBezTo>
                        <a:cubicBezTo>
                          <a:pt x="704" y="270"/>
                          <a:pt x="717" y="297"/>
                          <a:pt x="722" y="328"/>
                        </a:cubicBezTo>
                        <a:cubicBezTo>
                          <a:pt x="727" y="361"/>
                          <a:pt x="706" y="423"/>
                          <a:pt x="695" y="425"/>
                        </a:cubicBezTo>
                        <a:cubicBezTo>
                          <a:pt x="683" y="427"/>
                          <a:pt x="674" y="371"/>
                          <a:pt x="653" y="342"/>
                        </a:cubicBezTo>
                        <a:cubicBezTo>
                          <a:pt x="633" y="311"/>
                          <a:pt x="604" y="275"/>
                          <a:pt x="571" y="245"/>
                        </a:cubicBezTo>
                        <a:cubicBezTo>
                          <a:pt x="538" y="215"/>
                          <a:pt x="511" y="187"/>
                          <a:pt x="456" y="159"/>
                        </a:cubicBezTo>
                        <a:cubicBezTo>
                          <a:pt x="400" y="132"/>
                          <a:pt x="315" y="101"/>
                          <a:pt x="239" y="81"/>
                        </a:cubicBezTo>
                        <a:cubicBezTo>
                          <a:pt x="162" y="61"/>
                          <a:pt x="39" y="53"/>
                          <a:pt x="0" y="40"/>
                        </a:cubicBezTo>
                        <a:lnTo>
                          <a:pt x="2" y="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10014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8800"/>
                  <a:ext cx="1223640" cy="417960"/>
                  <a:chOff x="7852680" y="658800"/>
                  <a:chExt cx="1223640" cy="417960"/>
                </a:xfrm>
              </p:grpSpPr>
              <p:sp>
                <p:nvSpPr>
                  <p:cNvPr id="28" name="AutoShape 30"/>
                  <p:cNvSpPr/>
                  <p:nvPr/>
                </p:nvSpPr>
                <p:spPr>
                  <a:xfrm rot="463200">
                    <a:off x="7859880" y="711360"/>
                    <a:ext cx="793440" cy="160200"/>
                  </a:xfrm>
                  <a:custGeom>
                    <a:avLst/>
                    <a:gdLst>
                      <a:gd name="textAreaLeft" fmla="*/ 0 w 793440"/>
                      <a:gd name="textAreaRight" fmla="*/ 793800 w 79344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1249" h="252">
                        <a:moveTo>
                          <a:pt x="0" y="252"/>
                        </a:moveTo>
                        <a:cubicBezTo>
                          <a:pt x="10" y="244"/>
                          <a:pt x="259" y="124"/>
                          <a:pt x="394" y="84"/>
                        </a:cubicBezTo>
                        <a:cubicBezTo>
                          <a:pt x="529" y="44"/>
                          <a:pt x="668" y="24"/>
                          <a:pt x="811" y="12"/>
                        </a:cubicBezTo>
                        <a:cubicBezTo>
                          <a:pt x="953" y="0"/>
                          <a:pt x="1177" y="5"/>
                          <a:pt x="1249" y="12"/>
                        </a:cubicBezTo>
                        <a:lnTo>
                          <a:pt x="1241" y="51"/>
                        </a:lnTo>
                        <a:cubicBezTo>
                          <a:pt x="1167" y="58"/>
                          <a:pt x="962" y="35"/>
                          <a:pt x="805" y="51"/>
                        </a:cubicBezTo>
                        <a:cubicBezTo>
                          <a:pt x="551" y="68"/>
                          <a:pt x="455" y="96"/>
                          <a:pt x="298" y="146"/>
                        </a:cubicBezTo>
                        <a:cubicBezTo>
                          <a:pt x="163" y="178"/>
                          <a:pt x="62" y="230"/>
                          <a:pt x="0" y="252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AutoShape 31"/>
                  <p:cNvSpPr/>
                  <p:nvPr/>
                </p:nvSpPr>
                <p:spPr>
                  <a:xfrm rot="463200">
                    <a:off x="8635680" y="797040"/>
                    <a:ext cx="425520" cy="252360"/>
                  </a:xfrm>
                  <a:custGeom>
                    <a:avLst/>
                    <a:gdLst>
                      <a:gd name="textAreaLeft" fmla="*/ 0 w 425520"/>
                      <a:gd name="textAreaRight" fmla="*/ 425880 w 425520"/>
                      <a:gd name="textAreaTop" fmla="*/ 0 h 252360"/>
                      <a:gd name="textAreaBottom" fmla="*/ 252720 h 252360"/>
                    </a:gdLst>
                    <a:ahLst/>
                    <a:rect l="textAreaLeft" t="textAreaTop" r="textAreaRight" b="textAreaBottom"/>
                    <a:pathLst>
                      <a:path w="670" h="397">
                        <a:moveTo>
                          <a:pt x="0" y="4"/>
                        </a:moveTo>
                        <a:cubicBezTo>
                          <a:pt x="31" y="0"/>
                          <a:pt x="110" y="12"/>
                          <a:pt x="183" y="28"/>
                        </a:cubicBezTo>
                        <a:cubicBezTo>
                          <a:pt x="256" y="44"/>
                          <a:pt x="367" y="68"/>
                          <a:pt x="437" y="100"/>
                        </a:cubicBezTo>
                        <a:cubicBezTo>
                          <a:pt x="508" y="131"/>
                          <a:pt x="571" y="183"/>
                          <a:pt x="610" y="217"/>
                        </a:cubicBezTo>
                        <a:cubicBezTo>
                          <a:pt x="648" y="251"/>
                          <a:pt x="660" y="276"/>
                          <a:pt x="665" y="305"/>
                        </a:cubicBezTo>
                        <a:cubicBezTo>
                          <a:pt x="670" y="336"/>
                          <a:pt x="649" y="393"/>
                          <a:pt x="639" y="395"/>
                        </a:cubicBezTo>
                        <a:cubicBezTo>
                          <a:pt x="628" y="397"/>
                          <a:pt x="621" y="345"/>
                          <a:pt x="602" y="317"/>
                        </a:cubicBezTo>
                        <a:cubicBezTo>
                          <a:pt x="582" y="289"/>
                          <a:pt x="556" y="256"/>
                          <a:pt x="525" y="228"/>
                        </a:cubicBezTo>
                        <a:cubicBezTo>
                          <a:pt x="496" y="200"/>
                          <a:pt x="471" y="174"/>
                          <a:pt x="420" y="148"/>
                        </a:cubicBezTo>
                        <a:cubicBezTo>
                          <a:pt x="369" y="123"/>
                          <a:pt x="289" y="94"/>
                          <a:pt x="219" y="76"/>
                        </a:cubicBezTo>
                        <a:cubicBezTo>
                          <a:pt x="150" y="57"/>
                          <a:pt x="35" y="50"/>
                          <a:pt x="0" y="38"/>
                        </a:cubicBezTo>
                        <a:lnTo>
                          <a:pt x="0" y="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10014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040" y="633600"/>
                  <a:ext cx="1107000" cy="183960"/>
                  <a:chOff x="7871040" y="633600"/>
                  <a:chExt cx="1107000" cy="183960"/>
                </a:xfrm>
              </p:grpSpPr>
              <p:sp>
                <p:nvSpPr>
                  <p:cNvPr id="31" name="AutoShape 33"/>
                  <p:cNvSpPr/>
                  <p:nvPr/>
                </p:nvSpPr>
                <p:spPr>
                  <a:xfrm rot="21515400">
                    <a:off x="7872120" y="647640"/>
                    <a:ext cx="720720" cy="112680"/>
                  </a:xfrm>
                  <a:custGeom>
                    <a:avLst/>
                    <a:gdLst>
                      <a:gd name="textAreaLeft" fmla="*/ 0 w 720720"/>
                      <a:gd name="textAreaRight" fmla="*/ 721080 w 720720"/>
                      <a:gd name="textAreaTop" fmla="*/ 0 h 112680"/>
                      <a:gd name="textAreaBottom" fmla="*/ 113040 h 112680"/>
                    </a:gdLst>
                    <a:ahLst/>
                    <a:rect l="textAreaLeft" t="textAreaTop" r="textAreaRight" b="textAreaBottom"/>
                    <a:pathLst>
                      <a:path w="1134" h="177">
                        <a:moveTo>
                          <a:pt x="0" y="177"/>
                        </a:moveTo>
                        <a:cubicBezTo>
                          <a:pt x="9" y="171"/>
                          <a:pt x="235" y="86"/>
                          <a:pt x="358" y="58"/>
                        </a:cubicBezTo>
                        <a:cubicBezTo>
                          <a:pt x="481" y="30"/>
                          <a:pt x="607" y="16"/>
                          <a:pt x="736" y="8"/>
                        </a:cubicBezTo>
                        <a:cubicBezTo>
                          <a:pt x="865" y="0"/>
                          <a:pt x="1069" y="3"/>
                          <a:pt x="1134" y="8"/>
                        </a:cubicBezTo>
                        <a:lnTo>
                          <a:pt x="1127" y="36"/>
                        </a:lnTo>
                        <a:cubicBezTo>
                          <a:pt x="1060" y="40"/>
                          <a:pt x="874" y="24"/>
                          <a:pt x="731" y="36"/>
                        </a:cubicBezTo>
                        <a:cubicBezTo>
                          <a:pt x="501" y="47"/>
                          <a:pt x="413" y="67"/>
                          <a:pt x="271" y="102"/>
                        </a:cubicBezTo>
                        <a:cubicBezTo>
                          <a:pt x="148" y="125"/>
                          <a:pt x="56" y="161"/>
                          <a:pt x="0" y="17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AutoShape 34"/>
                  <p:cNvSpPr/>
                  <p:nvPr/>
                </p:nvSpPr>
                <p:spPr>
                  <a:xfrm rot="21515400">
                    <a:off x="8589600" y="637920"/>
                    <a:ext cx="385920" cy="174600"/>
                  </a:xfrm>
                  <a:custGeom>
                    <a:avLst/>
                    <a:gdLst>
                      <a:gd name="textAreaLeft" fmla="*/ 0 w 385920"/>
                      <a:gd name="textAreaRight" fmla="*/ 386280 w 385920"/>
                      <a:gd name="textAreaTop" fmla="*/ 0 h 174600"/>
                      <a:gd name="textAreaBottom" fmla="*/ 174960 h 174600"/>
                    </a:gdLst>
                    <a:ahLst/>
                    <a:rect l="textAreaLeft" t="textAreaTop" r="textAreaRight" b="textAreaBottom"/>
                    <a:pathLst>
                      <a:path w="607" h="274">
                        <a:moveTo>
                          <a:pt x="0" y="1"/>
                        </a:moveTo>
                        <a:cubicBezTo>
                          <a:pt x="28" y="0"/>
                          <a:pt x="99" y="7"/>
                          <a:pt x="166" y="18"/>
                        </a:cubicBezTo>
                        <a:cubicBezTo>
                          <a:pt x="232" y="29"/>
                          <a:pt x="332" y="46"/>
                          <a:pt x="397" y="68"/>
                        </a:cubicBezTo>
                        <a:cubicBezTo>
                          <a:pt x="461" y="90"/>
                          <a:pt x="518" y="126"/>
                          <a:pt x="552" y="149"/>
                        </a:cubicBezTo>
                        <a:cubicBezTo>
                          <a:pt x="587" y="173"/>
                          <a:pt x="598" y="191"/>
                          <a:pt x="602" y="211"/>
                        </a:cubicBezTo>
                        <a:cubicBezTo>
                          <a:pt x="607" y="232"/>
                          <a:pt x="589" y="272"/>
                          <a:pt x="579" y="273"/>
                        </a:cubicBezTo>
                        <a:cubicBezTo>
                          <a:pt x="570" y="274"/>
                          <a:pt x="562" y="238"/>
                          <a:pt x="545" y="219"/>
                        </a:cubicBezTo>
                        <a:cubicBezTo>
                          <a:pt x="528" y="200"/>
                          <a:pt x="503" y="177"/>
                          <a:pt x="476" y="157"/>
                        </a:cubicBezTo>
                        <a:cubicBezTo>
                          <a:pt x="448" y="137"/>
                          <a:pt x="426" y="119"/>
                          <a:pt x="380" y="102"/>
                        </a:cubicBezTo>
                        <a:cubicBezTo>
                          <a:pt x="334" y="84"/>
                          <a:pt x="262" y="65"/>
                          <a:pt x="199" y="52"/>
                        </a:cubicBezTo>
                        <a:cubicBezTo>
                          <a:pt x="135" y="39"/>
                          <a:pt x="32" y="33"/>
                          <a:pt x="0" y="25"/>
                        </a:cubicBezTo>
                        <a:lnTo>
                          <a:pt x="0" y="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10014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20480"/>
                  <a:ext cx="983520" cy="327600"/>
                  <a:chOff x="7845840" y="420480"/>
                  <a:chExt cx="983520" cy="327600"/>
                </a:xfrm>
              </p:grpSpPr>
              <p:sp>
                <p:nvSpPr>
                  <p:cNvPr id="34" name="AutoShape 36"/>
                  <p:cNvSpPr/>
                  <p:nvPr/>
                </p:nvSpPr>
                <p:spPr>
                  <a:xfrm rot="20797200">
                    <a:off x="7849800" y="564840"/>
                    <a:ext cx="631800" cy="11124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1240"/>
                      <a:gd name="textAreaBottom" fmla="*/ 111600 h 111240"/>
                    </a:gdLst>
                    <a:ahLst/>
                    <a:rect l="textAreaLeft" t="textAreaTop" r="textAreaRight" b="textAreaBottom"/>
                    <a:pathLst>
                      <a:path w="995" h="174">
                        <a:moveTo>
                          <a:pt x="0" y="174"/>
                        </a:moveTo>
                        <a:cubicBezTo>
                          <a:pt x="7" y="168"/>
                          <a:pt x="205" y="85"/>
                          <a:pt x="313" y="57"/>
                        </a:cubicBezTo>
                        <a:cubicBezTo>
                          <a:pt x="421" y="30"/>
                          <a:pt x="532" y="16"/>
                          <a:pt x="646" y="8"/>
                        </a:cubicBezTo>
                        <a:cubicBezTo>
                          <a:pt x="759" y="0"/>
                          <a:pt x="938" y="3"/>
                          <a:pt x="995" y="8"/>
                        </a:cubicBezTo>
                        <a:lnTo>
                          <a:pt x="989" y="35"/>
                        </a:lnTo>
                        <a:cubicBezTo>
                          <a:pt x="930" y="39"/>
                          <a:pt x="766" y="24"/>
                          <a:pt x="641" y="35"/>
                        </a:cubicBezTo>
                        <a:cubicBezTo>
                          <a:pt x="439" y="46"/>
                          <a:pt x="362" y="66"/>
                          <a:pt x="237" y="101"/>
                        </a:cubicBezTo>
                        <a:cubicBezTo>
                          <a:pt x="129" y="123"/>
                          <a:pt x="48" y="159"/>
                          <a:pt x="0" y="17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AutoShape 37"/>
                  <p:cNvSpPr/>
                  <p:nvPr/>
                </p:nvSpPr>
                <p:spPr>
                  <a:xfrm rot="20797200">
                    <a:off x="8473680" y="457200"/>
                    <a:ext cx="339840" cy="17316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535" h="272">
                        <a:moveTo>
                          <a:pt x="0" y="2"/>
                        </a:moveTo>
                        <a:cubicBezTo>
                          <a:pt x="24" y="0"/>
                          <a:pt x="88" y="8"/>
                          <a:pt x="145" y="19"/>
                        </a:cubicBezTo>
                        <a:cubicBezTo>
                          <a:pt x="204" y="30"/>
                          <a:pt x="292" y="47"/>
                          <a:pt x="349" y="68"/>
                        </a:cubicBezTo>
                        <a:cubicBezTo>
                          <a:pt x="405" y="90"/>
                          <a:pt x="457" y="125"/>
                          <a:pt x="487" y="148"/>
                        </a:cubicBezTo>
                        <a:cubicBezTo>
                          <a:pt x="517" y="172"/>
                          <a:pt x="527" y="189"/>
                          <a:pt x="531" y="209"/>
                        </a:cubicBezTo>
                        <a:cubicBezTo>
                          <a:pt x="535" y="230"/>
                          <a:pt x="518" y="269"/>
                          <a:pt x="510" y="271"/>
                        </a:cubicBezTo>
                        <a:cubicBezTo>
                          <a:pt x="502" y="272"/>
                          <a:pt x="495" y="236"/>
                          <a:pt x="480" y="217"/>
                        </a:cubicBezTo>
                        <a:cubicBezTo>
                          <a:pt x="465" y="198"/>
                          <a:pt x="444" y="175"/>
                          <a:pt x="420" y="156"/>
                        </a:cubicBezTo>
                        <a:cubicBezTo>
                          <a:pt x="395" y="137"/>
                          <a:pt x="376" y="119"/>
                          <a:pt x="335" y="101"/>
                        </a:cubicBezTo>
                        <a:cubicBezTo>
                          <a:pt x="294" y="84"/>
                          <a:pt x="231" y="65"/>
                          <a:pt x="175" y="52"/>
                        </a:cubicBezTo>
                        <a:cubicBezTo>
                          <a:pt x="119" y="39"/>
                          <a:pt x="28" y="34"/>
                          <a:pt x="0" y="26"/>
                        </a:cubicBezTo>
                        <a:lnTo>
                          <a:pt x="0" y="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10014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40840" y="906120"/>
                  <a:ext cx="1061280" cy="1142280"/>
                  <a:chOff x="6540840" y="906120"/>
                  <a:chExt cx="1061280" cy="1142280"/>
                </a:xfrm>
              </p:grpSpPr>
              <p:sp>
                <p:nvSpPr>
                  <p:cNvPr id="37" name="AutoShape 39"/>
                  <p:cNvSpPr/>
                  <p:nvPr/>
                </p:nvSpPr>
                <p:spPr>
                  <a:xfrm flipH="1" rot="18888600">
                    <a:off x="6790320" y="1196640"/>
                    <a:ext cx="885960" cy="158760"/>
                  </a:xfrm>
                  <a:custGeom>
                    <a:avLst/>
                    <a:gdLst>
                      <a:gd name="textAreaLeft" fmla="*/ -360 w 885960"/>
                      <a:gd name="textAreaRight" fmla="*/ 885960 w 885960"/>
                      <a:gd name="textAreaTop" fmla="*/ 0 h 158760"/>
                      <a:gd name="textAreaBottom" fmla="*/ 159120 h 158760"/>
                    </a:gdLst>
                    <a:ahLst/>
                    <a:rect l="textAreaLeft" t="textAreaTop" r="textAreaRight" b="textAreaBottom"/>
                    <a:pathLst>
                      <a:path w="1395" h="250">
                        <a:moveTo>
                          <a:pt x="0" y="250"/>
                        </a:moveTo>
                        <a:cubicBezTo>
                          <a:pt x="12" y="242"/>
                          <a:pt x="289" y="123"/>
                          <a:pt x="440" y="83"/>
                        </a:cubicBezTo>
                        <a:cubicBezTo>
                          <a:pt x="590" y="43"/>
                          <a:pt x="746" y="23"/>
                          <a:pt x="905" y="11"/>
                        </a:cubicBezTo>
                        <a:cubicBezTo>
                          <a:pt x="1064" y="0"/>
                          <a:pt x="1314" y="4"/>
                          <a:pt x="1395" y="11"/>
                        </a:cubicBezTo>
                        <a:lnTo>
                          <a:pt x="1386" y="50"/>
                        </a:lnTo>
                        <a:cubicBezTo>
                          <a:pt x="1303" y="57"/>
                          <a:pt x="1074" y="34"/>
                          <a:pt x="899" y="50"/>
                        </a:cubicBezTo>
                        <a:cubicBezTo>
                          <a:pt x="615" y="67"/>
                          <a:pt x="508" y="95"/>
                          <a:pt x="333" y="144"/>
                        </a:cubicBezTo>
                        <a:cubicBezTo>
                          <a:pt x="182" y="176"/>
                          <a:pt x="69" y="228"/>
                          <a:pt x="0" y="25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AutoShape 40"/>
                  <p:cNvSpPr/>
                  <p:nvPr/>
                </p:nvSpPr>
                <p:spPr>
                  <a:xfrm flipH="1" rot="18888600">
                    <a:off x="6559200" y="1665360"/>
                    <a:ext cx="476280" cy="250920"/>
                  </a:xfrm>
                  <a:custGeom>
                    <a:avLst/>
                    <a:gdLst>
                      <a:gd name="textAreaLeft" fmla="*/ -360 w 476280"/>
                      <a:gd name="textAreaRight" fmla="*/ 476280 w 47628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747" h="395">
                        <a:moveTo>
                          <a:pt x="2" y="3"/>
                        </a:moveTo>
                        <a:cubicBezTo>
                          <a:pt x="35" y="0"/>
                          <a:pt x="123" y="11"/>
                          <a:pt x="204" y="27"/>
                        </a:cubicBezTo>
                        <a:cubicBezTo>
                          <a:pt x="286" y="43"/>
                          <a:pt x="409" y="67"/>
                          <a:pt x="489" y="99"/>
                        </a:cubicBezTo>
                        <a:cubicBezTo>
                          <a:pt x="568" y="130"/>
                          <a:pt x="638" y="181"/>
                          <a:pt x="680" y="215"/>
                        </a:cubicBezTo>
                        <a:cubicBezTo>
                          <a:pt x="723" y="249"/>
                          <a:pt x="736" y="274"/>
                          <a:pt x="742" y="303"/>
                        </a:cubicBezTo>
                        <a:cubicBezTo>
                          <a:pt x="747" y="333"/>
                          <a:pt x="725" y="391"/>
                          <a:pt x="713" y="393"/>
                        </a:cubicBezTo>
                        <a:cubicBezTo>
                          <a:pt x="702" y="395"/>
                          <a:pt x="692" y="343"/>
                          <a:pt x="671" y="315"/>
                        </a:cubicBezTo>
                        <a:cubicBezTo>
                          <a:pt x="650" y="287"/>
                          <a:pt x="620" y="254"/>
                          <a:pt x="587" y="226"/>
                        </a:cubicBezTo>
                        <a:cubicBezTo>
                          <a:pt x="553" y="198"/>
                          <a:pt x="525" y="172"/>
                          <a:pt x="468" y="147"/>
                        </a:cubicBezTo>
                        <a:cubicBezTo>
                          <a:pt x="411" y="122"/>
                          <a:pt x="323" y="93"/>
                          <a:pt x="245" y="75"/>
                        </a:cubicBezTo>
                        <a:cubicBezTo>
                          <a:pt x="167" y="56"/>
                          <a:pt x="40" y="49"/>
                          <a:pt x="0" y="37"/>
                        </a:cubicBezTo>
                        <a:lnTo>
                          <a:pt x="2" y="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10014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600" y="861480"/>
                  <a:ext cx="1267200" cy="1052280"/>
                  <a:chOff x="6303600" y="861480"/>
                  <a:chExt cx="1267200" cy="1052280"/>
                </a:xfrm>
              </p:grpSpPr>
              <p:sp>
                <p:nvSpPr>
                  <p:cNvPr id="40" name="AutoShape 42"/>
                  <p:cNvSpPr/>
                  <p:nvPr/>
                </p:nvSpPr>
                <p:spPr>
                  <a:xfrm flipH="1" rot="19496400">
                    <a:off x="6671880" y="1112760"/>
                    <a:ext cx="932040" cy="178200"/>
                  </a:xfrm>
                  <a:custGeom>
                    <a:avLst/>
                    <a:gdLst>
                      <a:gd name="textAreaLeft" fmla="*/ -360 w 932040"/>
                      <a:gd name="textAreaRight" fmla="*/ 932040 w 932040"/>
                      <a:gd name="textAreaTop" fmla="*/ 0 h 178200"/>
                      <a:gd name="textAreaBottom" fmla="*/ 178560 h 178200"/>
                    </a:gdLst>
                    <a:ahLst/>
                    <a:rect l="textAreaLeft" t="textAreaTop" r="textAreaRight" b="textAreaBottom"/>
                    <a:pathLst>
                      <a:path w="1467" h="280">
                        <a:moveTo>
                          <a:pt x="0" y="280"/>
                        </a:moveTo>
                        <a:cubicBezTo>
                          <a:pt x="12" y="271"/>
                          <a:pt x="304" y="137"/>
                          <a:pt x="463" y="93"/>
                        </a:cubicBezTo>
                        <a:cubicBezTo>
                          <a:pt x="621" y="48"/>
                          <a:pt x="784" y="26"/>
                          <a:pt x="951" y="13"/>
                        </a:cubicBezTo>
                        <a:cubicBezTo>
                          <a:pt x="1120" y="0"/>
                          <a:pt x="1383" y="6"/>
                          <a:pt x="1467" y="13"/>
                        </a:cubicBezTo>
                        <a:lnTo>
                          <a:pt x="1458" y="56"/>
                        </a:lnTo>
                        <a:cubicBezTo>
                          <a:pt x="1371" y="63"/>
                          <a:pt x="1130" y="39"/>
                          <a:pt x="945" y="56"/>
                        </a:cubicBezTo>
                        <a:cubicBezTo>
                          <a:pt x="647" y="75"/>
                          <a:pt x="534" y="106"/>
                          <a:pt x="350" y="162"/>
                        </a:cubicBezTo>
                        <a:cubicBezTo>
                          <a:pt x="191" y="198"/>
                          <a:pt x="72" y="255"/>
                          <a:pt x="0" y="28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AutoShape 43"/>
                  <p:cNvSpPr/>
                  <p:nvPr/>
                </p:nvSpPr>
                <p:spPr>
                  <a:xfrm flipH="1" rot="19496400">
                    <a:off x="6338160" y="1515960"/>
                    <a:ext cx="500040" cy="27936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787" h="440">
                        <a:moveTo>
                          <a:pt x="2" y="4"/>
                        </a:moveTo>
                        <a:cubicBezTo>
                          <a:pt x="37" y="0"/>
                          <a:pt x="130" y="13"/>
                          <a:pt x="215" y="30"/>
                        </a:cubicBezTo>
                        <a:cubicBezTo>
                          <a:pt x="301" y="47"/>
                          <a:pt x="431" y="75"/>
                          <a:pt x="514" y="111"/>
                        </a:cubicBezTo>
                        <a:cubicBezTo>
                          <a:pt x="598" y="146"/>
                          <a:pt x="672" y="202"/>
                          <a:pt x="717" y="240"/>
                        </a:cubicBezTo>
                        <a:cubicBezTo>
                          <a:pt x="761" y="277"/>
                          <a:pt x="775" y="306"/>
                          <a:pt x="781" y="337"/>
                        </a:cubicBezTo>
                        <a:cubicBezTo>
                          <a:pt x="787" y="371"/>
                          <a:pt x="764" y="435"/>
                          <a:pt x="751" y="438"/>
                        </a:cubicBezTo>
                        <a:cubicBezTo>
                          <a:pt x="739" y="440"/>
                          <a:pt x="729" y="382"/>
                          <a:pt x="707" y="351"/>
                        </a:cubicBezTo>
                        <a:cubicBezTo>
                          <a:pt x="684" y="321"/>
                          <a:pt x="653" y="283"/>
                          <a:pt x="618" y="252"/>
                        </a:cubicBezTo>
                        <a:cubicBezTo>
                          <a:pt x="582" y="221"/>
                          <a:pt x="553" y="192"/>
                          <a:pt x="493" y="164"/>
                        </a:cubicBezTo>
                        <a:cubicBezTo>
                          <a:pt x="433" y="135"/>
                          <a:pt x="340" y="105"/>
                          <a:pt x="258" y="83"/>
                        </a:cubicBezTo>
                        <a:cubicBezTo>
                          <a:pt x="176" y="64"/>
                          <a:pt x="42" y="54"/>
                          <a:pt x="0" y="42"/>
                        </a:cubicBezTo>
                        <a:lnTo>
                          <a:pt x="2" y="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10014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240" y="828000"/>
                  <a:ext cx="1289520" cy="829440"/>
                  <a:chOff x="6285240" y="828000"/>
                  <a:chExt cx="1289520" cy="829440"/>
                </a:xfrm>
              </p:grpSpPr>
              <p:sp>
                <p:nvSpPr>
                  <p:cNvPr id="43" name="AutoShape 45"/>
                  <p:cNvSpPr/>
                  <p:nvPr/>
                </p:nvSpPr>
                <p:spPr>
                  <a:xfrm flipH="1" rot="20017200">
                    <a:off x="6696000" y="1017720"/>
                    <a:ext cx="890640" cy="15552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520"/>
                      <a:gd name="textAreaBottom" fmla="*/ 155880 h 155520"/>
                    </a:gdLst>
                    <a:ahLst/>
                    <a:rect l="textAreaLeft" t="textAreaTop" r="textAreaRight" b="textAreaBottom"/>
                    <a:pathLst>
                      <a:path w="1402" h="245">
                        <a:moveTo>
                          <a:pt x="0" y="245"/>
                        </a:moveTo>
                        <a:cubicBezTo>
                          <a:pt x="12" y="237"/>
                          <a:pt x="291" y="120"/>
                          <a:pt x="442" y="81"/>
                        </a:cubicBezTo>
                        <a:cubicBezTo>
                          <a:pt x="594" y="41"/>
                          <a:pt x="750" y="22"/>
                          <a:pt x="910" y="11"/>
                        </a:cubicBezTo>
                        <a:cubicBezTo>
                          <a:pt x="1070" y="0"/>
                          <a:pt x="1322" y="4"/>
                          <a:pt x="1402" y="11"/>
                        </a:cubicBezTo>
                        <a:lnTo>
                          <a:pt x="1394" y="49"/>
                        </a:lnTo>
                        <a:cubicBezTo>
                          <a:pt x="1311" y="56"/>
                          <a:pt x="1080" y="33"/>
                          <a:pt x="904" y="49"/>
                        </a:cubicBezTo>
                        <a:cubicBezTo>
                          <a:pt x="619" y="66"/>
                          <a:pt x="511" y="93"/>
                          <a:pt x="335" y="142"/>
                        </a:cubicBezTo>
                        <a:cubicBezTo>
                          <a:pt x="183" y="173"/>
                          <a:pt x="69" y="224"/>
                          <a:pt x="0" y="24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AutoShape 46"/>
                  <p:cNvSpPr/>
                  <p:nvPr/>
                </p:nvSpPr>
                <p:spPr>
                  <a:xfrm flipH="1" rot="20017200">
                    <a:off x="6314040" y="1318680"/>
                    <a:ext cx="479520" cy="244800"/>
                  </a:xfrm>
                  <a:custGeom>
                    <a:avLst/>
                    <a:gdLst>
                      <a:gd name="textAreaLeft" fmla="*/ 360 w 479520"/>
                      <a:gd name="textAreaRight" fmla="*/ 480240 w 479520"/>
                      <a:gd name="textAreaTop" fmla="*/ 0 h 244800"/>
                      <a:gd name="textAreaBottom" fmla="*/ 245160 h 244800"/>
                    </a:gdLst>
                    <a:ahLst/>
                    <a:rect l="textAreaLeft" t="textAreaTop" r="textAreaRight" b="textAreaBottom"/>
                    <a:pathLst>
                      <a:path w="755" h="384">
                        <a:moveTo>
                          <a:pt x="2" y="3"/>
                        </a:moveTo>
                        <a:cubicBezTo>
                          <a:pt x="36" y="0"/>
                          <a:pt x="124" y="11"/>
                          <a:pt x="206" y="27"/>
                        </a:cubicBezTo>
                        <a:cubicBezTo>
                          <a:pt x="288" y="42"/>
                          <a:pt x="413" y="66"/>
                          <a:pt x="493" y="97"/>
                        </a:cubicBezTo>
                        <a:cubicBezTo>
                          <a:pt x="573" y="127"/>
                          <a:pt x="644" y="176"/>
                          <a:pt x="686" y="210"/>
                        </a:cubicBezTo>
                        <a:cubicBezTo>
                          <a:pt x="729" y="243"/>
                          <a:pt x="742" y="267"/>
                          <a:pt x="748" y="296"/>
                        </a:cubicBezTo>
                        <a:cubicBezTo>
                          <a:pt x="755" y="324"/>
                          <a:pt x="731" y="380"/>
                          <a:pt x="719" y="382"/>
                        </a:cubicBezTo>
                        <a:cubicBezTo>
                          <a:pt x="708" y="384"/>
                          <a:pt x="698" y="334"/>
                          <a:pt x="677" y="307"/>
                        </a:cubicBezTo>
                        <a:cubicBezTo>
                          <a:pt x="656" y="280"/>
                          <a:pt x="626" y="247"/>
                          <a:pt x="592" y="220"/>
                        </a:cubicBezTo>
                        <a:cubicBezTo>
                          <a:pt x="558" y="193"/>
                          <a:pt x="530" y="168"/>
                          <a:pt x="473" y="143"/>
                        </a:cubicBezTo>
                        <a:cubicBezTo>
                          <a:pt x="415" y="119"/>
                          <a:pt x="326" y="91"/>
                          <a:pt x="247" y="73"/>
                        </a:cubicBezTo>
                        <a:cubicBezTo>
                          <a:pt x="168" y="55"/>
                          <a:pt x="40" y="48"/>
                          <a:pt x="0" y="36"/>
                        </a:cubicBezTo>
                        <a:lnTo>
                          <a:pt x="2" y="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0014f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6960"/>
                  <a:ext cx="1304280" cy="669600"/>
                  <a:chOff x="6273360" y="786960"/>
                  <a:chExt cx="1304280" cy="669600"/>
                </a:xfrm>
              </p:grpSpPr>
              <p:sp>
                <p:nvSpPr>
                  <p:cNvPr id="46" name="AutoShape 48"/>
                  <p:cNvSpPr/>
                  <p:nvPr/>
                </p:nvSpPr>
                <p:spPr>
                  <a:xfrm flipH="1" rot="20520000">
                    <a:off x="6711480" y="91548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1355" h="269">
                        <a:moveTo>
                          <a:pt x="0" y="270"/>
                        </a:moveTo>
                        <a:cubicBezTo>
                          <a:pt x="11" y="261"/>
                          <a:pt x="281" y="132"/>
                          <a:pt x="427" y="90"/>
                        </a:cubicBezTo>
                        <a:cubicBezTo>
                          <a:pt x="574" y="47"/>
                          <a:pt x="724" y="25"/>
                          <a:pt x="879" y="11"/>
                        </a:cubicBezTo>
                        <a:cubicBezTo>
                          <a:pt x="1033" y="0"/>
                          <a:pt x="1277" y="4"/>
                          <a:pt x="1355" y="11"/>
                        </a:cubicBezTo>
                        <a:lnTo>
                          <a:pt x="1346" y="55"/>
                        </a:lnTo>
                        <a:cubicBezTo>
                          <a:pt x="1266" y="62"/>
                          <a:pt x="1043" y="37"/>
                          <a:pt x="873" y="55"/>
                        </a:cubicBezTo>
                        <a:cubicBezTo>
                          <a:pt x="598" y="71"/>
                          <a:pt x="494" y="102"/>
                          <a:pt x="323" y="156"/>
                        </a:cubicBezTo>
                        <a:cubicBezTo>
                          <a:pt x="177" y="191"/>
                          <a:pt x="67" y="246"/>
                          <a:pt x="0" y="27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AutoShape 49"/>
                  <p:cNvSpPr/>
                  <p:nvPr/>
                </p:nvSpPr>
                <p:spPr>
                  <a:xfrm flipH="1" rot="20520000">
                    <a:off x="6303960" y="112212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27" h="424">
                        <a:moveTo>
                          <a:pt x="2" y="4"/>
                        </a:moveTo>
                        <a:cubicBezTo>
                          <a:pt x="34" y="0"/>
                          <a:pt x="120" y="12"/>
                          <a:pt x="199" y="30"/>
                        </a:cubicBezTo>
                        <a:cubicBezTo>
                          <a:pt x="278" y="47"/>
                          <a:pt x="398" y="73"/>
                          <a:pt x="476" y="107"/>
                        </a:cubicBezTo>
                        <a:cubicBezTo>
                          <a:pt x="553" y="141"/>
                          <a:pt x="621" y="195"/>
                          <a:pt x="662" y="231"/>
                        </a:cubicBezTo>
                        <a:cubicBezTo>
                          <a:pt x="704" y="268"/>
                          <a:pt x="717" y="295"/>
                          <a:pt x="722" y="326"/>
                        </a:cubicBezTo>
                        <a:cubicBezTo>
                          <a:pt x="727" y="358"/>
                          <a:pt x="706" y="420"/>
                          <a:pt x="695" y="422"/>
                        </a:cubicBezTo>
                        <a:cubicBezTo>
                          <a:pt x="683" y="424"/>
                          <a:pt x="674" y="368"/>
                          <a:pt x="653" y="339"/>
                        </a:cubicBezTo>
                        <a:cubicBezTo>
                          <a:pt x="633" y="309"/>
                          <a:pt x="604" y="273"/>
                          <a:pt x="571" y="243"/>
                        </a:cubicBezTo>
                        <a:cubicBezTo>
                          <a:pt x="538" y="213"/>
                          <a:pt x="511" y="185"/>
                          <a:pt x="456" y="158"/>
                        </a:cubicBezTo>
                        <a:cubicBezTo>
                          <a:pt x="400" y="132"/>
                          <a:pt x="315" y="101"/>
                          <a:pt x="239" y="81"/>
                        </a:cubicBezTo>
                        <a:cubicBezTo>
                          <a:pt x="162" y="61"/>
                          <a:pt x="39" y="53"/>
                          <a:pt x="0" y="40"/>
                        </a:cubicBezTo>
                        <a:lnTo>
                          <a:pt x="2" y="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0014f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160"/>
                  <a:ext cx="1223280" cy="416520"/>
                  <a:chOff x="6338520" y="749160"/>
                  <a:chExt cx="1223280" cy="416520"/>
                </a:xfrm>
              </p:grpSpPr>
              <p:sp>
                <p:nvSpPr>
                  <p:cNvPr id="49" name="AutoShape 51"/>
                  <p:cNvSpPr/>
                  <p:nvPr/>
                </p:nvSpPr>
                <p:spPr>
                  <a:xfrm flipH="1" rot="21136800">
                    <a:off x="6761880" y="801720"/>
                    <a:ext cx="792360" cy="16020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1247" h="252">
                        <a:moveTo>
                          <a:pt x="0" y="252"/>
                        </a:moveTo>
                        <a:cubicBezTo>
                          <a:pt x="9" y="244"/>
                          <a:pt x="258" y="123"/>
                          <a:pt x="393" y="83"/>
                        </a:cubicBezTo>
                        <a:cubicBezTo>
                          <a:pt x="528" y="43"/>
                          <a:pt x="666" y="23"/>
                          <a:pt x="809" y="11"/>
                        </a:cubicBezTo>
                        <a:cubicBezTo>
                          <a:pt x="951" y="0"/>
                          <a:pt x="1175" y="5"/>
                          <a:pt x="1247" y="11"/>
                        </a:cubicBezTo>
                        <a:lnTo>
                          <a:pt x="1239" y="51"/>
                        </a:lnTo>
                        <a:cubicBezTo>
                          <a:pt x="1165" y="57"/>
                          <a:pt x="960" y="35"/>
                          <a:pt x="803" y="51"/>
                        </a:cubicBezTo>
                        <a:cubicBezTo>
                          <a:pt x="550" y="67"/>
                          <a:pt x="454" y="95"/>
                          <a:pt x="297" y="145"/>
                        </a:cubicBezTo>
                        <a:cubicBezTo>
                          <a:pt x="162" y="178"/>
                          <a:pt x="61" y="230"/>
                          <a:pt x="0" y="252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AutoShape 52"/>
                  <p:cNvSpPr/>
                  <p:nvPr/>
                </p:nvSpPr>
                <p:spPr>
                  <a:xfrm flipH="1" rot="21136800">
                    <a:off x="6353280" y="888480"/>
                    <a:ext cx="426960" cy="249480"/>
                  </a:xfrm>
                  <a:custGeom>
                    <a:avLst/>
                    <a:gdLst>
                      <a:gd name="textAreaLeft" fmla="*/ 360 w 426960"/>
                      <a:gd name="textAreaRight" fmla="*/ 427680 w 426960"/>
                      <a:gd name="textAreaTop" fmla="*/ 0 h 249480"/>
                      <a:gd name="textAreaBottom" fmla="*/ 249840 h 249480"/>
                    </a:gdLst>
                    <a:ahLst/>
                    <a:rect l="textAreaLeft" t="textAreaTop" r="textAreaRight" b="textAreaBottom"/>
                    <a:pathLst>
                      <a:path w="672" h="392">
                        <a:moveTo>
                          <a:pt x="1" y="2"/>
                        </a:moveTo>
                        <a:cubicBezTo>
                          <a:pt x="32" y="0"/>
                          <a:pt x="111" y="10"/>
                          <a:pt x="183" y="26"/>
                        </a:cubicBezTo>
                        <a:cubicBezTo>
                          <a:pt x="256" y="42"/>
                          <a:pt x="368" y="67"/>
                          <a:pt x="439" y="98"/>
                        </a:cubicBezTo>
                        <a:cubicBezTo>
                          <a:pt x="510" y="130"/>
                          <a:pt x="574" y="180"/>
                          <a:pt x="612" y="214"/>
                        </a:cubicBezTo>
                        <a:cubicBezTo>
                          <a:pt x="650" y="248"/>
                          <a:pt x="662" y="272"/>
                          <a:pt x="667" y="301"/>
                        </a:cubicBezTo>
                        <a:cubicBezTo>
                          <a:pt x="672" y="331"/>
                          <a:pt x="652" y="388"/>
                          <a:pt x="642" y="390"/>
                        </a:cubicBezTo>
                        <a:cubicBezTo>
                          <a:pt x="631" y="392"/>
                          <a:pt x="623" y="340"/>
                          <a:pt x="604" y="313"/>
                        </a:cubicBezTo>
                        <a:cubicBezTo>
                          <a:pt x="585" y="285"/>
                          <a:pt x="558" y="253"/>
                          <a:pt x="527" y="225"/>
                        </a:cubicBezTo>
                        <a:cubicBezTo>
                          <a:pt x="497" y="197"/>
                          <a:pt x="472" y="171"/>
                          <a:pt x="421" y="146"/>
                        </a:cubicBezTo>
                        <a:cubicBezTo>
                          <a:pt x="370" y="121"/>
                          <a:pt x="291" y="93"/>
                          <a:pt x="220" y="74"/>
                        </a:cubicBezTo>
                        <a:cubicBezTo>
                          <a:pt x="150" y="56"/>
                          <a:pt x="36" y="48"/>
                          <a:pt x="0" y="36"/>
                        </a:cubicBezTo>
                        <a:lnTo>
                          <a:pt x="1" y="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0014f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800" y="722520"/>
                  <a:ext cx="1106640" cy="185040"/>
                  <a:chOff x="6436800" y="722520"/>
                  <a:chExt cx="1106640" cy="185040"/>
                </a:xfrm>
              </p:grpSpPr>
              <p:sp>
                <p:nvSpPr>
                  <p:cNvPr id="52" name="AutoShape 54"/>
                  <p:cNvSpPr/>
                  <p:nvPr/>
                </p:nvSpPr>
                <p:spPr>
                  <a:xfrm flipH="1" rot="84600">
                    <a:off x="6820920" y="738360"/>
                    <a:ext cx="720720" cy="110880"/>
                  </a:xfrm>
                  <a:custGeom>
                    <a:avLst/>
                    <a:gdLst>
                      <a:gd name="textAreaLeft" fmla="*/ 360 w 720720"/>
                      <a:gd name="textAreaRight" fmla="*/ 721440 w 72072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1134" h="175">
                        <a:moveTo>
                          <a:pt x="0" y="175"/>
                        </a:moveTo>
                        <a:cubicBezTo>
                          <a:pt x="9" y="169"/>
                          <a:pt x="235" y="85"/>
                          <a:pt x="358" y="57"/>
                        </a:cubicBezTo>
                        <a:cubicBezTo>
                          <a:pt x="481" y="29"/>
                          <a:pt x="607" y="15"/>
                          <a:pt x="736" y="7"/>
                        </a:cubicBezTo>
                        <a:cubicBezTo>
                          <a:pt x="865" y="0"/>
                          <a:pt x="1069" y="2"/>
                          <a:pt x="1134" y="7"/>
                        </a:cubicBezTo>
                        <a:lnTo>
                          <a:pt x="1127" y="35"/>
                        </a:lnTo>
                        <a:cubicBezTo>
                          <a:pt x="1060" y="39"/>
                          <a:pt x="874" y="23"/>
                          <a:pt x="731" y="35"/>
                        </a:cubicBezTo>
                        <a:cubicBezTo>
                          <a:pt x="501" y="46"/>
                          <a:pt x="413" y="66"/>
                          <a:pt x="271" y="101"/>
                        </a:cubicBezTo>
                        <a:cubicBezTo>
                          <a:pt x="148" y="123"/>
                          <a:pt x="56" y="159"/>
                          <a:pt x="0" y="17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AutoShape 55"/>
                  <p:cNvSpPr/>
                  <p:nvPr/>
                </p:nvSpPr>
                <p:spPr>
                  <a:xfrm flipH="1" rot="84600">
                    <a:off x="6438600" y="726840"/>
                    <a:ext cx="387360" cy="17568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5680"/>
                      <a:gd name="textAreaBottom" fmla="*/ 176040 h 175680"/>
                    </a:gdLst>
                    <a:ahLst/>
                    <a:rect l="textAreaLeft" t="textAreaTop" r="textAreaRight" b="textAreaBottom"/>
                    <a:pathLst>
                      <a:path w="610" h="277">
                        <a:moveTo>
                          <a:pt x="1" y="2"/>
                        </a:moveTo>
                        <a:cubicBezTo>
                          <a:pt x="29" y="0"/>
                          <a:pt x="100" y="8"/>
                          <a:pt x="167" y="19"/>
                        </a:cubicBezTo>
                        <a:cubicBezTo>
                          <a:pt x="233" y="30"/>
                          <a:pt x="333" y="47"/>
                          <a:pt x="398" y="69"/>
                        </a:cubicBezTo>
                        <a:cubicBezTo>
                          <a:pt x="463" y="91"/>
                          <a:pt x="520" y="127"/>
                          <a:pt x="554" y="150"/>
                        </a:cubicBezTo>
                        <a:cubicBezTo>
                          <a:pt x="589" y="174"/>
                          <a:pt x="600" y="193"/>
                          <a:pt x="604" y="213"/>
                        </a:cubicBezTo>
                        <a:cubicBezTo>
                          <a:pt x="610" y="234"/>
                          <a:pt x="591" y="274"/>
                          <a:pt x="581" y="275"/>
                        </a:cubicBezTo>
                        <a:cubicBezTo>
                          <a:pt x="572" y="277"/>
                          <a:pt x="564" y="240"/>
                          <a:pt x="547" y="221"/>
                        </a:cubicBezTo>
                        <a:cubicBezTo>
                          <a:pt x="530" y="202"/>
                          <a:pt x="505" y="178"/>
                          <a:pt x="478" y="158"/>
                        </a:cubicBezTo>
                        <a:cubicBezTo>
                          <a:pt x="450" y="138"/>
                          <a:pt x="428" y="120"/>
                          <a:pt x="381" y="103"/>
                        </a:cubicBezTo>
                        <a:cubicBezTo>
                          <a:pt x="335" y="85"/>
                          <a:pt x="263" y="66"/>
                          <a:pt x="200" y="53"/>
                        </a:cubicBezTo>
                        <a:cubicBezTo>
                          <a:pt x="136" y="40"/>
                          <a:pt x="33" y="34"/>
                          <a:pt x="0" y="26"/>
                        </a:cubicBezTo>
                        <a:lnTo>
                          <a:pt x="1" y="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0014f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840"/>
                  <a:ext cx="984600" cy="325800"/>
                  <a:chOff x="6585480" y="510840"/>
                  <a:chExt cx="984600" cy="325800"/>
                </a:xfrm>
              </p:grpSpPr>
              <p:sp>
                <p:nvSpPr>
                  <p:cNvPr id="55" name="AutoShape 57"/>
                  <p:cNvSpPr/>
                  <p:nvPr/>
                </p:nvSpPr>
                <p:spPr>
                  <a:xfrm flipH="1" rot="802800">
                    <a:off x="6932520" y="655560"/>
                    <a:ext cx="633600" cy="10908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080"/>
                      <a:gd name="textAreaBottom" fmla="*/ 109440 h 109080"/>
                    </a:gdLst>
                    <a:ahLst/>
                    <a:rect l="textAreaLeft" t="textAreaTop" r="textAreaRight" b="textAreaBottom"/>
                    <a:pathLst>
                      <a:path w="997" h="172">
                        <a:moveTo>
                          <a:pt x="0" y="172"/>
                        </a:moveTo>
                        <a:cubicBezTo>
                          <a:pt x="8" y="166"/>
                          <a:pt x="206" y="84"/>
                          <a:pt x="314" y="56"/>
                        </a:cubicBezTo>
                        <a:cubicBezTo>
                          <a:pt x="422" y="29"/>
                          <a:pt x="533" y="15"/>
                          <a:pt x="647" y="7"/>
                        </a:cubicBezTo>
                        <a:cubicBezTo>
                          <a:pt x="761" y="0"/>
                          <a:pt x="940" y="2"/>
                          <a:pt x="997" y="7"/>
                        </a:cubicBezTo>
                        <a:lnTo>
                          <a:pt x="991" y="34"/>
                        </a:lnTo>
                        <a:cubicBezTo>
                          <a:pt x="932" y="38"/>
                          <a:pt x="768" y="23"/>
                          <a:pt x="642" y="34"/>
                        </a:cubicBezTo>
                        <a:cubicBezTo>
                          <a:pt x="440" y="45"/>
                          <a:pt x="363" y="65"/>
                          <a:pt x="238" y="99"/>
                        </a:cubicBezTo>
                        <a:cubicBezTo>
                          <a:pt x="130" y="121"/>
                          <a:pt x="49" y="157"/>
                          <a:pt x="0" y="172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AutoShape 58"/>
                  <p:cNvSpPr/>
                  <p:nvPr/>
                </p:nvSpPr>
                <p:spPr>
                  <a:xfrm flipH="1" rot="802800">
                    <a:off x="6600600" y="54756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535" h="272">
                        <a:moveTo>
                          <a:pt x="0" y="2"/>
                        </a:moveTo>
                        <a:cubicBezTo>
                          <a:pt x="24" y="0"/>
                          <a:pt x="88" y="8"/>
                          <a:pt x="145" y="19"/>
                        </a:cubicBezTo>
                        <a:cubicBezTo>
                          <a:pt x="204" y="30"/>
                          <a:pt x="292" y="47"/>
                          <a:pt x="349" y="68"/>
                        </a:cubicBezTo>
                        <a:cubicBezTo>
                          <a:pt x="405" y="90"/>
                          <a:pt x="457" y="125"/>
                          <a:pt x="487" y="148"/>
                        </a:cubicBezTo>
                        <a:cubicBezTo>
                          <a:pt x="517" y="172"/>
                          <a:pt x="527" y="189"/>
                          <a:pt x="531" y="209"/>
                        </a:cubicBezTo>
                        <a:cubicBezTo>
                          <a:pt x="535" y="230"/>
                          <a:pt x="518" y="269"/>
                          <a:pt x="510" y="271"/>
                        </a:cubicBezTo>
                        <a:cubicBezTo>
                          <a:pt x="502" y="272"/>
                          <a:pt x="495" y="236"/>
                          <a:pt x="480" y="217"/>
                        </a:cubicBezTo>
                        <a:cubicBezTo>
                          <a:pt x="465" y="198"/>
                          <a:pt x="444" y="175"/>
                          <a:pt x="420" y="156"/>
                        </a:cubicBezTo>
                        <a:cubicBezTo>
                          <a:pt x="395" y="137"/>
                          <a:pt x="376" y="119"/>
                          <a:pt x="335" y="101"/>
                        </a:cubicBezTo>
                        <a:cubicBezTo>
                          <a:pt x="294" y="84"/>
                          <a:pt x="231" y="65"/>
                          <a:pt x="175" y="52"/>
                        </a:cubicBezTo>
                        <a:cubicBezTo>
                          <a:pt x="119" y="39"/>
                          <a:pt x="28" y="34"/>
                          <a:pt x="0" y="26"/>
                        </a:cubicBezTo>
                        <a:lnTo>
                          <a:pt x="0" y="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0014f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240"/>
                  <a:ext cx="967680" cy="452520"/>
                  <a:chOff x="6637680" y="390240"/>
                  <a:chExt cx="967680" cy="452520"/>
                </a:xfrm>
              </p:grpSpPr>
              <p:sp>
                <p:nvSpPr>
                  <p:cNvPr id="58" name="AutoShape 60"/>
                  <p:cNvSpPr/>
                  <p:nvPr/>
                </p:nvSpPr>
                <p:spPr>
                  <a:xfrm flipH="1" rot="1278000">
                    <a:off x="6974640" y="620280"/>
                    <a:ext cx="631800" cy="111240"/>
                  </a:xfrm>
                  <a:custGeom>
                    <a:avLst/>
                    <a:gdLst>
                      <a:gd name="textAreaLeft" fmla="*/ -360 w 631800"/>
                      <a:gd name="textAreaRight" fmla="*/ 631800 w 631800"/>
                      <a:gd name="textAreaTop" fmla="*/ 0 h 111240"/>
                      <a:gd name="textAreaBottom" fmla="*/ 111600 h 111240"/>
                    </a:gdLst>
                    <a:ahLst/>
                    <a:rect l="textAreaLeft" t="textAreaTop" r="textAreaRight" b="textAreaBottom"/>
                    <a:pathLst>
                      <a:path w="995" h="174">
                        <a:moveTo>
                          <a:pt x="0" y="174"/>
                        </a:moveTo>
                        <a:cubicBezTo>
                          <a:pt x="7" y="168"/>
                          <a:pt x="205" y="85"/>
                          <a:pt x="314" y="58"/>
                        </a:cubicBezTo>
                        <a:cubicBezTo>
                          <a:pt x="422" y="30"/>
                          <a:pt x="532" y="16"/>
                          <a:pt x="645" y="8"/>
                        </a:cubicBezTo>
                        <a:cubicBezTo>
                          <a:pt x="759" y="0"/>
                          <a:pt x="938" y="3"/>
                          <a:pt x="995" y="8"/>
                        </a:cubicBezTo>
                        <a:lnTo>
                          <a:pt x="990" y="35"/>
                        </a:lnTo>
                        <a:cubicBezTo>
                          <a:pt x="931" y="40"/>
                          <a:pt x="766" y="24"/>
                          <a:pt x="642" y="35"/>
                        </a:cubicBezTo>
                        <a:cubicBezTo>
                          <a:pt x="440" y="47"/>
                          <a:pt x="363" y="66"/>
                          <a:pt x="237" y="101"/>
                        </a:cubicBezTo>
                        <a:cubicBezTo>
                          <a:pt x="130" y="123"/>
                          <a:pt x="49" y="159"/>
                          <a:pt x="0" y="17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AutoShape 61"/>
                  <p:cNvSpPr/>
                  <p:nvPr/>
                </p:nvSpPr>
                <p:spPr>
                  <a:xfrm flipH="1" rot="1278000">
                    <a:off x="6657480" y="446040"/>
                    <a:ext cx="339840" cy="17460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4600"/>
                      <a:gd name="textAreaBottom" fmla="*/ 174960 h 174600"/>
                    </a:gdLst>
                    <a:ahLst/>
                    <a:rect l="textAreaLeft" t="textAreaTop" r="textAreaRight" b="textAreaBottom"/>
                    <a:pathLst>
                      <a:path w="534" h="275">
                        <a:moveTo>
                          <a:pt x="1" y="2"/>
                        </a:moveTo>
                        <a:cubicBezTo>
                          <a:pt x="25" y="0"/>
                          <a:pt x="88" y="8"/>
                          <a:pt x="146" y="19"/>
                        </a:cubicBezTo>
                        <a:cubicBezTo>
                          <a:pt x="204" y="30"/>
                          <a:pt x="292" y="47"/>
                          <a:pt x="349" y="69"/>
                        </a:cubicBezTo>
                        <a:cubicBezTo>
                          <a:pt x="406" y="91"/>
                          <a:pt x="456" y="126"/>
                          <a:pt x="486" y="149"/>
                        </a:cubicBezTo>
                        <a:cubicBezTo>
                          <a:pt x="517" y="173"/>
                          <a:pt x="526" y="190"/>
                          <a:pt x="530" y="211"/>
                        </a:cubicBezTo>
                        <a:cubicBezTo>
                          <a:pt x="534" y="231"/>
                          <a:pt x="518" y="271"/>
                          <a:pt x="510" y="272"/>
                        </a:cubicBezTo>
                        <a:cubicBezTo>
                          <a:pt x="502" y="275"/>
                          <a:pt x="495" y="238"/>
                          <a:pt x="480" y="219"/>
                        </a:cubicBezTo>
                        <a:cubicBezTo>
                          <a:pt x="465" y="200"/>
                          <a:pt x="444" y="176"/>
                          <a:pt x="419" y="157"/>
                        </a:cubicBezTo>
                        <a:cubicBezTo>
                          <a:pt x="395" y="137"/>
                          <a:pt x="376" y="119"/>
                          <a:pt x="335" y="102"/>
                        </a:cubicBezTo>
                        <a:cubicBezTo>
                          <a:pt x="294" y="85"/>
                          <a:pt x="231" y="65"/>
                          <a:pt x="175" y="52"/>
                        </a:cubicBezTo>
                        <a:cubicBezTo>
                          <a:pt x="119" y="39"/>
                          <a:pt x="29" y="34"/>
                          <a:pt x="0" y="26"/>
                        </a:cubicBezTo>
                        <a:lnTo>
                          <a:pt x="1" y="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0014f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080" y="221040"/>
                  <a:ext cx="904680" cy="628560"/>
                  <a:chOff x="6751080" y="221040"/>
                  <a:chExt cx="904680" cy="628560"/>
                </a:xfrm>
              </p:grpSpPr>
              <p:sp>
                <p:nvSpPr>
                  <p:cNvPr id="61" name="AutoShape 63"/>
                  <p:cNvSpPr/>
                  <p:nvPr/>
                </p:nvSpPr>
                <p:spPr>
                  <a:xfrm flipH="1" rot="2028600">
                    <a:off x="7044840" y="572760"/>
                    <a:ext cx="633600" cy="10944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997" h="172">
                        <a:moveTo>
                          <a:pt x="0" y="172"/>
                        </a:moveTo>
                        <a:cubicBezTo>
                          <a:pt x="8" y="166"/>
                          <a:pt x="207" y="84"/>
                          <a:pt x="315" y="56"/>
                        </a:cubicBezTo>
                        <a:cubicBezTo>
                          <a:pt x="422" y="29"/>
                          <a:pt x="533" y="15"/>
                          <a:pt x="647" y="7"/>
                        </a:cubicBezTo>
                        <a:cubicBezTo>
                          <a:pt x="761" y="0"/>
                          <a:pt x="940" y="2"/>
                          <a:pt x="997" y="7"/>
                        </a:cubicBezTo>
                        <a:lnTo>
                          <a:pt x="991" y="34"/>
                        </a:lnTo>
                        <a:cubicBezTo>
                          <a:pt x="932" y="38"/>
                          <a:pt x="768" y="23"/>
                          <a:pt x="643" y="34"/>
                        </a:cubicBezTo>
                        <a:cubicBezTo>
                          <a:pt x="440" y="45"/>
                          <a:pt x="363" y="64"/>
                          <a:pt x="238" y="99"/>
                        </a:cubicBezTo>
                        <a:cubicBezTo>
                          <a:pt x="130" y="121"/>
                          <a:pt x="49" y="157"/>
                          <a:pt x="0" y="172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AutoShape 64"/>
                  <p:cNvSpPr/>
                  <p:nvPr/>
                </p:nvSpPr>
                <p:spPr>
                  <a:xfrm flipH="1" rot="2028600">
                    <a:off x="6769800" y="301320"/>
                    <a:ext cx="341640" cy="173160"/>
                  </a:xfrm>
                  <a:custGeom>
                    <a:avLst/>
                    <a:gdLst>
                      <a:gd name="textAreaLeft" fmla="*/ -360 w 341640"/>
                      <a:gd name="textAreaRight" fmla="*/ 341640 w 34164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537" h="272">
                        <a:moveTo>
                          <a:pt x="1" y="2"/>
                        </a:moveTo>
                        <a:cubicBezTo>
                          <a:pt x="25" y="0"/>
                          <a:pt x="88" y="8"/>
                          <a:pt x="146" y="19"/>
                        </a:cubicBezTo>
                        <a:cubicBezTo>
                          <a:pt x="205" y="30"/>
                          <a:pt x="294" y="47"/>
                          <a:pt x="351" y="68"/>
                        </a:cubicBezTo>
                        <a:cubicBezTo>
                          <a:pt x="408" y="90"/>
                          <a:pt x="459" y="125"/>
                          <a:pt x="490" y="148"/>
                        </a:cubicBezTo>
                        <a:cubicBezTo>
                          <a:pt x="520" y="172"/>
                          <a:pt x="529" y="189"/>
                          <a:pt x="533" y="209"/>
                        </a:cubicBezTo>
                        <a:cubicBezTo>
                          <a:pt x="537" y="229"/>
                          <a:pt x="522" y="269"/>
                          <a:pt x="513" y="270"/>
                        </a:cubicBezTo>
                        <a:cubicBezTo>
                          <a:pt x="505" y="272"/>
                          <a:pt x="498" y="236"/>
                          <a:pt x="483" y="217"/>
                        </a:cubicBezTo>
                        <a:cubicBezTo>
                          <a:pt x="468" y="198"/>
                          <a:pt x="446" y="175"/>
                          <a:pt x="421" y="156"/>
                        </a:cubicBezTo>
                        <a:cubicBezTo>
                          <a:pt x="397" y="136"/>
                          <a:pt x="377" y="119"/>
                          <a:pt x="336" y="101"/>
                        </a:cubicBezTo>
                        <a:cubicBezTo>
                          <a:pt x="296" y="84"/>
                          <a:pt x="233" y="65"/>
                          <a:pt x="176" y="52"/>
                        </a:cubicBezTo>
                        <a:cubicBezTo>
                          <a:pt x="119" y="39"/>
                          <a:pt x="29" y="34"/>
                          <a:pt x="0" y="26"/>
                        </a:cubicBezTo>
                        <a:lnTo>
                          <a:pt x="1" y="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0014f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000" y="57600"/>
                  <a:ext cx="826920" cy="762120"/>
                  <a:chOff x="6867000" y="57600"/>
                  <a:chExt cx="826920" cy="762120"/>
                </a:xfrm>
              </p:grpSpPr>
              <p:sp>
                <p:nvSpPr>
                  <p:cNvPr id="64" name="AutoShape 66"/>
                  <p:cNvSpPr/>
                  <p:nvPr/>
                </p:nvSpPr>
                <p:spPr>
                  <a:xfrm flipH="1" rot="2664600">
                    <a:off x="7105680" y="501120"/>
                    <a:ext cx="641160" cy="10980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1009" h="172">
                        <a:moveTo>
                          <a:pt x="0" y="172"/>
                        </a:moveTo>
                        <a:cubicBezTo>
                          <a:pt x="7" y="166"/>
                          <a:pt x="209" y="84"/>
                          <a:pt x="318" y="56"/>
                        </a:cubicBezTo>
                        <a:cubicBezTo>
                          <a:pt x="428" y="29"/>
                          <a:pt x="540" y="15"/>
                          <a:pt x="655" y="7"/>
                        </a:cubicBezTo>
                        <a:cubicBezTo>
                          <a:pt x="771" y="0"/>
                          <a:pt x="952" y="2"/>
                          <a:pt x="1009" y="7"/>
                        </a:cubicBezTo>
                        <a:lnTo>
                          <a:pt x="1005" y="34"/>
                        </a:lnTo>
                        <a:cubicBezTo>
                          <a:pt x="945" y="38"/>
                          <a:pt x="778" y="23"/>
                          <a:pt x="651" y="34"/>
                        </a:cubicBezTo>
                        <a:cubicBezTo>
                          <a:pt x="446" y="45"/>
                          <a:pt x="368" y="64"/>
                          <a:pt x="240" y="99"/>
                        </a:cubicBezTo>
                        <a:cubicBezTo>
                          <a:pt x="131" y="121"/>
                          <a:pt x="49" y="157"/>
                          <a:pt x="0" y="172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AutoShape 67"/>
                  <p:cNvSpPr/>
                  <p:nvPr/>
                </p:nvSpPr>
                <p:spPr>
                  <a:xfrm flipH="1" rot="2664600">
                    <a:off x="6877440" y="153720"/>
                    <a:ext cx="346320" cy="172800"/>
                  </a:xfrm>
                  <a:custGeom>
                    <a:avLst/>
                    <a:gdLst>
                      <a:gd name="textAreaLeft" fmla="*/ 360 w 346320"/>
                      <a:gd name="textAreaRight" fmla="*/ 347040 w 346320"/>
                      <a:gd name="textAreaTop" fmla="*/ 0 h 172800"/>
                      <a:gd name="textAreaBottom" fmla="*/ 173160 h 172800"/>
                    </a:gdLst>
                    <a:ahLst/>
                    <a:rect l="textAreaLeft" t="textAreaTop" r="textAreaRight" b="textAreaBottom"/>
                    <a:pathLst>
                      <a:path w="545" h="272">
                        <a:moveTo>
                          <a:pt x="1" y="2"/>
                        </a:moveTo>
                        <a:cubicBezTo>
                          <a:pt x="26" y="0"/>
                          <a:pt x="90" y="8"/>
                          <a:pt x="149" y="19"/>
                        </a:cubicBezTo>
                        <a:cubicBezTo>
                          <a:pt x="208" y="30"/>
                          <a:pt x="298" y="47"/>
                          <a:pt x="355" y="68"/>
                        </a:cubicBezTo>
                        <a:cubicBezTo>
                          <a:pt x="413" y="90"/>
                          <a:pt x="464" y="125"/>
                          <a:pt x="495" y="148"/>
                        </a:cubicBezTo>
                        <a:cubicBezTo>
                          <a:pt x="526" y="172"/>
                          <a:pt x="536" y="189"/>
                          <a:pt x="540" y="209"/>
                        </a:cubicBezTo>
                        <a:cubicBezTo>
                          <a:pt x="545" y="229"/>
                          <a:pt x="528" y="269"/>
                          <a:pt x="519" y="270"/>
                        </a:cubicBezTo>
                        <a:cubicBezTo>
                          <a:pt x="510" y="272"/>
                          <a:pt x="504" y="236"/>
                          <a:pt x="488" y="217"/>
                        </a:cubicBezTo>
                        <a:cubicBezTo>
                          <a:pt x="473" y="198"/>
                          <a:pt x="451" y="175"/>
                          <a:pt x="427" y="156"/>
                        </a:cubicBezTo>
                        <a:cubicBezTo>
                          <a:pt x="402" y="136"/>
                          <a:pt x="382" y="119"/>
                          <a:pt x="341" y="101"/>
                        </a:cubicBezTo>
                        <a:cubicBezTo>
                          <a:pt x="299" y="84"/>
                          <a:pt x="235" y="65"/>
                          <a:pt x="178" y="52"/>
                        </a:cubicBezTo>
                        <a:cubicBezTo>
                          <a:pt x="121" y="39"/>
                          <a:pt x="29" y="34"/>
                          <a:pt x="0" y="26"/>
                        </a:cubicBezTo>
                        <a:lnTo>
                          <a:pt x="1" y="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0014f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2520" y="16560"/>
                  <a:ext cx="606240" cy="784080"/>
                  <a:chOff x="7112520" y="16560"/>
                  <a:chExt cx="606240" cy="784080"/>
                </a:xfrm>
              </p:grpSpPr>
              <p:sp>
                <p:nvSpPr>
                  <p:cNvPr id="67" name="AutoShape 69"/>
                  <p:cNvSpPr/>
                  <p:nvPr/>
                </p:nvSpPr>
                <p:spPr>
                  <a:xfrm flipH="1" rot="3474000">
                    <a:off x="7238520" y="475920"/>
                    <a:ext cx="565200" cy="111240"/>
                  </a:xfrm>
                  <a:custGeom>
                    <a:avLst/>
                    <a:gdLst>
                      <a:gd name="textAreaLeft" fmla="*/ 360 w 565200"/>
                      <a:gd name="textAreaRight" fmla="*/ 565920 w 565200"/>
                      <a:gd name="textAreaTop" fmla="*/ 0 h 111240"/>
                      <a:gd name="textAreaBottom" fmla="*/ 111600 h 111240"/>
                    </a:gdLst>
                    <a:ahLst/>
                    <a:rect l="textAreaLeft" t="textAreaTop" r="textAreaRight" b="textAreaBottom"/>
                    <a:pathLst>
                      <a:path w="890" h="175">
                        <a:moveTo>
                          <a:pt x="0" y="175"/>
                        </a:moveTo>
                        <a:cubicBezTo>
                          <a:pt x="7" y="169"/>
                          <a:pt x="184" y="85"/>
                          <a:pt x="280" y="57"/>
                        </a:cubicBezTo>
                        <a:cubicBezTo>
                          <a:pt x="377" y="30"/>
                          <a:pt x="475" y="16"/>
                          <a:pt x="577" y="8"/>
                        </a:cubicBezTo>
                        <a:cubicBezTo>
                          <a:pt x="678" y="0"/>
                          <a:pt x="838" y="3"/>
                          <a:pt x="890" y="8"/>
                        </a:cubicBezTo>
                        <a:lnTo>
                          <a:pt x="884" y="35"/>
                        </a:lnTo>
                        <a:cubicBezTo>
                          <a:pt x="831" y="39"/>
                          <a:pt x="685" y="24"/>
                          <a:pt x="573" y="35"/>
                        </a:cubicBezTo>
                        <a:cubicBezTo>
                          <a:pt x="393" y="46"/>
                          <a:pt x="324" y="66"/>
                          <a:pt x="212" y="101"/>
                        </a:cubicBezTo>
                        <a:cubicBezTo>
                          <a:pt x="116" y="123"/>
                          <a:pt x="44" y="159"/>
                          <a:pt x="0" y="17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AutoShape 70"/>
                  <p:cNvSpPr/>
                  <p:nvPr/>
                </p:nvSpPr>
                <p:spPr>
                  <a:xfrm flipH="1" rot="3474000">
                    <a:off x="7113960" y="10440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3160 h 172800"/>
                    </a:gdLst>
                    <a:ahLst/>
                    <a:rect l="textAreaLeft" t="textAreaTop" r="textAreaRight" b="textAreaBottom"/>
                    <a:pathLst>
                      <a:path w="477" h="272">
                        <a:moveTo>
                          <a:pt x="1" y="1"/>
                        </a:moveTo>
                        <a:cubicBezTo>
                          <a:pt x="22" y="0"/>
                          <a:pt x="79" y="7"/>
                          <a:pt x="131" y="18"/>
                        </a:cubicBezTo>
                        <a:cubicBezTo>
                          <a:pt x="182" y="29"/>
                          <a:pt x="261" y="46"/>
                          <a:pt x="312" y="68"/>
                        </a:cubicBezTo>
                        <a:cubicBezTo>
                          <a:pt x="363" y="89"/>
                          <a:pt x="408" y="124"/>
                          <a:pt x="435" y="148"/>
                        </a:cubicBezTo>
                        <a:cubicBezTo>
                          <a:pt x="462" y="171"/>
                          <a:pt x="470" y="188"/>
                          <a:pt x="474" y="209"/>
                        </a:cubicBezTo>
                        <a:cubicBezTo>
                          <a:pt x="477" y="229"/>
                          <a:pt x="463" y="269"/>
                          <a:pt x="456" y="270"/>
                        </a:cubicBezTo>
                        <a:cubicBezTo>
                          <a:pt x="448" y="272"/>
                          <a:pt x="442" y="236"/>
                          <a:pt x="429" y="217"/>
                        </a:cubicBezTo>
                        <a:cubicBezTo>
                          <a:pt x="415" y="198"/>
                          <a:pt x="396" y="175"/>
                          <a:pt x="375" y="155"/>
                        </a:cubicBezTo>
                        <a:cubicBezTo>
                          <a:pt x="353" y="136"/>
                          <a:pt x="336" y="118"/>
                          <a:pt x="299" y="101"/>
                        </a:cubicBezTo>
                        <a:cubicBezTo>
                          <a:pt x="263" y="83"/>
                          <a:pt x="206" y="64"/>
                          <a:pt x="156" y="51"/>
                        </a:cubicBezTo>
                        <a:cubicBezTo>
                          <a:pt x="106" y="38"/>
                          <a:pt x="25" y="33"/>
                          <a:pt x="0" y="25"/>
                        </a:cubicBezTo>
                        <a:lnTo>
                          <a:pt x="1" y="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0014f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90720" y="-18720"/>
                  <a:ext cx="461880" cy="805680"/>
                  <a:chOff x="7290720" y="-18720"/>
                  <a:chExt cx="461880" cy="805680"/>
                </a:xfrm>
              </p:grpSpPr>
              <p:sp>
                <p:nvSpPr>
                  <p:cNvPr id="70" name="AutoShape 72"/>
                  <p:cNvSpPr/>
                  <p:nvPr/>
                </p:nvSpPr>
                <p:spPr>
                  <a:xfrm flipH="1" rot="4126800">
                    <a:off x="7330320" y="457920"/>
                    <a:ext cx="544680" cy="109800"/>
                  </a:xfrm>
                  <a:custGeom>
                    <a:avLst/>
                    <a:gdLst>
                      <a:gd name="textAreaLeft" fmla="*/ -360 w 544680"/>
                      <a:gd name="textAreaRight" fmla="*/ 544680 w 5446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857" h="172">
                        <a:moveTo>
                          <a:pt x="0" y="172"/>
                        </a:moveTo>
                        <a:cubicBezTo>
                          <a:pt x="7" y="166"/>
                          <a:pt x="177" y="84"/>
                          <a:pt x="270" y="56"/>
                        </a:cubicBezTo>
                        <a:cubicBezTo>
                          <a:pt x="363" y="29"/>
                          <a:pt x="458" y="15"/>
                          <a:pt x="556" y="7"/>
                        </a:cubicBezTo>
                        <a:cubicBezTo>
                          <a:pt x="654" y="0"/>
                          <a:pt x="808" y="2"/>
                          <a:pt x="857" y="7"/>
                        </a:cubicBezTo>
                        <a:lnTo>
                          <a:pt x="852" y="34"/>
                        </a:lnTo>
                        <a:cubicBezTo>
                          <a:pt x="802" y="38"/>
                          <a:pt x="661" y="23"/>
                          <a:pt x="552" y="34"/>
                        </a:cubicBezTo>
                        <a:cubicBezTo>
                          <a:pt x="378" y="45"/>
                          <a:pt x="312" y="65"/>
                          <a:pt x="204" y="99"/>
                        </a:cubicBezTo>
                        <a:cubicBezTo>
                          <a:pt x="112" y="121"/>
                          <a:pt x="42" y="157"/>
                          <a:pt x="0" y="172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AutoShape 73"/>
                  <p:cNvSpPr/>
                  <p:nvPr/>
                </p:nvSpPr>
                <p:spPr>
                  <a:xfrm flipH="1" rot="4126800">
                    <a:off x="7278480" y="61920"/>
                    <a:ext cx="291960" cy="173880"/>
                  </a:xfrm>
                  <a:custGeom>
                    <a:avLst/>
                    <a:gdLst>
                      <a:gd name="textAreaLeft" fmla="*/ -360 w 291960"/>
                      <a:gd name="textAreaRight" fmla="*/ 291960 w 29196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459" h="272">
                        <a:moveTo>
                          <a:pt x="0" y="2"/>
                        </a:moveTo>
                        <a:cubicBezTo>
                          <a:pt x="21" y="0"/>
                          <a:pt x="75" y="8"/>
                          <a:pt x="125" y="19"/>
                        </a:cubicBezTo>
                        <a:cubicBezTo>
                          <a:pt x="175" y="30"/>
                          <a:pt x="252" y="47"/>
                          <a:pt x="301" y="68"/>
                        </a:cubicBezTo>
                        <a:cubicBezTo>
                          <a:pt x="350" y="90"/>
                          <a:pt x="392" y="125"/>
                          <a:pt x="419" y="148"/>
                        </a:cubicBezTo>
                        <a:cubicBezTo>
                          <a:pt x="444" y="172"/>
                          <a:pt x="453" y="189"/>
                          <a:pt x="455" y="209"/>
                        </a:cubicBezTo>
                        <a:cubicBezTo>
                          <a:pt x="459" y="230"/>
                          <a:pt x="445" y="269"/>
                          <a:pt x="438" y="271"/>
                        </a:cubicBezTo>
                        <a:cubicBezTo>
                          <a:pt x="431" y="272"/>
                          <a:pt x="425" y="236"/>
                          <a:pt x="412" y="217"/>
                        </a:cubicBezTo>
                        <a:cubicBezTo>
                          <a:pt x="399" y="198"/>
                          <a:pt x="381" y="175"/>
                          <a:pt x="360" y="156"/>
                        </a:cubicBezTo>
                        <a:cubicBezTo>
                          <a:pt x="339" y="137"/>
                          <a:pt x="322" y="119"/>
                          <a:pt x="288" y="101"/>
                        </a:cubicBezTo>
                        <a:cubicBezTo>
                          <a:pt x="253" y="84"/>
                          <a:pt x="199" y="65"/>
                          <a:pt x="151" y="52"/>
                        </a:cubicBezTo>
                        <a:cubicBezTo>
                          <a:pt x="102" y="39"/>
                          <a:pt x="23" y="34"/>
                          <a:pt x="0" y="26"/>
                        </a:cubicBezTo>
                        <a:lnTo>
                          <a:pt x="0" y="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0014f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640" y="272520"/>
                  <a:ext cx="964080" cy="462600"/>
                  <a:chOff x="7793640" y="272520"/>
                  <a:chExt cx="964080" cy="462600"/>
                </a:xfrm>
              </p:grpSpPr>
              <p:sp>
                <p:nvSpPr>
                  <p:cNvPr id="73" name="AutoShape 75"/>
                  <p:cNvSpPr/>
                  <p:nvPr/>
                </p:nvSpPr>
                <p:spPr>
                  <a:xfrm rot="20274000">
                    <a:off x="7791120" y="50940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994" h="175">
                        <a:moveTo>
                          <a:pt x="0" y="175"/>
                        </a:moveTo>
                        <a:cubicBezTo>
                          <a:pt x="7" y="169"/>
                          <a:pt x="205" y="85"/>
                          <a:pt x="314" y="57"/>
                        </a:cubicBezTo>
                        <a:cubicBezTo>
                          <a:pt x="421" y="30"/>
                          <a:pt x="531" y="16"/>
                          <a:pt x="645" y="8"/>
                        </a:cubicBezTo>
                        <a:cubicBezTo>
                          <a:pt x="758" y="0"/>
                          <a:pt x="937" y="3"/>
                          <a:pt x="994" y="8"/>
                        </a:cubicBezTo>
                        <a:lnTo>
                          <a:pt x="989" y="35"/>
                        </a:lnTo>
                        <a:cubicBezTo>
                          <a:pt x="930" y="40"/>
                          <a:pt x="766" y="24"/>
                          <a:pt x="641" y="35"/>
                        </a:cubicBezTo>
                        <a:cubicBezTo>
                          <a:pt x="439" y="46"/>
                          <a:pt x="363" y="66"/>
                          <a:pt x="237" y="101"/>
                        </a:cubicBezTo>
                        <a:cubicBezTo>
                          <a:pt x="130" y="123"/>
                          <a:pt x="49" y="159"/>
                          <a:pt x="0" y="17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AutoShape 76"/>
                  <p:cNvSpPr/>
                  <p:nvPr/>
                </p:nvSpPr>
                <p:spPr>
                  <a:xfrm rot="20274000">
                    <a:off x="8397360" y="329760"/>
                    <a:ext cx="339840" cy="17316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535" h="272">
                        <a:moveTo>
                          <a:pt x="1" y="1"/>
                        </a:moveTo>
                        <a:cubicBezTo>
                          <a:pt x="25" y="0"/>
                          <a:pt x="88" y="7"/>
                          <a:pt x="146" y="18"/>
                        </a:cubicBezTo>
                        <a:cubicBezTo>
                          <a:pt x="204" y="29"/>
                          <a:pt x="292" y="46"/>
                          <a:pt x="349" y="68"/>
                        </a:cubicBezTo>
                        <a:cubicBezTo>
                          <a:pt x="406" y="89"/>
                          <a:pt x="456" y="124"/>
                          <a:pt x="486" y="148"/>
                        </a:cubicBezTo>
                        <a:cubicBezTo>
                          <a:pt x="517" y="171"/>
                          <a:pt x="526" y="189"/>
                          <a:pt x="530" y="209"/>
                        </a:cubicBezTo>
                        <a:cubicBezTo>
                          <a:pt x="535" y="229"/>
                          <a:pt x="518" y="269"/>
                          <a:pt x="510" y="270"/>
                        </a:cubicBezTo>
                        <a:cubicBezTo>
                          <a:pt x="502" y="272"/>
                          <a:pt x="495" y="236"/>
                          <a:pt x="480" y="217"/>
                        </a:cubicBezTo>
                        <a:cubicBezTo>
                          <a:pt x="465" y="198"/>
                          <a:pt x="444" y="175"/>
                          <a:pt x="419" y="155"/>
                        </a:cubicBezTo>
                        <a:cubicBezTo>
                          <a:pt x="395" y="136"/>
                          <a:pt x="375" y="118"/>
                          <a:pt x="335" y="101"/>
                        </a:cubicBezTo>
                        <a:cubicBezTo>
                          <a:pt x="294" y="83"/>
                          <a:pt x="231" y="64"/>
                          <a:pt x="175" y="51"/>
                        </a:cubicBezTo>
                        <a:cubicBezTo>
                          <a:pt x="119" y="38"/>
                          <a:pt x="29" y="33"/>
                          <a:pt x="0" y="25"/>
                        </a:cubicBezTo>
                        <a:lnTo>
                          <a:pt x="1" y="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10014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120" y="135720"/>
                  <a:ext cx="916200" cy="606240"/>
                  <a:chOff x="7737120" y="135720"/>
                  <a:chExt cx="916200" cy="606240"/>
                </a:xfrm>
              </p:grpSpPr>
              <p:sp>
                <p:nvSpPr>
                  <p:cNvPr id="76" name="AutoShape 78"/>
                  <p:cNvSpPr/>
                  <p:nvPr/>
                </p:nvSpPr>
                <p:spPr>
                  <a:xfrm rot="19678800">
                    <a:off x="7718040" y="471240"/>
                    <a:ext cx="633600" cy="11088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997" h="175">
                        <a:moveTo>
                          <a:pt x="0" y="175"/>
                        </a:moveTo>
                        <a:cubicBezTo>
                          <a:pt x="8" y="168"/>
                          <a:pt x="207" y="85"/>
                          <a:pt x="314" y="58"/>
                        </a:cubicBezTo>
                        <a:cubicBezTo>
                          <a:pt x="422" y="30"/>
                          <a:pt x="533" y="16"/>
                          <a:pt x="647" y="8"/>
                        </a:cubicBezTo>
                        <a:cubicBezTo>
                          <a:pt x="761" y="0"/>
                          <a:pt x="940" y="3"/>
                          <a:pt x="997" y="8"/>
                        </a:cubicBezTo>
                        <a:lnTo>
                          <a:pt x="991" y="35"/>
                        </a:lnTo>
                        <a:cubicBezTo>
                          <a:pt x="932" y="40"/>
                          <a:pt x="768" y="24"/>
                          <a:pt x="643" y="35"/>
                        </a:cubicBezTo>
                        <a:cubicBezTo>
                          <a:pt x="440" y="47"/>
                          <a:pt x="363" y="66"/>
                          <a:pt x="238" y="100"/>
                        </a:cubicBezTo>
                        <a:cubicBezTo>
                          <a:pt x="130" y="123"/>
                          <a:pt x="49" y="159"/>
                          <a:pt x="0" y="17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AutoShape 79"/>
                  <p:cNvSpPr/>
                  <p:nvPr/>
                </p:nvSpPr>
                <p:spPr>
                  <a:xfrm rot="19678800">
                    <a:off x="8292600" y="212400"/>
                    <a:ext cx="339840" cy="1746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4600"/>
                      <a:gd name="textAreaBottom" fmla="*/ 174960 h 174600"/>
                    </a:gdLst>
                    <a:ahLst/>
                    <a:rect l="textAreaLeft" t="textAreaTop" r="textAreaRight" b="textAreaBottom"/>
                    <a:pathLst>
                      <a:path w="535" h="274">
                        <a:moveTo>
                          <a:pt x="0" y="2"/>
                        </a:moveTo>
                        <a:cubicBezTo>
                          <a:pt x="24" y="0"/>
                          <a:pt x="88" y="8"/>
                          <a:pt x="145" y="19"/>
                        </a:cubicBezTo>
                        <a:cubicBezTo>
                          <a:pt x="204" y="30"/>
                          <a:pt x="292" y="47"/>
                          <a:pt x="349" y="69"/>
                        </a:cubicBezTo>
                        <a:cubicBezTo>
                          <a:pt x="407" y="91"/>
                          <a:pt x="457" y="126"/>
                          <a:pt x="487" y="149"/>
                        </a:cubicBezTo>
                        <a:cubicBezTo>
                          <a:pt x="517" y="173"/>
                          <a:pt x="527" y="190"/>
                          <a:pt x="531" y="210"/>
                        </a:cubicBezTo>
                        <a:cubicBezTo>
                          <a:pt x="535" y="231"/>
                          <a:pt x="518" y="271"/>
                          <a:pt x="511" y="272"/>
                        </a:cubicBezTo>
                        <a:cubicBezTo>
                          <a:pt x="502" y="274"/>
                          <a:pt x="496" y="238"/>
                          <a:pt x="481" y="218"/>
                        </a:cubicBezTo>
                        <a:cubicBezTo>
                          <a:pt x="465" y="199"/>
                          <a:pt x="444" y="176"/>
                          <a:pt x="420" y="157"/>
                        </a:cubicBezTo>
                        <a:cubicBezTo>
                          <a:pt x="395" y="137"/>
                          <a:pt x="376" y="119"/>
                          <a:pt x="335" y="102"/>
                        </a:cubicBezTo>
                        <a:cubicBezTo>
                          <a:pt x="294" y="85"/>
                          <a:pt x="231" y="65"/>
                          <a:pt x="175" y="52"/>
                        </a:cubicBezTo>
                        <a:cubicBezTo>
                          <a:pt x="119" y="39"/>
                          <a:pt x="28" y="34"/>
                          <a:pt x="0" y="26"/>
                        </a:cubicBezTo>
                        <a:lnTo>
                          <a:pt x="0" y="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10014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AutoShape 80"/>
                <p:cNvSpPr/>
                <p:nvPr/>
              </p:nvSpPr>
              <p:spPr>
                <a:xfrm flipH="1" rot="4578600">
                  <a:off x="7417800" y="483480"/>
                  <a:ext cx="526680" cy="73080"/>
                </a:xfrm>
                <a:custGeom>
                  <a:avLst/>
                  <a:gdLst>
                    <a:gd name="textAreaLeft" fmla="*/ -360 w 526680"/>
                    <a:gd name="textAreaRight" fmla="*/ 526680 w 52668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829" h="117">
                      <a:moveTo>
                        <a:pt x="0" y="117"/>
                      </a:moveTo>
                      <a:cubicBezTo>
                        <a:pt x="6" y="113"/>
                        <a:pt x="171" y="57"/>
                        <a:pt x="261" y="39"/>
                      </a:cubicBezTo>
                      <a:cubicBezTo>
                        <a:pt x="352" y="20"/>
                        <a:pt x="444" y="11"/>
                        <a:pt x="539" y="5"/>
                      </a:cubicBezTo>
                      <a:cubicBezTo>
                        <a:pt x="634" y="0"/>
                        <a:pt x="782" y="2"/>
                        <a:pt x="829" y="5"/>
                      </a:cubicBezTo>
                      <a:lnTo>
                        <a:pt x="825" y="24"/>
                      </a:lnTo>
                      <a:cubicBezTo>
                        <a:pt x="776" y="27"/>
                        <a:pt x="639" y="16"/>
                        <a:pt x="534" y="24"/>
                      </a:cubicBezTo>
                      <a:cubicBezTo>
                        <a:pt x="366" y="31"/>
                        <a:pt x="303" y="44"/>
                        <a:pt x="198" y="68"/>
                      </a:cubicBezTo>
                      <a:cubicBezTo>
                        <a:pt x="107" y="82"/>
                        <a:pt x="41" y="107"/>
                        <a:pt x="0" y="11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f5fd5"/>
                    </a:gs>
                    <a:gs pos="100000">
                      <a:srgbClr val="04e8ac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79" name="AutoShape 81"/>
                <p:cNvSpPr/>
                <p:nvPr/>
              </p:nvSpPr>
              <p:spPr>
                <a:xfrm flipH="1" rot="4578600">
                  <a:off x="7432560" y="101160"/>
                  <a:ext cx="282600" cy="11700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7000"/>
                    <a:gd name="textAreaBottom" fmla="*/ 117360 h 117000"/>
                  </a:gdLst>
                  <a:ahLst/>
                  <a:rect l="textAreaLeft" t="textAreaTop" r="textAreaRight" b="textAreaBottom"/>
                  <a:pathLst>
                    <a:path w="444" h="185">
                      <a:moveTo>
                        <a:pt x="0" y="0"/>
                      </a:moveTo>
                      <a:cubicBezTo>
                        <a:pt x="21" y="0"/>
                        <a:pt x="72" y="5"/>
                        <a:pt x="122" y="13"/>
                      </a:cubicBezTo>
                      <a:cubicBezTo>
                        <a:pt x="169" y="20"/>
                        <a:pt x="242" y="32"/>
                        <a:pt x="290" y="46"/>
                      </a:cubicBezTo>
                      <a:cubicBezTo>
                        <a:pt x="338" y="61"/>
                        <a:pt x="379" y="85"/>
                        <a:pt x="404" y="101"/>
                      </a:cubicBezTo>
                      <a:cubicBezTo>
                        <a:pt x="430" y="117"/>
                        <a:pt x="437" y="128"/>
                        <a:pt x="441" y="142"/>
                      </a:cubicBezTo>
                      <a:cubicBezTo>
                        <a:pt x="444" y="156"/>
                        <a:pt x="431" y="183"/>
                        <a:pt x="424" y="184"/>
                      </a:cubicBezTo>
                      <a:cubicBezTo>
                        <a:pt x="417" y="185"/>
                        <a:pt x="411" y="161"/>
                        <a:pt x="398" y="148"/>
                      </a:cubicBezTo>
                      <a:cubicBezTo>
                        <a:pt x="386" y="135"/>
                        <a:pt x="368" y="119"/>
                        <a:pt x="349" y="106"/>
                      </a:cubicBezTo>
                      <a:cubicBezTo>
                        <a:pt x="328" y="93"/>
                        <a:pt x="312" y="81"/>
                        <a:pt x="278" y="69"/>
                      </a:cubicBezTo>
                      <a:cubicBezTo>
                        <a:pt x="245" y="57"/>
                        <a:pt x="192" y="44"/>
                        <a:pt x="145" y="35"/>
                      </a:cubicBezTo>
                      <a:cubicBezTo>
                        <a:pt x="99" y="26"/>
                        <a:pt x="23" y="23"/>
                        <a:pt x="0" y="17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0014f"/>
                    </a:gs>
                    <a:gs pos="100000">
                      <a:srgbClr val="8f5fd5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120" y="-12600"/>
                  <a:ext cx="496800" cy="793080"/>
                  <a:chOff x="7665120" y="-12600"/>
                  <a:chExt cx="496800" cy="793080"/>
                </a:xfrm>
              </p:grpSpPr>
              <p:sp>
                <p:nvSpPr>
                  <p:cNvPr id="81" name="AutoShape 83"/>
                  <p:cNvSpPr/>
                  <p:nvPr/>
                </p:nvSpPr>
                <p:spPr>
                  <a:xfrm rot="17742000">
                    <a:off x="7553160" y="466200"/>
                    <a:ext cx="546120" cy="95040"/>
                  </a:xfrm>
                  <a:custGeom>
                    <a:avLst/>
                    <a:gdLst>
                      <a:gd name="textAreaLeft" fmla="*/ 0 w 546120"/>
                      <a:gd name="textAreaRight" fmla="*/ 546480 w 546120"/>
                      <a:gd name="textAreaTop" fmla="*/ 0 h 95040"/>
                      <a:gd name="textAreaBottom" fmla="*/ 95400 h 95040"/>
                    </a:gdLst>
                    <a:ahLst/>
                    <a:rect l="textAreaLeft" t="textAreaTop" r="textAreaRight" b="textAreaBottom"/>
                    <a:pathLst>
                      <a:path w="860" h="149">
                        <a:moveTo>
                          <a:pt x="0" y="149"/>
                        </a:moveTo>
                        <a:cubicBezTo>
                          <a:pt x="7" y="145"/>
                          <a:pt x="178" y="73"/>
                          <a:pt x="271" y="49"/>
                        </a:cubicBezTo>
                        <a:cubicBezTo>
                          <a:pt x="363" y="25"/>
                          <a:pt x="460" y="14"/>
                          <a:pt x="558" y="7"/>
                        </a:cubicBezTo>
                        <a:cubicBezTo>
                          <a:pt x="656" y="0"/>
                          <a:pt x="810" y="3"/>
                          <a:pt x="860" y="7"/>
                        </a:cubicBezTo>
                        <a:lnTo>
                          <a:pt x="854" y="30"/>
                        </a:lnTo>
                        <a:cubicBezTo>
                          <a:pt x="803" y="34"/>
                          <a:pt x="662" y="20"/>
                          <a:pt x="554" y="30"/>
                        </a:cubicBezTo>
                        <a:cubicBezTo>
                          <a:pt x="379" y="40"/>
                          <a:pt x="313" y="56"/>
                          <a:pt x="205" y="87"/>
                        </a:cubicBezTo>
                        <a:cubicBezTo>
                          <a:pt x="112" y="106"/>
                          <a:pt x="42" y="136"/>
                          <a:pt x="0" y="149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AutoShape 84"/>
                  <p:cNvSpPr/>
                  <p:nvPr/>
                </p:nvSpPr>
                <p:spPr>
                  <a:xfrm rot="17742000">
                    <a:off x="7884720" y="77760"/>
                    <a:ext cx="293760" cy="147600"/>
                  </a:xfrm>
                  <a:custGeom>
                    <a:avLst/>
                    <a:gdLst>
                      <a:gd name="textAreaLeft" fmla="*/ 0 w 293760"/>
                      <a:gd name="textAreaRight" fmla="*/ 294120 w 29376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462" h="232">
                        <a:moveTo>
                          <a:pt x="1" y="1"/>
                        </a:moveTo>
                        <a:cubicBezTo>
                          <a:pt x="22" y="0"/>
                          <a:pt x="76" y="6"/>
                          <a:pt x="126" y="15"/>
                        </a:cubicBezTo>
                        <a:cubicBezTo>
                          <a:pt x="176" y="24"/>
                          <a:pt x="253" y="39"/>
                          <a:pt x="302" y="58"/>
                        </a:cubicBezTo>
                        <a:cubicBezTo>
                          <a:pt x="351" y="76"/>
                          <a:pt x="395" y="106"/>
                          <a:pt x="421" y="126"/>
                        </a:cubicBezTo>
                        <a:cubicBezTo>
                          <a:pt x="447" y="146"/>
                          <a:pt x="455" y="161"/>
                          <a:pt x="459" y="178"/>
                        </a:cubicBezTo>
                        <a:cubicBezTo>
                          <a:pt x="462" y="196"/>
                          <a:pt x="449" y="230"/>
                          <a:pt x="441" y="231"/>
                        </a:cubicBezTo>
                        <a:cubicBezTo>
                          <a:pt x="434" y="232"/>
                          <a:pt x="428" y="201"/>
                          <a:pt x="415" y="185"/>
                        </a:cubicBezTo>
                        <a:cubicBezTo>
                          <a:pt x="402" y="169"/>
                          <a:pt x="384" y="149"/>
                          <a:pt x="362" y="133"/>
                        </a:cubicBezTo>
                        <a:cubicBezTo>
                          <a:pt x="341" y="116"/>
                          <a:pt x="325" y="101"/>
                          <a:pt x="289" y="86"/>
                        </a:cubicBezTo>
                        <a:cubicBezTo>
                          <a:pt x="254" y="71"/>
                          <a:pt x="200" y="54"/>
                          <a:pt x="151" y="43"/>
                        </a:cubicBezTo>
                        <a:cubicBezTo>
                          <a:pt x="103" y="32"/>
                          <a:pt x="25" y="28"/>
                          <a:pt x="0" y="21"/>
                        </a:cubicBezTo>
                        <a:lnTo>
                          <a:pt x="1" y="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10014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3320" y="37440"/>
                  <a:ext cx="784080" cy="747360"/>
                  <a:chOff x="7663320" y="37440"/>
                  <a:chExt cx="784080" cy="747360"/>
                </a:xfrm>
              </p:grpSpPr>
              <p:sp>
                <p:nvSpPr>
                  <p:cNvPr id="84" name="AutoShape 86"/>
                  <p:cNvSpPr/>
                  <p:nvPr/>
                </p:nvSpPr>
                <p:spPr>
                  <a:xfrm rot="18822600">
                    <a:off x="7621560" y="45396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932" h="217">
                        <a:moveTo>
                          <a:pt x="0" y="217"/>
                        </a:moveTo>
                        <a:cubicBezTo>
                          <a:pt x="7" y="210"/>
                          <a:pt x="192" y="107"/>
                          <a:pt x="293" y="72"/>
                        </a:cubicBezTo>
                        <a:cubicBezTo>
                          <a:pt x="394" y="38"/>
                          <a:pt x="498" y="20"/>
                          <a:pt x="605" y="10"/>
                        </a:cubicBezTo>
                        <a:cubicBezTo>
                          <a:pt x="711" y="0"/>
                          <a:pt x="878" y="4"/>
                          <a:pt x="932" y="10"/>
                        </a:cubicBezTo>
                        <a:lnTo>
                          <a:pt x="927" y="44"/>
                        </a:lnTo>
                        <a:cubicBezTo>
                          <a:pt x="871" y="50"/>
                          <a:pt x="718" y="30"/>
                          <a:pt x="600" y="44"/>
                        </a:cubicBezTo>
                        <a:cubicBezTo>
                          <a:pt x="411" y="58"/>
                          <a:pt x="339" y="82"/>
                          <a:pt x="222" y="126"/>
                        </a:cubicBezTo>
                        <a:cubicBezTo>
                          <a:pt x="121" y="153"/>
                          <a:pt x="45" y="198"/>
                          <a:pt x="0" y="21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AutoShape 87"/>
                  <p:cNvSpPr/>
                  <p:nvPr/>
                </p:nvSpPr>
                <p:spPr>
                  <a:xfrm rot="18822600">
                    <a:off x="8100720" y="11880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500" h="340">
                        <a:moveTo>
                          <a:pt x="0" y="2"/>
                        </a:moveTo>
                        <a:cubicBezTo>
                          <a:pt x="23" y="0"/>
                          <a:pt x="82" y="9"/>
                          <a:pt x="136" y="23"/>
                        </a:cubicBezTo>
                        <a:cubicBezTo>
                          <a:pt x="190" y="36"/>
                          <a:pt x="273" y="58"/>
                          <a:pt x="326" y="85"/>
                        </a:cubicBezTo>
                        <a:cubicBezTo>
                          <a:pt x="380" y="112"/>
                          <a:pt x="427" y="156"/>
                          <a:pt x="455" y="185"/>
                        </a:cubicBezTo>
                        <a:cubicBezTo>
                          <a:pt x="483" y="214"/>
                          <a:pt x="492" y="236"/>
                          <a:pt x="496" y="261"/>
                        </a:cubicBezTo>
                        <a:cubicBezTo>
                          <a:pt x="500" y="287"/>
                          <a:pt x="485" y="336"/>
                          <a:pt x="477" y="338"/>
                        </a:cubicBezTo>
                        <a:cubicBezTo>
                          <a:pt x="469" y="340"/>
                          <a:pt x="463" y="295"/>
                          <a:pt x="449" y="271"/>
                        </a:cubicBezTo>
                        <a:cubicBezTo>
                          <a:pt x="434" y="247"/>
                          <a:pt x="415" y="218"/>
                          <a:pt x="392" y="194"/>
                        </a:cubicBezTo>
                        <a:cubicBezTo>
                          <a:pt x="369" y="170"/>
                          <a:pt x="351" y="148"/>
                          <a:pt x="313" y="126"/>
                        </a:cubicBezTo>
                        <a:cubicBezTo>
                          <a:pt x="274" y="105"/>
                          <a:pt x="215" y="80"/>
                          <a:pt x="163" y="64"/>
                        </a:cubicBezTo>
                        <a:cubicBezTo>
                          <a:pt x="111" y="48"/>
                          <a:pt x="26" y="42"/>
                          <a:pt x="0" y="31"/>
                        </a:cubicBezTo>
                        <a:lnTo>
                          <a:pt x="0" y="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10014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9040" y="-1800"/>
                  <a:ext cx="177480" cy="747000"/>
                  <a:chOff x="7709040" y="-1800"/>
                  <a:chExt cx="177480" cy="747000"/>
                </a:xfrm>
              </p:grpSpPr>
              <p:sp>
                <p:nvSpPr>
                  <p:cNvPr id="87" name="AutoShape 89"/>
                  <p:cNvSpPr/>
                  <p:nvPr/>
                </p:nvSpPr>
                <p:spPr>
                  <a:xfrm rot="16696200">
                    <a:off x="7521480" y="477720"/>
                    <a:ext cx="488880" cy="4428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769" h="70">
                        <a:moveTo>
                          <a:pt x="0" y="70"/>
                        </a:moveTo>
                        <a:cubicBezTo>
                          <a:pt x="6" y="67"/>
                          <a:pt x="158" y="34"/>
                          <a:pt x="243" y="23"/>
                        </a:cubicBezTo>
                        <a:cubicBezTo>
                          <a:pt x="325" y="12"/>
                          <a:pt x="411" y="6"/>
                          <a:pt x="498" y="3"/>
                        </a:cubicBezTo>
                        <a:cubicBezTo>
                          <a:pt x="586" y="0"/>
                          <a:pt x="725" y="1"/>
                          <a:pt x="769" y="3"/>
                        </a:cubicBezTo>
                        <a:lnTo>
                          <a:pt x="765" y="14"/>
                        </a:lnTo>
                        <a:cubicBezTo>
                          <a:pt x="719" y="15"/>
                          <a:pt x="592" y="9"/>
                          <a:pt x="495" y="14"/>
                        </a:cubicBezTo>
                        <a:cubicBezTo>
                          <a:pt x="340" y="18"/>
                          <a:pt x="280" y="26"/>
                          <a:pt x="184" y="40"/>
                        </a:cubicBezTo>
                        <a:cubicBezTo>
                          <a:pt x="100" y="48"/>
                          <a:pt x="37" y="63"/>
                          <a:pt x="0" y="7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AutoShape 90"/>
                  <p:cNvSpPr/>
                  <p:nvPr/>
                </p:nvSpPr>
                <p:spPr>
                  <a:xfrm rot="16696200">
                    <a:off x="7702560" y="9828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412" h="107">
                        <a:moveTo>
                          <a:pt x="0" y="0"/>
                        </a:moveTo>
                        <a:cubicBezTo>
                          <a:pt x="18" y="0"/>
                          <a:pt x="67" y="2"/>
                          <a:pt x="112" y="6"/>
                        </a:cubicBezTo>
                        <a:cubicBezTo>
                          <a:pt x="157" y="11"/>
                          <a:pt x="225" y="17"/>
                          <a:pt x="269" y="26"/>
                        </a:cubicBezTo>
                        <a:cubicBezTo>
                          <a:pt x="313" y="35"/>
                          <a:pt x="352" y="49"/>
                          <a:pt x="375" y="58"/>
                        </a:cubicBezTo>
                        <a:cubicBezTo>
                          <a:pt x="398" y="67"/>
                          <a:pt x="406" y="74"/>
                          <a:pt x="409" y="82"/>
                        </a:cubicBezTo>
                        <a:cubicBezTo>
                          <a:pt x="412" y="90"/>
                          <a:pt x="400" y="106"/>
                          <a:pt x="393" y="107"/>
                        </a:cubicBezTo>
                        <a:cubicBezTo>
                          <a:pt x="387" y="107"/>
                          <a:pt x="381" y="93"/>
                          <a:pt x="370" y="85"/>
                        </a:cubicBezTo>
                        <a:cubicBezTo>
                          <a:pt x="358" y="78"/>
                          <a:pt x="342" y="69"/>
                          <a:pt x="323" y="61"/>
                        </a:cubicBezTo>
                        <a:cubicBezTo>
                          <a:pt x="304" y="53"/>
                          <a:pt x="289" y="46"/>
                          <a:pt x="258" y="39"/>
                        </a:cubicBezTo>
                        <a:cubicBezTo>
                          <a:pt x="226" y="32"/>
                          <a:pt x="177" y="24"/>
                          <a:pt x="134" y="19"/>
                        </a:cubicBezTo>
                        <a:cubicBezTo>
                          <a:pt x="91" y="14"/>
                          <a:pt x="21" y="12"/>
                          <a:pt x="0" y="9"/>
                        </a:cubicBez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10014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480" y="929880"/>
                  <a:ext cx="912600" cy="1248840"/>
                  <a:chOff x="6711480" y="929880"/>
                  <a:chExt cx="912600" cy="1248840"/>
                </a:xfrm>
              </p:grpSpPr>
              <p:sp>
                <p:nvSpPr>
                  <p:cNvPr id="90" name="AutoShape 92"/>
                  <p:cNvSpPr/>
                  <p:nvPr/>
                </p:nvSpPr>
                <p:spPr>
                  <a:xfrm flipH="1" rot="18336000">
                    <a:off x="6859440" y="1255680"/>
                    <a:ext cx="884160" cy="16020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1392" h="252">
                        <a:moveTo>
                          <a:pt x="0" y="252"/>
                        </a:moveTo>
                        <a:cubicBezTo>
                          <a:pt x="12" y="244"/>
                          <a:pt x="289" y="123"/>
                          <a:pt x="439" y="83"/>
                        </a:cubicBezTo>
                        <a:cubicBezTo>
                          <a:pt x="590" y="43"/>
                          <a:pt x="745" y="23"/>
                          <a:pt x="903" y="11"/>
                        </a:cubicBezTo>
                        <a:cubicBezTo>
                          <a:pt x="1062" y="0"/>
                          <a:pt x="1312" y="5"/>
                          <a:pt x="1392" y="11"/>
                        </a:cubicBezTo>
                        <a:lnTo>
                          <a:pt x="1384" y="51"/>
                        </a:lnTo>
                        <a:cubicBezTo>
                          <a:pt x="1302" y="57"/>
                          <a:pt x="1072" y="35"/>
                          <a:pt x="897" y="51"/>
                        </a:cubicBezTo>
                        <a:cubicBezTo>
                          <a:pt x="615" y="67"/>
                          <a:pt x="507" y="95"/>
                          <a:pt x="332" y="145"/>
                        </a:cubicBezTo>
                        <a:cubicBezTo>
                          <a:pt x="182" y="178"/>
                          <a:pt x="69" y="230"/>
                          <a:pt x="0" y="252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AutoShape 93"/>
                  <p:cNvSpPr/>
                  <p:nvPr/>
                </p:nvSpPr>
                <p:spPr>
                  <a:xfrm flipH="1" rot="18336000">
                    <a:off x="6714720" y="1785600"/>
                    <a:ext cx="474840" cy="252720"/>
                  </a:xfrm>
                  <a:custGeom>
                    <a:avLst/>
                    <a:gdLst>
                      <a:gd name="textAreaLeft" fmla="*/ -360 w 474840"/>
                      <a:gd name="textAreaRight" fmla="*/ 474840 w 474840"/>
                      <a:gd name="textAreaTop" fmla="*/ 0 h 252720"/>
                      <a:gd name="textAreaBottom" fmla="*/ 253080 h 252720"/>
                    </a:gdLst>
                    <a:ahLst/>
                    <a:rect l="textAreaLeft" t="textAreaTop" r="textAreaRight" b="textAreaBottom"/>
                    <a:pathLst>
                      <a:path w="747" h="397">
                        <a:moveTo>
                          <a:pt x="2" y="4"/>
                        </a:moveTo>
                        <a:cubicBezTo>
                          <a:pt x="35" y="0"/>
                          <a:pt x="123" y="12"/>
                          <a:pt x="204" y="28"/>
                        </a:cubicBezTo>
                        <a:cubicBezTo>
                          <a:pt x="285" y="44"/>
                          <a:pt x="409" y="68"/>
                          <a:pt x="488" y="100"/>
                        </a:cubicBezTo>
                        <a:cubicBezTo>
                          <a:pt x="568" y="131"/>
                          <a:pt x="638" y="183"/>
                          <a:pt x="680" y="217"/>
                        </a:cubicBezTo>
                        <a:cubicBezTo>
                          <a:pt x="722" y="251"/>
                          <a:pt x="736" y="276"/>
                          <a:pt x="741" y="305"/>
                        </a:cubicBezTo>
                        <a:cubicBezTo>
                          <a:pt x="747" y="336"/>
                          <a:pt x="725" y="393"/>
                          <a:pt x="713" y="395"/>
                        </a:cubicBezTo>
                        <a:cubicBezTo>
                          <a:pt x="701" y="397"/>
                          <a:pt x="692" y="345"/>
                          <a:pt x="671" y="317"/>
                        </a:cubicBezTo>
                        <a:cubicBezTo>
                          <a:pt x="650" y="289"/>
                          <a:pt x="620" y="256"/>
                          <a:pt x="586" y="228"/>
                        </a:cubicBezTo>
                        <a:cubicBezTo>
                          <a:pt x="552" y="200"/>
                          <a:pt x="525" y="174"/>
                          <a:pt x="468" y="148"/>
                        </a:cubicBezTo>
                        <a:cubicBezTo>
                          <a:pt x="411" y="123"/>
                          <a:pt x="323" y="94"/>
                          <a:pt x="245" y="76"/>
                        </a:cubicBezTo>
                        <a:cubicBezTo>
                          <a:pt x="167" y="57"/>
                          <a:pt x="40" y="50"/>
                          <a:pt x="0" y="38"/>
                        </a:cubicBezTo>
                        <a:lnTo>
                          <a:pt x="2" y="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10014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6400" y="979920"/>
                  <a:ext cx="614520" cy="1248480"/>
                  <a:chOff x="7016400" y="979920"/>
                  <a:chExt cx="614520" cy="1248480"/>
                </a:xfrm>
              </p:grpSpPr>
              <p:sp>
                <p:nvSpPr>
                  <p:cNvPr id="93" name="AutoShape 95"/>
                  <p:cNvSpPr/>
                  <p:nvPr/>
                </p:nvSpPr>
                <p:spPr>
                  <a:xfrm flipH="1" rot="17543400">
                    <a:off x="6991920" y="1307880"/>
                    <a:ext cx="817560" cy="160920"/>
                  </a:xfrm>
                  <a:custGeom>
                    <a:avLst/>
                    <a:gdLst>
                      <a:gd name="textAreaLeft" fmla="*/ -360 w 817560"/>
                      <a:gd name="textAreaRight" fmla="*/ 817560 w 81756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1287" h="252">
                        <a:moveTo>
                          <a:pt x="0" y="252"/>
                        </a:moveTo>
                        <a:cubicBezTo>
                          <a:pt x="10" y="244"/>
                          <a:pt x="266" y="123"/>
                          <a:pt x="405" y="83"/>
                        </a:cubicBezTo>
                        <a:cubicBezTo>
                          <a:pt x="545" y="43"/>
                          <a:pt x="688" y="23"/>
                          <a:pt x="835" y="11"/>
                        </a:cubicBezTo>
                        <a:cubicBezTo>
                          <a:pt x="982" y="0"/>
                          <a:pt x="1213" y="5"/>
                          <a:pt x="1287" y="11"/>
                        </a:cubicBezTo>
                        <a:lnTo>
                          <a:pt x="1280" y="51"/>
                        </a:lnTo>
                        <a:cubicBezTo>
                          <a:pt x="1203" y="57"/>
                          <a:pt x="991" y="35"/>
                          <a:pt x="829" y="51"/>
                        </a:cubicBezTo>
                        <a:cubicBezTo>
                          <a:pt x="568" y="67"/>
                          <a:pt x="469" y="95"/>
                          <a:pt x="307" y="145"/>
                        </a:cubicBezTo>
                        <a:cubicBezTo>
                          <a:pt x="167" y="178"/>
                          <a:pt x="63" y="230"/>
                          <a:pt x="0" y="252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AutoShape 96"/>
                  <p:cNvSpPr/>
                  <p:nvPr/>
                </p:nvSpPr>
                <p:spPr>
                  <a:xfrm flipH="1" rot="17543400">
                    <a:off x="6995880" y="1851480"/>
                    <a:ext cx="439560" cy="251640"/>
                  </a:xfrm>
                  <a:custGeom>
                    <a:avLst/>
                    <a:gdLst>
                      <a:gd name="textAreaLeft" fmla="*/ -360 w 439560"/>
                      <a:gd name="textAreaRight" fmla="*/ 439560 w 43956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692" h="395">
                        <a:moveTo>
                          <a:pt x="1" y="3"/>
                        </a:moveTo>
                        <a:cubicBezTo>
                          <a:pt x="33" y="0"/>
                          <a:pt x="114" y="12"/>
                          <a:pt x="189" y="28"/>
                        </a:cubicBezTo>
                        <a:cubicBezTo>
                          <a:pt x="264" y="44"/>
                          <a:pt x="378" y="67"/>
                          <a:pt x="452" y="100"/>
                        </a:cubicBezTo>
                        <a:cubicBezTo>
                          <a:pt x="526" y="131"/>
                          <a:pt x="591" y="181"/>
                          <a:pt x="630" y="216"/>
                        </a:cubicBezTo>
                        <a:cubicBezTo>
                          <a:pt x="669" y="250"/>
                          <a:pt x="682" y="275"/>
                          <a:pt x="687" y="304"/>
                        </a:cubicBezTo>
                        <a:cubicBezTo>
                          <a:pt x="692" y="334"/>
                          <a:pt x="672" y="391"/>
                          <a:pt x="661" y="393"/>
                        </a:cubicBezTo>
                        <a:cubicBezTo>
                          <a:pt x="650" y="395"/>
                          <a:pt x="641" y="343"/>
                          <a:pt x="622" y="315"/>
                        </a:cubicBezTo>
                        <a:cubicBezTo>
                          <a:pt x="602" y="288"/>
                          <a:pt x="575" y="255"/>
                          <a:pt x="544" y="226"/>
                        </a:cubicBezTo>
                        <a:cubicBezTo>
                          <a:pt x="512" y="199"/>
                          <a:pt x="487" y="172"/>
                          <a:pt x="433" y="148"/>
                        </a:cubicBezTo>
                        <a:cubicBezTo>
                          <a:pt x="380" y="122"/>
                          <a:pt x="299" y="94"/>
                          <a:pt x="227" y="75"/>
                        </a:cubicBezTo>
                        <a:cubicBezTo>
                          <a:pt x="154" y="57"/>
                          <a:pt x="37" y="49"/>
                          <a:pt x="0" y="37"/>
                        </a:cubicBezTo>
                        <a:lnTo>
                          <a:pt x="1" y="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10014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3600" cy="1216800"/>
                  <a:chOff x="7312680" y="1001160"/>
                  <a:chExt cx="363600" cy="1216800"/>
                </a:xfrm>
              </p:grpSpPr>
              <p:sp>
                <p:nvSpPr>
                  <p:cNvPr id="96" name="AutoShape 98"/>
                  <p:cNvSpPr/>
                  <p:nvPr/>
                </p:nvSpPr>
                <p:spPr>
                  <a:xfrm flipH="1" rot="16870800">
                    <a:off x="7135560" y="1328040"/>
                    <a:ext cx="785880" cy="144720"/>
                  </a:xfrm>
                  <a:custGeom>
                    <a:avLst/>
                    <a:gdLst>
                      <a:gd name="textAreaLeft" fmla="*/ -360 w 785880"/>
                      <a:gd name="textAreaRight" fmla="*/ 785880 w 785880"/>
                      <a:gd name="textAreaTop" fmla="*/ 0 h 144720"/>
                      <a:gd name="textAreaBottom" fmla="*/ 145080 h 144720"/>
                    </a:gdLst>
                    <a:ahLst/>
                    <a:rect l="textAreaLeft" t="textAreaTop" r="textAreaRight" b="textAreaBottom"/>
                    <a:pathLst>
                      <a:path w="1237" h="227">
                        <a:moveTo>
                          <a:pt x="0" y="227"/>
                        </a:moveTo>
                        <a:cubicBezTo>
                          <a:pt x="10" y="220"/>
                          <a:pt x="256" y="111"/>
                          <a:pt x="390" y="75"/>
                        </a:cubicBezTo>
                        <a:cubicBezTo>
                          <a:pt x="524" y="39"/>
                          <a:pt x="661" y="21"/>
                          <a:pt x="802" y="10"/>
                        </a:cubicBezTo>
                        <a:cubicBezTo>
                          <a:pt x="944" y="0"/>
                          <a:pt x="1166" y="4"/>
                          <a:pt x="1237" y="10"/>
                        </a:cubicBezTo>
                        <a:lnTo>
                          <a:pt x="1230" y="46"/>
                        </a:lnTo>
                        <a:cubicBezTo>
                          <a:pt x="1157" y="52"/>
                          <a:pt x="953" y="31"/>
                          <a:pt x="797" y="46"/>
                        </a:cubicBezTo>
                        <a:cubicBezTo>
                          <a:pt x="546" y="61"/>
                          <a:pt x="451" y="86"/>
                          <a:pt x="295" y="131"/>
                        </a:cubicBezTo>
                        <a:cubicBezTo>
                          <a:pt x="161" y="161"/>
                          <a:pt x="61" y="208"/>
                          <a:pt x="0" y="22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AutoShape 99"/>
                  <p:cNvSpPr/>
                  <p:nvPr/>
                </p:nvSpPr>
                <p:spPr>
                  <a:xfrm flipH="1" rot="16870800">
                    <a:off x="7254000" y="1875960"/>
                    <a:ext cx="420840" cy="22680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6800"/>
                      <a:gd name="textAreaBottom" fmla="*/ 227160 h 226800"/>
                    </a:gdLst>
                    <a:ahLst/>
                    <a:rect l="textAreaLeft" t="textAreaTop" r="textAreaRight" b="textAreaBottom"/>
                    <a:pathLst>
                      <a:path w="662" h="357">
                        <a:moveTo>
                          <a:pt x="0" y="3"/>
                        </a:moveTo>
                        <a:cubicBezTo>
                          <a:pt x="30" y="0"/>
                          <a:pt x="108" y="10"/>
                          <a:pt x="180" y="25"/>
                        </a:cubicBezTo>
                        <a:cubicBezTo>
                          <a:pt x="252" y="39"/>
                          <a:pt x="362" y="61"/>
                          <a:pt x="432" y="90"/>
                        </a:cubicBezTo>
                        <a:cubicBezTo>
                          <a:pt x="503" y="118"/>
                          <a:pt x="565" y="164"/>
                          <a:pt x="603" y="194"/>
                        </a:cubicBezTo>
                        <a:cubicBezTo>
                          <a:pt x="640" y="225"/>
                          <a:pt x="652" y="248"/>
                          <a:pt x="657" y="275"/>
                        </a:cubicBezTo>
                        <a:cubicBezTo>
                          <a:pt x="662" y="302"/>
                          <a:pt x="643" y="354"/>
                          <a:pt x="632" y="355"/>
                        </a:cubicBezTo>
                        <a:cubicBezTo>
                          <a:pt x="622" y="357"/>
                          <a:pt x="613" y="310"/>
                          <a:pt x="595" y="285"/>
                        </a:cubicBezTo>
                        <a:cubicBezTo>
                          <a:pt x="576" y="261"/>
                          <a:pt x="550" y="229"/>
                          <a:pt x="520" y="204"/>
                        </a:cubicBezTo>
                        <a:cubicBezTo>
                          <a:pt x="489" y="179"/>
                          <a:pt x="465" y="156"/>
                          <a:pt x="414" y="133"/>
                        </a:cubicBezTo>
                        <a:cubicBezTo>
                          <a:pt x="364" y="110"/>
                          <a:pt x="286" y="85"/>
                          <a:pt x="216" y="68"/>
                        </a:cubicBezTo>
                        <a:cubicBezTo>
                          <a:pt x="147" y="51"/>
                          <a:pt x="35" y="45"/>
                          <a:pt x="0" y="34"/>
                        </a:cubicBezTo>
                        <a:lnTo>
                          <a:pt x="0" y="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10014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800840" y="910440"/>
                  <a:ext cx="947160" cy="1227240"/>
                  <a:chOff x="7800840" y="910440"/>
                  <a:chExt cx="947160" cy="1227240"/>
                </a:xfrm>
              </p:grpSpPr>
              <p:sp>
                <p:nvSpPr>
                  <p:cNvPr id="99" name="AutoShape 101"/>
                  <p:cNvSpPr/>
                  <p:nvPr/>
                </p:nvSpPr>
                <p:spPr>
                  <a:xfrm rot="3144000">
                    <a:off x="7693200" y="1228680"/>
                    <a:ext cx="884160" cy="1634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63440"/>
                      <a:gd name="textAreaBottom" fmla="*/ 163800 h 163440"/>
                    </a:gdLst>
                    <a:ahLst/>
                    <a:rect l="textAreaLeft" t="textAreaTop" r="textAreaRight" b="textAreaBottom"/>
                    <a:pathLst>
                      <a:path w="1394" h="252">
                        <a:moveTo>
                          <a:pt x="0" y="252"/>
                        </a:moveTo>
                        <a:cubicBezTo>
                          <a:pt x="12" y="244"/>
                          <a:pt x="289" y="124"/>
                          <a:pt x="439" y="84"/>
                        </a:cubicBezTo>
                        <a:cubicBezTo>
                          <a:pt x="590" y="44"/>
                          <a:pt x="746" y="24"/>
                          <a:pt x="905" y="12"/>
                        </a:cubicBezTo>
                        <a:cubicBezTo>
                          <a:pt x="1064" y="0"/>
                          <a:pt x="1314" y="5"/>
                          <a:pt x="1394" y="12"/>
                        </a:cubicBezTo>
                        <a:lnTo>
                          <a:pt x="1386" y="51"/>
                        </a:lnTo>
                        <a:cubicBezTo>
                          <a:pt x="1303" y="58"/>
                          <a:pt x="1074" y="35"/>
                          <a:pt x="899" y="51"/>
                        </a:cubicBezTo>
                        <a:cubicBezTo>
                          <a:pt x="615" y="68"/>
                          <a:pt x="508" y="96"/>
                          <a:pt x="333" y="146"/>
                        </a:cubicBezTo>
                        <a:cubicBezTo>
                          <a:pt x="182" y="178"/>
                          <a:pt x="69" y="230"/>
                          <a:pt x="0" y="252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AutoShape 102"/>
                  <p:cNvSpPr/>
                  <p:nvPr/>
                </p:nvSpPr>
                <p:spPr>
                  <a:xfrm rot="3144000">
                    <a:off x="8265600" y="1746000"/>
                    <a:ext cx="474840" cy="252360"/>
                  </a:xfrm>
                  <a:custGeom>
                    <a:avLst/>
                    <a:gdLst>
                      <a:gd name="textAreaLeft" fmla="*/ 0 w 474840"/>
                      <a:gd name="textAreaRight" fmla="*/ 475200 w 474840"/>
                      <a:gd name="textAreaTop" fmla="*/ 0 h 252360"/>
                      <a:gd name="textAreaBottom" fmla="*/ 252720 h 252360"/>
                    </a:gdLst>
                    <a:ahLst/>
                    <a:rect l="textAreaLeft" t="textAreaTop" r="textAreaRight" b="textAreaBottom"/>
                    <a:pathLst>
                      <a:path w="747" h="397">
                        <a:moveTo>
                          <a:pt x="2" y="4"/>
                        </a:moveTo>
                        <a:cubicBezTo>
                          <a:pt x="35" y="0"/>
                          <a:pt x="123" y="12"/>
                          <a:pt x="204" y="28"/>
                        </a:cubicBezTo>
                        <a:cubicBezTo>
                          <a:pt x="286" y="44"/>
                          <a:pt x="409" y="68"/>
                          <a:pt x="488" y="100"/>
                        </a:cubicBezTo>
                        <a:cubicBezTo>
                          <a:pt x="568" y="131"/>
                          <a:pt x="638" y="182"/>
                          <a:pt x="680" y="216"/>
                        </a:cubicBezTo>
                        <a:cubicBezTo>
                          <a:pt x="723" y="250"/>
                          <a:pt x="736" y="276"/>
                          <a:pt x="742" y="306"/>
                        </a:cubicBezTo>
                        <a:cubicBezTo>
                          <a:pt x="747" y="336"/>
                          <a:pt x="725" y="393"/>
                          <a:pt x="713" y="395"/>
                        </a:cubicBezTo>
                        <a:cubicBezTo>
                          <a:pt x="701" y="397"/>
                          <a:pt x="692" y="345"/>
                          <a:pt x="671" y="318"/>
                        </a:cubicBezTo>
                        <a:cubicBezTo>
                          <a:pt x="650" y="290"/>
                          <a:pt x="620" y="255"/>
                          <a:pt x="586" y="227"/>
                        </a:cubicBezTo>
                        <a:cubicBezTo>
                          <a:pt x="553" y="199"/>
                          <a:pt x="525" y="173"/>
                          <a:pt x="468" y="148"/>
                        </a:cubicBezTo>
                        <a:cubicBezTo>
                          <a:pt x="411" y="123"/>
                          <a:pt x="323" y="94"/>
                          <a:pt x="245" y="76"/>
                        </a:cubicBezTo>
                        <a:cubicBezTo>
                          <a:pt x="167" y="57"/>
                          <a:pt x="40" y="50"/>
                          <a:pt x="0" y="38"/>
                        </a:cubicBezTo>
                        <a:lnTo>
                          <a:pt x="2" y="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10014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7160" y="955080"/>
                  <a:ext cx="730800" cy="1262880"/>
                  <a:chOff x="7787160" y="955080"/>
                  <a:chExt cx="730800" cy="1262880"/>
                </a:xfrm>
              </p:grpSpPr>
              <p:sp>
                <p:nvSpPr>
                  <p:cNvPr id="102" name="AutoShape 104"/>
                  <p:cNvSpPr/>
                  <p:nvPr/>
                </p:nvSpPr>
                <p:spPr>
                  <a:xfrm rot="3745200">
                    <a:off x="7628040" y="1288800"/>
                    <a:ext cx="846360" cy="154080"/>
                  </a:xfrm>
                  <a:custGeom>
                    <a:avLst/>
                    <a:gdLst>
                      <a:gd name="textAreaLeft" fmla="*/ 0 w 846360"/>
                      <a:gd name="textAreaRight" fmla="*/ 846720 w 846360"/>
                      <a:gd name="textAreaTop" fmla="*/ 0 h 154080"/>
                      <a:gd name="textAreaBottom" fmla="*/ 154440 h 154080"/>
                    </a:gdLst>
                    <a:ahLst/>
                    <a:rect l="textAreaLeft" t="textAreaTop" r="textAreaRight" b="textAreaBottom"/>
                    <a:pathLst>
                      <a:path w="1332" h="242">
                        <a:moveTo>
                          <a:pt x="0" y="242"/>
                        </a:moveTo>
                        <a:cubicBezTo>
                          <a:pt x="10" y="234"/>
                          <a:pt x="275" y="119"/>
                          <a:pt x="420" y="80"/>
                        </a:cubicBezTo>
                        <a:cubicBezTo>
                          <a:pt x="564" y="42"/>
                          <a:pt x="712" y="23"/>
                          <a:pt x="864" y="11"/>
                        </a:cubicBezTo>
                        <a:cubicBezTo>
                          <a:pt x="1016" y="0"/>
                          <a:pt x="1255" y="5"/>
                          <a:pt x="1332" y="11"/>
                        </a:cubicBezTo>
                        <a:lnTo>
                          <a:pt x="1324" y="49"/>
                        </a:lnTo>
                        <a:cubicBezTo>
                          <a:pt x="1245" y="55"/>
                          <a:pt x="1026" y="34"/>
                          <a:pt x="858" y="49"/>
                        </a:cubicBezTo>
                        <a:cubicBezTo>
                          <a:pt x="588" y="65"/>
                          <a:pt x="485" y="92"/>
                          <a:pt x="317" y="140"/>
                        </a:cubicBezTo>
                        <a:cubicBezTo>
                          <a:pt x="173" y="171"/>
                          <a:pt x="65" y="221"/>
                          <a:pt x="0" y="242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AutoShape 105"/>
                  <p:cNvSpPr/>
                  <p:nvPr/>
                </p:nvSpPr>
                <p:spPr>
                  <a:xfrm rot="3745200">
                    <a:off x="8078760" y="1839960"/>
                    <a:ext cx="454320" cy="241200"/>
                  </a:xfrm>
                  <a:custGeom>
                    <a:avLst/>
                    <a:gdLst>
                      <a:gd name="textAreaLeft" fmla="*/ 0 w 454320"/>
                      <a:gd name="textAreaRight" fmla="*/ 454680 w 45432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714" h="380">
                        <a:moveTo>
                          <a:pt x="2" y="3"/>
                        </a:moveTo>
                        <a:cubicBezTo>
                          <a:pt x="34" y="0"/>
                          <a:pt x="118" y="11"/>
                          <a:pt x="196" y="26"/>
                        </a:cubicBezTo>
                        <a:cubicBezTo>
                          <a:pt x="273" y="42"/>
                          <a:pt x="390" y="65"/>
                          <a:pt x="466" y="96"/>
                        </a:cubicBezTo>
                        <a:cubicBezTo>
                          <a:pt x="542" y="126"/>
                          <a:pt x="609" y="174"/>
                          <a:pt x="650" y="207"/>
                        </a:cubicBezTo>
                        <a:cubicBezTo>
                          <a:pt x="691" y="240"/>
                          <a:pt x="703" y="264"/>
                          <a:pt x="708" y="292"/>
                        </a:cubicBezTo>
                        <a:cubicBezTo>
                          <a:pt x="714" y="320"/>
                          <a:pt x="693" y="376"/>
                          <a:pt x="681" y="377"/>
                        </a:cubicBezTo>
                        <a:cubicBezTo>
                          <a:pt x="670" y="380"/>
                          <a:pt x="662" y="329"/>
                          <a:pt x="641" y="303"/>
                        </a:cubicBezTo>
                        <a:cubicBezTo>
                          <a:pt x="621" y="277"/>
                          <a:pt x="592" y="244"/>
                          <a:pt x="561" y="218"/>
                        </a:cubicBezTo>
                        <a:cubicBezTo>
                          <a:pt x="528" y="191"/>
                          <a:pt x="501" y="166"/>
                          <a:pt x="448" y="142"/>
                        </a:cubicBezTo>
                        <a:cubicBezTo>
                          <a:pt x="392" y="118"/>
                          <a:pt x="308" y="90"/>
                          <a:pt x="233" y="72"/>
                        </a:cubicBezTo>
                        <a:cubicBezTo>
                          <a:pt x="159" y="55"/>
                          <a:pt x="38" y="48"/>
                          <a:pt x="0" y="36"/>
                        </a:cubicBezTo>
                        <a:lnTo>
                          <a:pt x="2" y="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10014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840"/>
                  <a:ext cx="513360" cy="1243080"/>
                  <a:chOff x="7757280" y="1005840"/>
                  <a:chExt cx="513360" cy="1243080"/>
                </a:xfrm>
              </p:grpSpPr>
              <p:sp>
                <p:nvSpPr>
                  <p:cNvPr id="105" name="AutoShape 107"/>
                  <p:cNvSpPr/>
                  <p:nvPr/>
                </p:nvSpPr>
                <p:spPr>
                  <a:xfrm rot="4286400">
                    <a:off x="7538040" y="1351080"/>
                    <a:ext cx="820800" cy="127800"/>
                  </a:xfrm>
                  <a:custGeom>
                    <a:avLst/>
                    <a:gdLst>
                      <a:gd name="textAreaLeft" fmla="*/ 0 w 820800"/>
                      <a:gd name="textAreaRight" fmla="*/ 821160 w 820800"/>
                      <a:gd name="textAreaTop" fmla="*/ 0 h 127800"/>
                      <a:gd name="textAreaBottom" fmla="*/ 128160 h 127800"/>
                    </a:gdLst>
                    <a:ahLst/>
                    <a:rect l="textAreaLeft" t="textAreaTop" r="textAreaRight" b="textAreaBottom"/>
                    <a:pathLst>
                      <a:path w="1292" h="200">
                        <a:moveTo>
                          <a:pt x="0" y="200"/>
                        </a:moveTo>
                        <a:cubicBezTo>
                          <a:pt x="10" y="192"/>
                          <a:pt x="267" y="97"/>
                          <a:pt x="407" y="66"/>
                        </a:cubicBezTo>
                        <a:cubicBezTo>
                          <a:pt x="547" y="34"/>
                          <a:pt x="691" y="18"/>
                          <a:pt x="838" y="9"/>
                        </a:cubicBezTo>
                        <a:cubicBezTo>
                          <a:pt x="986" y="0"/>
                          <a:pt x="1218" y="4"/>
                          <a:pt x="1292" y="9"/>
                        </a:cubicBezTo>
                        <a:lnTo>
                          <a:pt x="1284" y="40"/>
                        </a:lnTo>
                        <a:cubicBezTo>
                          <a:pt x="1208" y="45"/>
                          <a:pt x="995" y="28"/>
                          <a:pt x="832" y="40"/>
                        </a:cubicBezTo>
                        <a:cubicBezTo>
                          <a:pt x="570" y="53"/>
                          <a:pt x="470" y="75"/>
                          <a:pt x="308" y="115"/>
                        </a:cubicBezTo>
                        <a:cubicBezTo>
                          <a:pt x="168" y="140"/>
                          <a:pt x="63" y="181"/>
                          <a:pt x="0" y="20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AutoShape 108"/>
                  <p:cNvSpPr/>
                  <p:nvPr/>
                </p:nvSpPr>
                <p:spPr>
                  <a:xfrm rot="4286400">
                    <a:off x="7883280" y="1906920"/>
                    <a:ext cx="442800" cy="200520"/>
                  </a:xfrm>
                  <a:custGeom>
                    <a:avLst/>
                    <a:gdLst>
                      <a:gd name="textAreaLeft" fmla="*/ 0 w 442800"/>
                      <a:gd name="textAreaRight" fmla="*/ 443160 w 442800"/>
                      <a:gd name="textAreaTop" fmla="*/ 0 h 200520"/>
                      <a:gd name="textAreaBottom" fmla="*/ 200880 h 200520"/>
                    </a:gdLst>
                    <a:ahLst/>
                    <a:rect l="textAreaLeft" t="textAreaTop" r="textAreaRight" b="textAreaBottom"/>
                    <a:pathLst>
                      <a:path w="695" h="312">
                        <a:moveTo>
                          <a:pt x="1" y="3"/>
                        </a:moveTo>
                        <a:cubicBezTo>
                          <a:pt x="33" y="0"/>
                          <a:pt x="114" y="9"/>
                          <a:pt x="190" y="22"/>
                        </a:cubicBezTo>
                        <a:cubicBezTo>
                          <a:pt x="265" y="34"/>
                          <a:pt x="381" y="54"/>
                          <a:pt x="454" y="78"/>
                        </a:cubicBezTo>
                        <a:cubicBezTo>
                          <a:pt x="528" y="103"/>
                          <a:pt x="593" y="143"/>
                          <a:pt x="632" y="170"/>
                        </a:cubicBezTo>
                        <a:cubicBezTo>
                          <a:pt x="672" y="197"/>
                          <a:pt x="684" y="217"/>
                          <a:pt x="689" y="240"/>
                        </a:cubicBezTo>
                        <a:cubicBezTo>
                          <a:pt x="695" y="263"/>
                          <a:pt x="674" y="309"/>
                          <a:pt x="663" y="310"/>
                        </a:cubicBezTo>
                        <a:cubicBezTo>
                          <a:pt x="652" y="312"/>
                          <a:pt x="643" y="271"/>
                          <a:pt x="624" y="249"/>
                        </a:cubicBezTo>
                        <a:cubicBezTo>
                          <a:pt x="604" y="227"/>
                          <a:pt x="577" y="201"/>
                          <a:pt x="545" y="179"/>
                        </a:cubicBezTo>
                        <a:cubicBezTo>
                          <a:pt x="514" y="157"/>
                          <a:pt x="488" y="136"/>
                          <a:pt x="436" y="116"/>
                        </a:cubicBezTo>
                        <a:cubicBezTo>
                          <a:pt x="383" y="97"/>
                          <a:pt x="300" y="74"/>
                          <a:pt x="227" y="60"/>
                        </a:cubicBezTo>
                        <a:cubicBezTo>
                          <a:pt x="155" y="45"/>
                          <a:pt x="37" y="39"/>
                          <a:pt x="0" y="30"/>
                        </a:cubicBezTo>
                        <a:lnTo>
                          <a:pt x="1" y="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10014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520" cy="1157040"/>
                  <a:chOff x="7733880" y="1058760"/>
                  <a:chExt cx="290520" cy="1157040"/>
                </a:xfrm>
              </p:grpSpPr>
              <p:sp>
                <p:nvSpPr>
                  <p:cNvPr id="108" name="AutoShape 110"/>
                  <p:cNvSpPr/>
                  <p:nvPr/>
                </p:nvSpPr>
                <p:spPr>
                  <a:xfrm rot="4898400">
                    <a:off x="7473600" y="1378080"/>
                    <a:ext cx="755640" cy="127080"/>
                  </a:xfrm>
                  <a:custGeom>
                    <a:avLst/>
                    <a:gdLst>
                      <a:gd name="textAreaLeft" fmla="*/ 0 w 755640"/>
                      <a:gd name="textAreaRight" fmla="*/ 756000 w 755640"/>
                      <a:gd name="textAreaTop" fmla="*/ 0 h 127080"/>
                      <a:gd name="textAreaBottom" fmla="*/ 127440 h 127080"/>
                    </a:gdLst>
                    <a:ahLst/>
                    <a:rect l="textAreaLeft" t="textAreaTop" r="textAreaRight" b="textAreaBottom"/>
                    <a:pathLst>
                      <a:path w="1189" h="200">
                        <a:moveTo>
                          <a:pt x="0" y="200"/>
                        </a:moveTo>
                        <a:cubicBezTo>
                          <a:pt x="10" y="192"/>
                          <a:pt x="246" y="97"/>
                          <a:pt x="375" y="66"/>
                        </a:cubicBezTo>
                        <a:cubicBezTo>
                          <a:pt x="504" y="34"/>
                          <a:pt x="637" y="18"/>
                          <a:pt x="772" y="9"/>
                        </a:cubicBezTo>
                        <a:cubicBezTo>
                          <a:pt x="908" y="0"/>
                          <a:pt x="1121" y="4"/>
                          <a:pt x="1189" y="9"/>
                        </a:cubicBezTo>
                        <a:lnTo>
                          <a:pt x="1183" y="40"/>
                        </a:lnTo>
                        <a:cubicBezTo>
                          <a:pt x="1112" y="45"/>
                          <a:pt x="917" y="28"/>
                          <a:pt x="767" y="40"/>
                        </a:cubicBezTo>
                        <a:cubicBezTo>
                          <a:pt x="525" y="53"/>
                          <a:pt x="433" y="75"/>
                          <a:pt x="284" y="115"/>
                        </a:cubicBezTo>
                        <a:cubicBezTo>
                          <a:pt x="155" y="140"/>
                          <a:pt x="59" y="181"/>
                          <a:pt x="0" y="20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AutoShape 111"/>
                  <p:cNvSpPr/>
                  <p:nvPr/>
                </p:nvSpPr>
                <p:spPr>
                  <a:xfrm rot="4898400">
                    <a:off x="7693920" y="1901880"/>
                    <a:ext cx="405000" cy="198360"/>
                  </a:xfrm>
                  <a:custGeom>
                    <a:avLst/>
                    <a:gdLst>
                      <a:gd name="textAreaLeft" fmla="*/ 0 w 405000"/>
                      <a:gd name="textAreaRight" fmla="*/ 405360 w 405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637" h="312">
                        <a:moveTo>
                          <a:pt x="0" y="3"/>
                        </a:moveTo>
                        <a:cubicBezTo>
                          <a:pt x="29" y="0"/>
                          <a:pt x="104" y="9"/>
                          <a:pt x="174" y="22"/>
                        </a:cubicBezTo>
                        <a:cubicBezTo>
                          <a:pt x="243" y="34"/>
                          <a:pt x="348" y="54"/>
                          <a:pt x="416" y="78"/>
                        </a:cubicBezTo>
                        <a:cubicBezTo>
                          <a:pt x="484" y="103"/>
                          <a:pt x="544" y="143"/>
                          <a:pt x="580" y="170"/>
                        </a:cubicBezTo>
                        <a:cubicBezTo>
                          <a:pt x="616" y="197"/>
                          <a:pt x="628" y="217"/>
                          <a:pt x="632" y="240"/>
                        </a:cubicBezTo>
                        <a:cubicBezTo>
                          <a:pt x="637" y="263"/>
                          <a:pt x="618" y="309"/>
                          <a:pt x="608" y="310"/>
                        </a:cubicBezTo>
                        <a:cubicBezTo>
                          <a:pt x="598" y="312"/>
                          <a:pt x="590" y="271"/>
                          <a:pt x="572" y="249"/>
                        </a:cubicBezTo>
                        <a:cubicBezTo>
                          <a:pt x="554" y="227"/>
                          <a:pt x="529" y="201"/>
                          <a:pt x="500" y="179"/>
                        </a:cubicBezTo>
                        <a:cubicBezTo>
                          <a:pt x="471" y="157"/>
                          <a:pt x="448" y="136"/>
                          <a:pt x="399" y="116"/>
                        </a:cubicBezTo>
                        <a:cubicBezTo>
                          <a:pt x="350" y="97"/>
                          <a:pt x="275" y="74"/>
                          <a:pt x="208" y="60"/>
                        </a:cubicBezTo>
                        <a:cubicBezTo>
                          <a:pt x="141" y="45"/>
                          <a:pt x="33" y="39"/>
                          <a:pt x="0" y="30"/>
                        </a:cubicBezTo>
                        <a:lnTo>
                          <a:pt x="0" y="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10014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1320" y="1081080"/>
                  <a:ext cx="277920" cy="1127160"/>
                  <a:chOff x="7501320" y="1081080"/>
                  <a:chExt cx="277920" cy="1127160"/>
                </a:xfrm>
              </p:grpSpPr>
              <p:sp>
                <p:nvSpPr>
                  <p:cNvPr id="111" name="AutoShape 113"/>
                  <p:cNvSpPr/>
                  <p:nvPr/>
                </p:nvSpPr>
                <p:spPr>
                  <a:xfrm rot="5755200">
                    <a:off x="7324200" y="1403640"/>
                    <a:ext cx="736560" cy="97560"/>
                  </a:xfrm>
                  <a:custGeom>
                    <a:avLst/>
                    <a:gdLst>
                      <a:gd name="textAreaLeft" fmla="*/ 0 w 736560"/>
                      <a:gd name="textAreaRight" fmla="*/ 736920 w 736560"/>
                      <a:gd name="textAreaTop" fmla="*/ 0 h 97560"/>
                      <a:gd name="textAreaBottom" fmla="*/ 97920 h 97560"/>
                    </a:gdLst>
                    <a:ahLst/>
                    <a:rect l="textAreaLeft" t="textAreaTop" r="textAreaRight" b="textAreaBottom"/>
                    <a:pathLst>
                      <a:path w="1160" h="152">
                        <a:moveTo>
                          <a:pt x="0" y="152"/>
                        </a:moveTo>
                        <a:cubicBezTo>
                          <a:pt x="9" y="148"/>
                          <a:pt x="240" y="74"/>
                          <a:pt x="365" y="50"/>
                        </a:cubicBezTo>
                        <a:cubicBezTo>
                          <a:pt x="491" y="26"/>
                          <a:pt x="620" y="14"/>
                          <a:pt x="753" y="7"/>
                        </a:cubicBezTo>
                        <a:cubicBezTo>
                          <a:pt x="885" y="0"/>
                          <a:pt x="1094" y="3"/>
                          <a:pt x="1160" y="7"/>
                        </a:cubicBezTo>
                        <a:lnTo>
                          <a:pt x="1154" y="31"/>
                        </a:lnTo>
                        <a:cubicBezTo>
                          <a:pt x="1085" y="34"/>
                          <a:pt x="894" y="21"/>
                          <a:pt x="748" y="31"/>
                        </a:cubicBezTo>
                        <a:cubicBezTo>
                          <a:pt x="512" y="40"/>
                          <a:pt x="422" y="57"/>
                          <a:pt x="276" y="88"/>
                        </a:cubicBezTo>
                        <a:cubicBezTo>
                          <a:pt x="151" y="108"/>
                          <a:pt x="56" y="139"/>
                          <a:pt x="0" y="152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AutoShape 114"/>
                  <p:cNvSpPr/>
                  <p:nvPr/>
                </p:nvSpPr>
                <p:spPr>
                  <a:xfrm rot="5755200">
                    <a:off x="7398000" y="1929240"/>
                    <a:ext cx="395280" cy="149400"/>
                  </a:xfrm>
                  <a:custGeom>
                    <a:avLst/>
                    <a:gdLst>
                      <a:gd name="textAreaLeft" fmla="*/ 0 w 395280"/>
                      <a:gd name="textAreaRight" fmla="*/ 395640 w 395280"/>
                      <a:gd name="textAreaTop" fmla="*/ 0 h 149400"/>
                      <a:gd name="textAreaBottom" fmla="*/ 149760 h 149400"/>
                    </a:gdLst>
                    <a:ahLst/>
                    <a:rect l="textAreaLeft" t="textAreaTop" r="textAreaRight" b="textAreaBottom"/>
                    <a:pathLst>
                      <a:path w="622" h="237">
                        <a:moveTo>
                          <a:pt x="0" y="1"/>
                        </a:moveTo>
                        <a:cubicBezTo>
                          <a:pt x="28" y="0"/>
                          <a:pt x="102" y="6"/>
                          <a:pt x="169" y="15"/>
                        </a:cubicBezTo>
                        <a:cubicBezTo>
                          <a:pt x="237" y="25"/>
                          <a:pt x="340" y="40"/>
                          <a:pt x="406" y="59"/>
                        </a:cubicBezTo>
                        <a:cubicBezTo>
                          <a:pt x="472" y="78"/>
                          <a:pt x="531" y="108"/>
                          <a:pt x="566" y="129"/>
                        </a:cubicBezTo>
                        <a:cubicBezTo>
                          <a:pt x="601" y="149"/>
                          <a:pt x="613" y="164"/>
                          <a:pt x="617" y="182"/>
                        </a:cubicBezTo>
                        <a:cubicBezTo>
                          <a:pt x="622" y="200"/>
                          <a:pt x="604" y="234"/>
                          <a:pt x="594" y="236"/>
                        </a:cubicBezTo>
                        <a:cubicBezTo>
                          <a:pt x="584" y="237"/>
                          <a:pt x="576" y="206"/>
                          <a:pt x="558" y="189"/>
                        </a:cubicBezTo>
                        <a:cubicBezTo>
                          <a:pt x="541" y="172"/>
                          <a:pt x="516" y="152"/>
                          <a:pt x="488" y="135"/>
                        </a:cubicBezTo>
                        <a:cubicBezTo>
                          <a:pt x="460" y="118"/>
                          <a:pt x="437" y="103"/>
                          <a:pt x="389" y="88"/>
                        </a:cubicBezTo>
                        <a:cubicBezTo>
                          <a:pt x="342" y="73"/>
                          <a:pt x="268" y="55"/>
                          <a:pt x="203" y="44"/>
                        </a:cubicBezTo>
                        <a:cubicBezTo>
                          <a:pt x="138" y="33"/>
                          <a:pt x="32" y="29"/>
                          <a:pt x="0" y="21"/>
                        </a:cubicBezTo>
                        <a:lnTo>
                          <a:pt x="0" y="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10014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AutoShape 115"/>
              <p:cNvSpPr/>
              <p:nvPr/>
            </p:nvSpPr>
            <p:spPr>
              <a:xfrm flipH="1">
                <a:off x="7296120" y="1222200"/>
                <a:ext cx="249120" cy="75888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392" h="1194">
                    <a:moveTo>
                      <a:pt x="0" y="31"/>
                    </a:moveTo>
                    <a:cubicBezTo>
                      <a:pt x="55" y="15"/>
                      <a:pt x="112" y="0"/>
                      <a:pt x="120" y="7"/>
                    </a:cubicBezTo>
                    <a:cubicBezTo>
                      <a:pt x="128" y="15"/>
                      <a:pt x="39" y="67"/>
                      <a:pt x="47" y="80"/>
                    </a:cubicBezTo>
                    <a:cubicBezTo>
                      <a:pt x="55" y="91"/>
                      <a:pt x="161" y="67"/>
                      <a:pt x="169" y="80"/>
                    </a:cubicBezTo>
                    <a:cubicBezTo>
                      <a:pt x="177" y="91"/>
                      <a:pt x="92" y="136"/>
                      <a:pt x="96" y="152"/>
                    </a:cubicBezTo>
                    <a:cubicBezTo>
                      <a:pt x="100" y="168"/>
                      <a:pt x="185" y="165"/>
                      <a:pt x="193" y="177"/>
                    </a:cubicBezTo>
                    <a:cubicBezTo>
                      <a:pt x="201" y="188"/>
                      <a:pt x="136" y="213"/>
                      <a:pt x="145" y="225"/>
                    </a:cubicBezTo>
                    <a:cubicBezTo>
                      <a:pt x="153" y="238"/>
                      <a:pt x="234" y="238"/>
                      <a:pt x="242" y="249"/>
                    </a:cubicBezTo>
                    <a:cubicBezTo>
                      <a:pt x="250" y="262"/>
                      <a:pt x="189" y="285"/>
                      <a:pt x="193" y="298"/>
                    </a:cubicBezTo>
                    <a:cubicBezTo>
                      <a:pt x="197" y="310"/>
                      <a:pt x="258" y="310"/>
                      <a:pt x="266" y="322"/>
                    </a:cubicBezTo>
                    <a:cubicBezTo>
                      <a:pt x="274" y="334"/>
                      <a:pt x="238" y="354"/>
                      <a:pt x="242" y="370"/>
                    </a:cubicBezTo>
                    <a:cubicBezTo>
                      <a:pt x="246" y="386"/>
                      <a:pt x="283" y="403"/>
                      <a:pt x="291" y="420"/>
                    </a:cubicBezTo>
                    <a:cubicBezTo>
                      <a:pt x="299" y="435"/>
                      <a:pt x="283" y="448"/>
                      <a:pt x="291" y="467"/>
                    </a:cubicBezTo>
                    <a:cubicBezTo>
                      <a:pt x="299" y="487"/>
                      <a:pt x="335" y="517"/>
                      <a:pt x="339" y="540"/>
                    </a:cubicBezTo>
                    <a:cubicBezTo>
                      <a:pt x="343" y="564"/>
                      <a:pt x="311" y="593"/>
                      <a:pt x="315" y="614"/>
                    </a:cubicBezTo>
                    <a:cubicBezTo>
                      <a:pt x="319" y="633"/>
                      <a:pt x="360" y="641"/>
                      <a:pt x="364" y="661"/>
                    </a:cubicBezTo>
                    <a:cubicBezTo>
                      <a:pt x="368" y="682"/>
                      <a:pt x="339" y="709"/>
                      <a:pt x="339" y="735"/>
                    </a:cubicBezTo>
                    <a:cubicBezTo>
                      <a:pt x="339" y="758"/>
                      <a:pt x="364" y="787"/>
                      <a:pt x="364" y="806"/>
                    </a:cubicBezTo>
                    <a:cubicBezTo>
                      <a:pt x="364" y="827"/>
                      <a:pt x="335" y="835"/>
                      <a:pt x="339" y="855"/>
                    </a:cubicBezTo>
                    <a:cubicBezTo>
                      <a:pt x="343" y="875"/>
                      <a:pt x="384" y="903"/>
                      <a:pt x="388" y="928"/>
                    </a:cubicBezTo>
                    <a:cubicBezTo>
                      <a:pt x="392" y="953"/>
                      <a:pt x="364" y="972"/>
                      <a:pt x="364" y="1000"/>
                    </a:cubicBezTo>
                    <a:cubicBezTo>
                      <a:pt x="364" y="1029"/>
                      <a:pt x="388" y="1077"/>
                      <a:pt x="388" y="1097"/>
                    </a:cubicBezTo>
                    <a:cubicBezTo>
                      <a:pt x="388" y="1117"/>
                      <a:pt x="364" y="1105"/>
                      <a:pt x="364" y="1121"/>
                    </a:cubicBezTo>
                    <a:cubicBezTo>
                      <a:pt x="364" y="1138"/>
                      <a:pt x="376" y="1166"/>
                      <a:pt x="388" y="1194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4" name="AutoShape 116"/>
              <p:cNvSpPr/>
              <p:nvPr/>
            </p:nvSpPr>
            <p:spPr>
              <a:xfrm flipH="1">
                <a:off x="6842880" y="950760"/>
                <a:ext cx="1089000" cy="1185840"/>
              </a:xfrm>
              <a:custGeom>
                <a:avLst/>
                <a:gdLst>
                  <a:gd name="textAreaLeft" fmla="*/ -360 w 1089000"/>
                  <a:gd name="textAreaRight" fmla="*/ 1089000 w 1089000"/>
                  <a:gd name="textAreaTop" fmla="*/ 0 h 1185840"/>
                  <a:gd name="textAreaBottom" fmla="*/ 1186200 h 1185840"/>
                </a:gdLst>
                <a:ahLst/>
                <a:rect l="textAreaLeft" t="textAreaTop" r="textAreaRight" b="textAreaBottom"/>
                <a:pathLst>
                  <a:path fill="none" w="21600" h="21673">
                    <a:moveTo>
                      <a:pt x="5394" y="-21"/>
                    </a:moveTo>
                    <a:cubicBezTo>
                      <a:pt x="14978" y="2406"/>
                      <a:pt x="21692" y="11031"/>
                      <a:pt x="21692" y="20918"/>
                    </a:cubicBezTo>
                    <a:cubicBezTo>
                      <a:pt x="21692" y="21150"/>
                      <a:pt x="21688" y="21383"/>
                      <a:pt x="21680" y="21615"/>
                    </a:cubicBezTo>
                  </a:path>
                  <a:path w="21600" h="21673">
                    <a:moveTo>
                      <a:pt x="5394" y="-21"/>
                    </a:moveTo>
                    <a:cubicBezTo>
                      <a:pt x="14978" y="2406"/>
                      <a:pt x="21692" y="11031"/>
                      <a:pt x="21692" y="20918"/>
                    </a:cubicBezTo>
                    <a:cubicBezTo>
                      <a:pt x="21692" y="21150"/>
                      <a:pt x="21688" y="21383"/>
                      <a:pt x="21680" y="21615"/>
                    </a:cubicBezTo>
                    <a:lnTo>
                      <a:pt x="92" y="20918"/>
                    </a:lnTo>
                    <a:lnTo>
                      <a:pt x="5394" y="-21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5" name="AutoShape 117"/>
              <p:cNvSpPr/>
              <p:nvPr/>
            </p:nvSpPr>
            <p:spPr>
              <a:xfrm flipV="1">
                <a:off x="7827840" y="232200"/>
                <a:ext cx="1311480" cy="1049400"/>
              </a:xfrm>
              <a:custGeom>
                <a:avLst/>
                <a:gdLst>
                  <a:gd name="textAreaLeft" fmla="*/ 0 w 1311480"/>
                  <a:gd name="textAreaRight" fmla="*/ 1311840 w 1311480"/>
                  <a:gd name="textAreaTop" fmla="*/ -360 h 1049400"/>
                  <a:gd name="textAreaBottom" fmla="*/ 1049400 h 1049400"/>
                </a:gdLst>
                <a:ahLst/>
                <a:rect l="textAreaLeft" t="textAreaTop" r="textAreaRight" b="textAreaBottom"/>
                <a:pathLst>
                  <a:path fill="none" w="36546" h="21599">
                    <a:moveTo>
                      <a:pt x="-28795" y="10526"/>
                    </a:moveTo>
                    <a:cubicBezTo>
                      <a:pt x="-32594" y="17417"/>
                      <a:pt x="25695" y="21696"/>
                      <a:pt x="17826" y="21697"/>
                    </a:cubicBezTo>
                    <a:cubicBezTo>
                      <a:pt x="10749" y="21697"/>
                      <a:pt x="4121" y="18230"/>
                      <a:pt x="85" y="12417"/>
                    </a:cubicBezTo>
                  </a:path>
                  <a:path w="36546" h="21599">
                    <a:moveTo>
                      <a:pt x="-28795" y="10526"/>
                    </a:moveTo>
                    <a:cubicBezTo>
                      <a:pt x="-32594" y="17417"/>
                      <a:pt x="25695" y="21696"/>
                      <a:pt x="17826" y="21697"/>
                    </a:cubicBezTo>
                    <a:cubicBezTo>
                      <a:pt x="10749" y="21697"/>
                      <a:pt x="4121" y="18230"/>
                      <a:pt x="85" y="12417"/>
                    </a:cubicBezTo>
                    <a:lnTo>
                      <a:pt x="17826" y="97"/>
                    </a:lnTo>
                    <a:lnTo>
                      <a:pt x="-28795" y="10526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6" name="AutoShape 118"/>
              <p:cNvSpPr/>
              <p:nvPr/>
            </p:nvSpPr>
            <p:spPr>
              <a:xfrm flipH="1">
                <a:off x="6957360" y="757080"/>
                <a:ext cx="633240" cy="1222560"/>
              </a:xfrm>
              <a:custGeom>
                <a:avLst/>
                <a:gdLst>
                  <a:gd name="textAreaLeft" fmla="*/ -360 w 633240"/>
                  <a:gd name="textAreaRight" fmla="*/ 633240 w 633240"/>
                  <a:gd name="textAreaTop" fmla="*/ 0 h 1222560"/>
                  <a:gd name="textAreaBottom" fmla="*/ 1222560 h 1222560"/>
                </a:gdLst>
                <a:ahLst/>
                <a:rect l="textAreaLeft" t="textAreaTop" r="textAreaRight" b="textAreaBottom"/>
                <a:pathLst>
                  <a:path fill="none" w="28788" h="22316">
                    <a:moveTo>
                      <a:pt x="229" y="1183"/>
                    </a:moveTo>
                    <a:cubicBezTo>
                      <a:pt x="2454" y="432"/>
                      <a:pt x="4788" y="48"/>
                      <a:pt x="7137" y="49"/>
                    </a:cubicBezTo>
                    <a:cubicBezTo>
                      <a:pt x="19066" y="49"/>
                      <a:pt x="28737" y="9719"/>
                      <a:pt x="28737" y="21649"/>
                    </a:cubicBezTo>
                    <a:cubicBezTo>
                      <a:pt x="28737" y="21880"/>
                      <a:pt x="28733" y="22111"/>
                      <a:pt x="28725" y="22343"/>
                    </a:cubicBezTo>
                  </a:path>
                  <a:path w="28788" h="22316">
                    <a:moveTo>
                      <a:pt x="229" y="1183"/>
                    </a:moveTo>
                    <a:cubicBezTo>
                      <a:pt x="2454" y="432"/>
                      <a:pt x="4788" y="48"/>
                      <a:pt x="7137" y="49"/>
                    </a:cubicBezTo>
                    <a:cubicBezTo>
                      <a:pt x="19066" y="49"/>
                      <a:pt x="28737" y="9719"/>
                      <a:pt x="28737" y="21649"/>
                    </a:cubicBezTo>
                    <a:cubicBezTo>
                      <a:pt x="28737" y="21880"/>
                      <a:pt x="28733" y="22111"/>
                      <a:pt x="28725" y="22343"/>
                    </a:cubicBezTo>
                    <a:lnTo>
                      <a:pt x="7137" y="21649"/>
                    </a:lnTo>
                    <a:lnTo>
                      <a:pt x="229" y="1183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7" name="AutoShape 119"/>
              <p:cNvSpPr/>
              <p:nvPr/>
            </p:nvSpPr>
            <p:spPr>
              <a:xfrm flipH="1">
                <a:off x="6500160" y="820800"/>
                <a:ext cx="1036440" cy="1220760"/>
              </a:xfrm>
              <a:custGeom>
                <a:avLst/>
                <a:gdLst>
                  <a:gd name="textAreaLeft" fmla="*/ -360 w 1036440"/>
                  <a:gd name="textAreaRight" fmla="*/ 1036440 w 1036440"/>
                  <a:gd name="textAreaTop" fmla="*/ 0 h 1220760"/>
                  <a:gd name="textAreaBottom" fmla="*/ 1221120 h 1220760"/>
                </a:gdLst>
                <a:ahLst/>
                <a:rect l="textAreaLeft" t="textAreaTop" r="textAreaRight" b="textAreaBottom"/>
                <a:pathLst>
                  <a:path fill="none" w="30497" h="22317">
                    <a:moveTo>
                      <a:pt x="100" y="1802"/>
                    </a:moveTo>
                    <a:cubicBezTo>
                      <a:pt x="2848" y="588"/>
                      <a:pt x="5820" y="-39"/>
                      <a:pt x="8824" y="-38"/>
                    </a:cubicBezTo>
                    <a:cubicBezTo>
                      <a:pt x="20753" y="-38"/>
                      <a:pt x="30424" y="9632"/>
                      <a:pt x="30424" y="21561"/>
                    </a:cubicBezTo>
                    <a:cubicBezTo>
                      <a:pt x="30424" y="21793"/>
                      <a:pt x="30420" y="22026"/>
                      <a:pt x="30412" y="22258"/>
                    </a:cubicBezTo>
                  </a:path>
                  <a:path w="30497" h="22317">
                    <a:moveTo>
                      <a:pt x="100" y="1802"/>
                    </a:moveTo>
                    <a:cubicBezTo>
                      <a:pt x="2848" y="588"/>
                      <a:pt x="5820" y="-39"/>
                      <a:pt x="8824" y="-38"/>
                    </a:cubicBezTo>
                    <a:cubicBezTo>
                      <a:pt x="20753" y="-38"/>
                      <a:pt x="30424" y="9632"/>
                      <a:pt x="30424" y="21561"/>
                    </a:cubicBezTo>
                    <a:cubicBezTo>
                      <a:pt x="30424" y="21793"/>
                      <a:pt x="30420" y="22026"/>
                      <a:pt x="30412" y="22258"/>
                    </a:cubicBezTo>
                    <a:lnTo>
                      <a:pt x="8824" y="21561"/>
                    </a:lnTo>
                    <a:lnTo>
                      <a:pt x="100" y="1802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8" name="AutoShape 120"/>
              <p:cNvSpPr/>
              <p:nvPr/>
            </p:nvSpPr>
            <p:spPr>
              <a:xfrm flipH="1">
                <a:off x="6408720" y="600120"/>
                <a:ext cx="1222560" cy="1222200"/>
              </a:xfrm>
              <a:custGeom>
                <a:avLst/>
                <a:gdLst>
                  <a:gd name="textAreaLeft" fmla="*/ 360 w 1222560"/>
                  <a:gd name="textAreaRight" fmla="*/ 1223280 w 1222560"/>
                  <a:gd name="textAreaTop" fmla="*/ 0 h 1222200"/>
                  <a:gd name="textAreaBottom" fmla="*/ 1222200 h 1222200"/>
                </a:gdLst>
                <a:ahLst/>
                <a:rect l="textAreaLeft" t="textAreaTop" r="textAreaRight" b="textAreaBottom"/>
                <a:pathLst>
                  <a:path fill="none" w="34537" h="22316">
                    <a:moveTo>
                      <a:pt x="79" y="4223"/>
                    </a:moveTo>
                    <a:cubicBezTo>
                      <a:pt x="3804" y="1456"/>
                      <a:pt x="8320" y="-38"/>
                      <a:pt x="12960" y="-37"/>
                    </a:cubicBezTo>
                    <a:cubicBezTo>
                      <a:pt x="24888" y="-37"/>
                      <a:pt x="34559" y="9633"/>
                      <a:pt x="34559" y="21562"/>
                    </a:cubicBezTo>
                    <a:cubicBezTo>
                      <a:pt x="34559" y="21795"/>
                      <a:pt x="34555" y="22027"/>
                      <a:pt x="34547" y="22259"/>
                    </a:cubicBezTo>
                  </a:path>
                  <a:path w="34537" h="22316">
                    <a:moveTo>
                      <a:pt x="79" y="4223"/>
                    </a:moveTo>
                    <a:cubicBezTo>
                      <a:pt x="3804" y="1456"/>
                      <a:pt x="8320" y="-38"/>
                      <a:pt x="12960" y="-37"/>
                    </a:cubicBezTo>
                    <a:cubicBezTo>
                      <a:pt x="24888" y="-37"/>
                      <a:pt x="34559" y="9633"/>
                      <a:pt x="34559" y="21562"/>
                    </a:cubicBezTo>
                    <a:cubicBezTo>
                      <a:pt x="34559" y="21795"/>
                      <a:pt x="34555" y="22027"/>
                      <a:pt x="34547" y="22259"/>
                    </a:cubicBezTo>
                    <a:lnTo>
                      <a:pt x="12959" y="21562"/>
                    </a:lnTo>
                    <a:lnTo>
                      <a:pt x="79" y="4223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9" name="AutoShape 121"/>
              <p:cNvSpPr/>
              <p:nvPr/>
            </p:nvSpPr>
            <p:spPr>
              <a:xfrm>
                <a:off x="7764480" y="773280"/>
                <a:ext cx="192240" cy="122220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1222200"/>
                  <a:gd name="textAreaBottom" fmla="*/ 1222200 h 1222200"/>
                </a:gdLst>
                <a:ahLst/>
                <a:rect l="textAreaLeft" t="textAreaTop" r="textAreaRight" b="textAreaBottom"/>
                <a:pathLst>
                  <a:path fill="none" w="34216" h="22316">
                    <a:moveTo>
                      <a:pt x="-187" y="4637"/>
                    </a:moveTo>
                    <a:cubicBezTo>
                      <a:pt x="3637" y="1592"/>
                      <a:pt x="8380" y="-67"/>
                      <a:pt x="13269" y="-66"/>
                    </a:cubicBezTo>
                    <a:cubicBezTo>
                      <a:pt x="25198" y="-66"/>
                      <a:pt x="34869" y="9604"/>
                      <a:pt x="34869" y="21533"/>
                    </a:cubicBezTo>
                    <a:cubicBezTo>
                      <a:pt x="34869" y="21817"/>
                      <a:pt x="34863" y="22100"/>
                      <a:pt x="34852" y="22384"/>
                    </a:cubicBezTo>
                  </a:path>
                  <a:path w="34216" h="22316">
                    <a:moveTo>
                      <a:pt x="-187" y="4637"/>
                    </a:moveTo>
                    <a:cubicBezTo>
                      <a:pt x="3637" y="1592"/>
                      <a:pt x="8380" y="-67"/>
                      <a:pt x="13269" y="-66"/>
                    </a:cubicBezTo>
                    <a:cubicBezTo>
                      <a:pt x="25198" y="-66"/>
                      <a:pt x="34869" y="9604"/>
                      <a:pt x="34869" y="21533"/>
                    </a:cubicBezTo>
                    <a:cubicBezTo>
                      <a:pt x="34869" y="21817"/>
                      <a:pt x="34863" y="22100"/>
                      <a:pt x="34852" y="22384"/>
                    </a:cubicBezTo>
                    <a:lnTo>
                      <a:pt x="13269" y="21533"/>
                    </a:lnTo>
                    <a:lnTo>
                      <a:pt x="-187" y="4637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0" name="AutoShape 122"/>
              <p:cNvSpPr/>
              <p:nvPr/>
            </p:nvSpPr>
            <p:spPr>
              <a:xfrm>
                <a:off x="7812000" y="765000"/>
                <a:ext cx="515880" cy="1222560"/>
              </a:xfrm>
              <a:custGeom>
                <a:avLst/>
                <a:gdLst>
                  <a:gd name="textAreaLeft" fmla="*/ 0 w 515880"/>
                  <a:gd name="textAreaRight" fmla="*/ 516240 w 515880"/>
                  <a:gd name="textAreaTop" fmla="*/ 0 h 1222560"/>
                  <a:gd name="textAreaBottom" fmla="*/ 1222560 h 1222560"/>
                </a:gdLst>
                <a:ahLst/>
                <a:rect l="textAreaLeft" t="textAreaTop" r="textAreaRight" b="textAreaBottom"/>
                <a:pathLst>
                  <a:path fill="none" w="34853" h="22316">
                    <a:moveTo>
                      <a:pt x="-24" y="4752"/>
                    </a:moveTo>
                    <a:cubicBezTo>
                      <a:pt x="3794" y="1725"/>
                      <a:pt x="8524" y="77"/>
                      <a:pt x="13396" y="78"/>
                    </a:cubicBezTo>
                    <a:cubicBezTo>
                      <a:pt x="25325" y="78"/>
                      <a:pt x="34996" y="9748"/>
                      <a:pt x="34996" y="21678"/>
                    </a:cubicBezTo>
                    <a:cubicBezTo>
                      <a:pt x="34996" y="21906"/>
                      <a:pt x="34992" y="22135"/>
                      <a:pt x="34985" y="22364"/>
                    </a:cubicBezTo>
                  </a:path>
                  <a:path w="34853" h="22316">
                    <a:moveTo>
                      <a:pt x="-24" y="4752"/>
                    </a:moveTo>
                    <a:cubicBezTo>
                      <a:pt x="3794" y="1725"/>
                      <a:pt x="8524" y="77"/>
                      <a:pt x="13396" y="78"/>
                    </a:cubicBezTo>
                    <a:cubicBezTo>
                      <a:pt x="25325" y="78"/>
                      <a:pt x="34996" y="9748"/>
                      <a:pt x="34996" y="21678"/>
                    </a:cubicBezTo>
                    <a:cubicBezTo>
                      <a:pt x="34996" y="21906"/>
                      <a:pt x="34992" y="22135"/>
                      <a:pt x="34985" y="22364"/>
                    </a:cubicBezTo>
                    <a:lnTo>
                      <a:pt x="13396" y="21678"/>
                    </a:lnTo>
                    <a:lnTo>
                      <a:pt x="-24" y="4752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1" name="AutoShape 123"/>
              <p:cNvSpPr/>
              <p:nvPr/>
            </p:nvSpPr>
            <p:spPr>
              <a:xfrm>
                <a:off x="7858080" y="608040"/>
                <a:ext cx="728640" cy="1222200"/>
              </a:xfrm>
              <a:custGeom>
                <a:avLst/>
                <a:gdLst>
                  <a:gd name="textAreaLeft" fmla="*/ 0 w 728640"/>
                  <a:gd name="textAreaRight" fmla="*/ 729000 w 728640"/>
                  <a:gd name="textAreaTop" fmla="*/ 0 h 1222200"/>
                  <a:gd name="textAreaBottom" fmla="*/ 1222200 h 1222200"/>
                </a:gdLst>
                <a:ahLst/>
                <a:rect l="textAreaLeft" t="textAreaTop" r="textAreaRight" b="textAreaBottom"/>
                <a:pathLst>
                  <a:path fill="none" w="34677" h="22316">
                    <a:moveTo>
                      <a:pt x="31" y="4424"/>
                    </a:moveTo>
                    <a:cubicBezTo>
                      <a:pt x="3796" y="1549"/>
                      <a:pt x="8402" y="-9"/>
                      <a:pt x="13139" y="-8"/>
                    </a:cubicBezTo>
                    <a:cubicBezTo>
                      <a:pt x="25068" y="-8"/>
                      <a:pt x="34739" y="9662"/>
                      <a:pt x="34739" y="21591"/>
                    </a:cubicBezTo>
                    <a:cubicBezTo>
                      <a:pt x="34739" y="21821"/>
                      <a:pt x="34735" y="22051"/>
                      <a:pt x="34727" y="22281"/>
                    </a:cubicBezTo>
                  </a:path>
                  <a:path w="34677" h="22316">
                    <a:moveTo>
                      <a:pt x="31" y="4424"/>
                    </a:moveTo>
                    <a:cubicBezTo>
                      <a:pt x="3796" y="1549"/>
                      <a:pt x="8402" y="-9"/>
                      <a:pt x="13139" y="-8"/>
                    </a:cubicBezTo>
                    <a:cubicBezTo>
                      <a:pt x="25068" y="-8"/>
                      <a:pt x="34739" y="9662"/>
                      <a:pt x="34739" y="21591"/>
                    </a:cubicBezTo>
                    <a:cubicBezTo>
                      <a:pt x="34739" y="21821"/>
                      <a:pt x="34735" y="22051"/>
                      <a:pt x="34727" y="22281"/>
                    </a:cubicBezTo>
                    <a:lnTo>
                      <a:pt x="13139" y="21591"/>
                    </a:lnTo>
                    <a:lnTo>
                      <a:pt x="31" y="4424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2" name="AutoShape 124"/>
              <p:cNvSpPr/>
              <p:nvPr/>
            </p:nvSpPr>
            <p:spPr>
              <a:xfrm>
                <a:off x="7999560" y="1352520"/>
                <a:ext cx="247680" cy="75888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390" h="1194">
                    <a:moveTo>
                      <a:pt x="0" y="31"/>
                    </a:moveTo>
                    <a:cubicBezTo>
                      <a:pt x="55" y="15"/>
                      <a:pt x="112" y="0"/>
                      <a:pt x="120" y="7"/>
                    </a:cubicBezTo>
                    <a:cubicBezTo>
                      <a:pt x="128" y="15"/>
                      <a:pt x="39" y="67"/>
                      <a:pt x="47" y="80"/>
                    </a:cubicBezTo>
                    <a:cubicBezTo>
                      <a:pt x="55" y="91"/>
                      <a:pt x="160" y="67"/>
                      <a:pt x="168" y="80"/>
                    </a:cubicBezTo>
                    <a:cubicBezTo>
                      <a:pt x="176" y="91"/>
                      <a:pt x="91" y="136"/>
                      <a:pt x="95" y="152"/>
                    </a:cubicBezTo>
                    <a:cubicBezTo>
                      <a:pt x="99" y="168"/>
                      <a:pt x="184" y="165"/>
                      <a:pt x="192" y="177"/>
                    </a:cubicBezTo>
                    <a:cubicBezTo>
                      <a:pt x="200" y="188"/>
                      <a:pt x="136" y="213"/>
                      <a:pt x="144" y="225"/>
                    </a:cubicBezTo>
                    <a:cubicBezTo>
                      <a:pt x="152" y="238"/>
                      <a:pt x="233" y="238"/>
                      <a:pt x="241" y="249"/>
                    </a:cubicBezTo>
                    <a:cubicBezTo>
                      <a:pt x="249" y="262"/>
                      <a:pt x="188" y="285"/>
                      <a:pt x="192" y="298"/>
                    </a:cubicBezTo>
                    <a:cubicBezTo>
                      <a:pt x="196" y="310"/>
                      <a:pt x="257" y="310"/>
                      <a:pt x="265" y="322"/>
                    </a:cubicBezTo>
                    <a:cubicBezTo>
                      <a:pt x="273" y="334"/>
                      <a:pt x="237" y="354"/>
                      <a:pt x="241" y="370"/>
                    </a:cubicBezTo>
                    <a:cubicBezTo>
                      <a:pt x="245" y="386"/>
                      <a:pt x="281" y="403"/>
                      <a:pt x="289" y="420"/>
                    </a:cubicBezTo>
                    <a:cubicBezTo>
                      <a:pt x="297" y="435"/>
                      <a:pt x="281" y="448"/>
                      <a:pt x="289" y="467"/>
                    </a:cubicBezTo>
                    <a:cubicBezTo>
                      <a:pt x="297" y="487"/>
                      <a:pt x="334" y="517"/>
                      <a:pt x="338" y="540"/>
                    </a:cubicBezTo>
                    <a:cubicBezTo>
                      <a:pt x="342" y="564"/>
                      <a:pt x="309" y="593"/>
                      <a:pt x="313" y="614"/>
                    </a:cubicBezTo>
                    <a:cubicBezTo>
                      <a:pt x="317" y="633"/>
                      <a:pt x="358" y="641"/>
                      <a:pt x="362" y="661"/>
                    </a:cubicBezTo>
                    <a:cubicBezTo>
                      <a:pt x="366" y="682"/>
                      <a:pt x="338" y="709"/>
                      <a:pt x="338" y="735"/>
                    </a:cubicBezTo>
                    <a:cubicBezTo>
                      <a:pt x="338" y="758"/>
                      <a:pt x="362" y="787"/>
                      <a:pt x="362" y="806"/>
                    </a:cubicBezTo>
                    <a:cubicBezTo>
                      <a:pt x="362" y="827"/>
                      <a:pt x="334" y="835"/>
                      <a:pt x="338" y="855"/>
                    </a:cubicBezTo>
                    <a:cubicBezTo>
                      <a:pt x="342" y="875"/>
                      <a:pt x="382" y="903"/>
                      <a:pt x="386" y="928"/>
                    </a:cubicBezTo>
                    <a:cubicBezTo>
                      <a:pt x="390" y="953"/>
                      <a:pt x="362" y="972"/>
                      <a:pt x="362" y="1000"/>
                    </a:cubicBezTo>
                    <a:cubicBezTo>
                      <a:pt x="362" y="1029"/>
                      <a:pt x="386" y="1077"/>
                      <a:pt x="386" y="1097"/>
                    </a:cubicBezTo>
                    <a:cubicBezTo>
                      <a:pt x="386" y="1117"/>
                      <a:pt x="362" y="1105"/>
                      <a:pt x="362" y="1121"/>
                    </a:cubicBezTo>
                    <a:cubicBezTo>
                      <a:pt x="362" y="1138"/>
                      <a:pt x="374" y="1166"/>
                      <a:pt x="386" y="1194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3" name="AutoShape 125"/>
              <p:cNvSpPr/>
              <p:nvPr/>
            </p:nvSpPr>
            <p:spPr>
              <a:xfrm flipV="1" rot="19660800">
                <a:off x="7611840" y="1102320"/>
                <a:ext cx="225360" cy="43020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-360 h 430200"/>
                  <a:gd name="textAreaBottom" fmla="*/ 430200 h 430200"/>
                </a:gdLst>
                <a:ahLst/>
                <a:rect l="textAreaLeft" t="textAreaTop" r="textAreaRight" b="textAreaBottom"/>
                <a:pathLst>
                  <a:path w="355" h="677">
                    <a:moveTo>
                      <a:pt x="0" y="18"/>
                    </a:moveTo>
                    <a:cubicBezTo>
                      <a:pt x="50" y="9"/>
                      <a:pt x="101" y="0"/>
                      <a:pt x="109" y="4"/>
                    </a:cubicBezTo>
                    <a:cubicBezTo>
                      <a:pt x="116" y="9"/>
                      <a:pt x="35" y="38"/>
                      <a:pt x="43" y="45"/>
                    </a:cubicBezTo>
                    <a:cubicBezTo>
                      <a:pt x="50" y="52"/>
                      <a:pt x="146" y="38"/>
                      <a:pt x="153" y="45"/>
                    </a:cubicBezTo>
                    <a:cubicBezTo>
                      <a:pt x="160" y="52"/>
                      <a:pt x="83" y="77"/>
                      <a:pt x="87" y="86"/>
                    </a:cubicBezTo>
                    <a:cubicBezTo>
                      <a:pt x="90" y="95"/>
                      <a:pt x="168" y="93"/>
                      <a:pt x="175" y="100"/>
                    </a:cubicBezTo>
                    <a:cubicBezTo>
                      <a:pt x="182" y="107"/>
                      <a:pt x="123" y="121"/>
                      <a:pt x="131" y="127"/>
                    </a:cubicBezTo>
                    <a:cubicBezTo>
                      <a:pt x="138" y="134"/>
                      <a:pt x="212" y="134"/>
                      <a:pt x="219" y="141"/>
                    </a:cubicBezTo>
                    <a:cubicBezTo>
                      <a:pt x="226" y="148"/>
                      <a:pt x="171" y="162"/>
                      <a:pt x="175" y="169"/>
                    </a:cubicBezTo>
                    <a:cubicBezTo>
                      <a:pt x="179" y="175"/>
                      <a:pt x="234" y="175"/>
                      <a:pt x="241" y="182"/>
                    </a:cubicBezTo>
                    <a:cubicBezTo>
                      <a:pt x="248" y="189"/>
                      <a:pt x="215" y="201"/>
                      <a:pt x="219" y="210"/>
                    </a:cubicBezTo>
                    <a:cubicBezTo>
                      <a:pt x="223" y="219"/>
                      <a:pt x="256" y="228"/>
                      <a:pt x="263" y="237"/>
                    </a:cubicBezTo>
                    <a:cubicBezTo>
                      <a:pt x="271" y="246"/>
                      <a:pt x="256" y="253"/>
                      <a:pt x="263" y="264"/>
                    </a:cubicBezTo>
                    <a:cubicBezTo>
                      <a:pt x="271" y="276"/>
                      <a:pt x="304" y="292"/>
                      <a:pt x="307" y="306"/>
                    </a:cubicBezTo>
                    <a:cubicBezTo>
                      <a:pt x="311" y="319"/>
                      <a:pt x="282" y="335"/>
                      <a:pt x="285" y="347"/>
                    </a:cubicBezTo>
                    <a:cubicBezTo>
                      <a:pt x="289" y="358"/>
                      <a:pt x="326" y="363"/>
                      <a:pt x="329" y="374"/>
                    </a:cubicBezTo>
                    <a:cubicBezTo>
                      <a:pt x="333" y="386"/>
                      <a:pt x="307" y="402"/>
                      <a:pt x="307" y="415"/>
                    </a:cubicBezTo>
                    <a:cubicBezTo>
                      <a:pt x="307" y="429"/>
                      <a:pt x="329" y="445"/>
                      <a:pt x="329" y="457"/>
                    </a:cubicBezTo>
                    <a:cubicBezTo>
                      <a:pt x="329" y="469"/>
                      <a:pt x="304" y="473"/>
                      <a:pt x="307" y="485"/>
                    </a:cubicBezTo>
                    <a:cubicBezTo>
                      <a:pt x="311" y="496"/>
                      <a:pt x="348" y="512"/>
                      <a:pt x="351" y="526"/>
                    </a:cubicBezTo>
                    <a:cubicBezTo>
                      <a:pt x="355" y="540"/>
                      <a:pt x="329" y="551"/>
                      <a:pt x="329" y="567"/>
                    </a:cubicBezTo>
                    <a:cubicBezTo>
                      <a:pt x="329" y="583"/>
                      <a:pt x="351" y="610"/>
                      <a:pt x="351" y="622"/>
                    </a:cubicBezTo>
                    <a:cubicBezTo>
                      <a:pt x="351" y="633"/>
                      <a:pt x="329" y="626"/>
                      <a:pt x="329" y="636"/>
                    </a:cubicBezTo>
                    <a:cubicBezTo>
                      <a:pt x="329" y="645"/>
                      <a:pt x="340" y="661"/>
                      <a:pt x="351" y="677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4" name="AutoShape 126"/>
              <p:cNvSpPr/>
              <p:nvPr/>
            </p:nvSpPr>
            <p:spPr>
              <a:xfrm flipH="1">
                <a:off x="6345360" y="419040"/>
                <a:ext cx="1301760" cy="1222560"/>
              </a:xfrm>
              <a:custGeom>
                <a:avLst/>
                <a:gdLst>
                  <a:gd name="textAreaLeft" fmla="*/ 360 w 1301760"/>
                  <a:gd name="textAreaRight" fmla="*/ 1302480 w 1301760"/>
                  <a:gd name="textAreaTop" fmla="*/ 0 h 1222560"/>
                  <a:gd name="textAreaBottom" fmla="*/ 1222560 h 1222560"/>
                </a:gdLst>
                <a:ahLst/>
                <a:rect l="textAreaLeft" t="textAreaTop" r="textAreaRight" b="textAreaBottom"/>
                <a:pathLst>
                  <a:path fill="none" w="36760" h="22316">
                    <a:moveTo>
                      <a:pt x="-4" y="6303"/>
                    </a:moveTo>
                    <a:cubicBezTo>
                      <a:pt x="4048" y="2244"/>
                      <a:pt x="9548" y="-38"/>
                      <a:pt x="15283" y="-37"/>
                    </a:cubicBezTo>
                    <a:cubicBezTo>
                      <a:pt x="27212" y="-37"/>
                      <a:pt x="36883" y="9633"/>
                      <a:pt x="36883" y="21562"/>
                    </a:cubicBezTo>
                    <a:cubicBezTo>
                      <a:pt x="36883" y="21795"/>
                      <a:pt x="36879" y="22027"/>
                      <a:pt x="36871" y="22260"/>
                    </a:cubicBezTo>
                  </a:path>
                  <a:path w="36760" h="22316">
                    <a:moveTo>
                      <a:pt x="-4" y="6303"/>
                    </a:moveTo>
                    <a:cubicBezTo>
                      <a:pt x="4048" y="2244"/>
                      <a:pt x="9548" y="-38"/>
                      <a:pt x="15283" y="-37"/>
                    </a:cubicBezTo>
                    <a:cubicBezTo>
                      <a:pt x="27212" y="-37"/>
                      <a:pt x="36883" y="9633"/>
                      <a:pt x="36883" y="21562"/>
                    </a:cubicBezTo>
                    <a:cubicBezTo>
                      <a:pt x="36883" y="21795"/>
                      <a:pt x="36879" y="22027"/>
                      <a:pt x="36871" y="22260"/>
                    </a:cubicBezTo>
                    <a:lnTo>
                      <a:pt x="15283" y="21562"/>
                    </a:lnTo>
                    <a:lnTo>
                      <a:pt x="-4" y="6303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5" name="AutoShape 127"/>
              <p:cNvSpPr/>
              <p:nvPr/>
            </p:nvSpPr>
            <p:spPr>
              <a:xfrm flipH="1">
                <a:off x="6703920" y="160200"/>
                <a:ext cx="951120" cy="1182960"/>
              </a:xfrm>
              <a:custGeom>
                <a:avLst/>
                <a:gdLst>
                  <a:gd name="textAreaLeft" fmla="*/ 360 w 951120"/>
                  <a:gd name="textAreaRight" fmla="*/ 951840 w 9511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924" h="21600">
                    <a:moveTo>
                      <a:pt x="79" y="9963"/>
                    </a:moveTo>
                    <a:cubicBezTo>
                      <a:pt x="4048" y="3755"/>
                      <a:pt x="10908" y="-1"/>
                      <a:pt x="18276" y="0"/>
                    </a:cubicBezTo>
                    <a:cubicBezTo>
                      <a:pt x="23162" y="0"/>
                      <a:pt x="27903" y="1656"/>
                      <a:pt x="31726" y="4698"/>
                    </a:cubicBezTo>
                  </a:path>
                  <a:path w="31924" h="21600">
                    <a:moveTo>
                      <a:pt x="79" y="9963"/>
                    </a:moveTo>
                    <a:cubicBezTo>
                      <a:pt x="4048" y="3755"/>
                      <a:pt x="10908" y="-1"/>
                      <a:pt x="18276" y="0"/>
                    </a:cubicBezTo>
                    <a:cubicBezTo>
                      <a:pt x="23162" y="0"/>
                      <a:pt x="27903" y="1656"/>
                      <a:pt x="31726" y="4698"/>
                    </a:cubicBezTo>
                    <a:lnTo>
                      <a:pt x="18276" y="21599"/>
                    </a:lnTo>
                    <a:lnTo>
                      <a:pt x="79" y="9963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6" name="AutoShape 128"/>
              <p:cNvSpPr/>
              <p:nvPr/>
            </p:nvSpPr>
            <p:spPr>
              <a:xfrm>
                <a:off x="7724880" y="654120"/>
                <a:ext cx="393480" cy="118404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1184040"/>
                  <a:gd name="textAreaBottom" fmla="*/ 1184400 h 1184040"/>
                </a:gdLst>
                <a:ahLst/>
                <a:rect l="textAreaLeft" t="textAreaTop" r="textAreaRight" b="textAreaBottom"/>
                <a:pathLst>
                  <a:path fill="none" w="31248" h="21600">
                    <a:moveTo>
                      <a:pt x="-4" y="4234"/>
                    </a:moveTo>
                    <a:cubicBezTo>
                      <a:pt x="3714" y="1484"/>
                      <a:pt x="8217" y="-1"/>
                      <a:pt x="12842" y="0"/>
                    </a:cubicBezTo>
                    <a:cubicBezTo>
                      <a:pt x="20096" y="0"/>
                      <a:pt x="26865" y="3641"/>
                      <a:pt x="30864" y="9693"/>
                    </a:cubicBezTo>
                  </a:path>
                  <a:path w="31248" h="21600">
                    <a:moveTo>
                      <a:pt x="-4" y="4234"/>
                    </a:moveTo>
                    <a:cubicBezTo>
                      <a:pt x="3714" y="1484"/>
                      <a:pt x="8217" y="-1"/>
                      <a:pt x="12842" y="0"/>
                    </a:cubicBezTo>
                    <a:cubicBezTo>
                      <a:pt x="20096" y="0"/>
                      <a:pt x="26865" y="3641"/>
                      <a:pt x="30864" y="9693"/>
                    </a:cubicBezTo>
                    <a:lnTo>
                      <a:pt x="12842" y="21599"/>
                    </a:lnTo>
                    <a:lnTo>
                      <a:pt x="-4" y="4234"/>
                    </a:lnTo>
                    <a:close/>
                  </a:path>
                </a:pathLst>
              </a:custGeom>
              <a:noFill/>
              <a:ln w="9360">
                <a:solidFill>
                  <a:srgbClr val="04e8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7" name="AutoShape 129"/>
              <p:cNvSpPr/>
              <p:nvPr/>
            </p:nvSpPr>
            <p:spPr>
              <a:xfrm flipH="1">
                <a:off x="6554880" y="1285920"/>
                <a:ext cx="557280" cy="7808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877" h="1229">
                    <a:moveTo>
                      <a:pt x="0" y="32"/>
                    </a:moveTo>
                    <a:cubicBezTo>
                      <a:pt x="126" y="15"/>
                      <a:pt x="252" y="0"/>
                      <a:pt x="270" y="7"/>
                    </a:cubicBezTo>
                    <a:cubicBezTo>
                      <a:pt x="288" y="15"/>
                      <a:pt x="90" y="69"/>
                      <a:pt x="108" y="82"/>
                    </a:cubicBezTo>
                    <a:cubicBezTo>
                      <a:pt x="126" y="95"/>
                      <a:pt x="362" y="69"/>
                      <a:pt x="380" y="82"/>
                    </a:cubicBezTo>
                    <a:cubicBezTo>
                      <a:pt x="398" y="95"/>
                      <a:pt x="207" y="141"/>
                      <a:pt x="216" y="157"/>
                    </a:cubicBezTo>
                    <a:cubicBezTo>
                      <a:pt x="225" y="173"/>
                      <a:pt x="416" y="169"/>
                      <a:pt x="434" y="181"/>
                    </a:cubicBezTo>
                    <a:cubicBezTo>
                      <a:pt x="452" y="195"/>
                      <a:pt x="307" y="219"/>
                      <a:pt x="325" y="232"/>
                    </a:cubicBezTo>
                    <a:cubicBezTo>
                      <a:pt x="343" y="244"/>
                      <a:pt x="524" y="244"/>
                      <a:pt x="542" y="256"/>
                    </a:cubicBezTo>
                    <a:cubicBezTo>
                      <a:pt x="560" y="270"/>
                      <a:pt x="425" y="294"/>
                      <a:pt x="434" y="307"/>
                    </a:cubicBezTo>
                    <a:cubicBezTo>
                      <a:pt x="443" y="319"/>
                      <a:pt x="578" y="319"/>
                      <a:pt x="597" y="331"/>
                    </a:cubicBezTo>
                    <a:cubicBezTo>
                      <a:pt x="615" y="345"/>
                      <a:pt x="533" y="364"/>
                      <a:pt x="542" y="382"/>
                    </a:cubicBezTo>
                    <a:cubicBezTo>
                      <a:pt x="551" y="398"/>
                      <a:pt x="633" y="414"/>
                      <a:pt x="651" y="431"/>
                    </a:cubicBezTo>
                    <a:cubicBezTo>
                      <a:pt x="669" y="448"/>
                      <a:pt x="633" y="460"/>
                      <a:pt x="651" y="481"/>
                    </a:cubicBezTo>
                    <a:cubicBezTo>
                      <a:pt x="669" y="502"/>
                      <a:pt x="751" y="531"/>
                      <a:pt x="760" y="556"/>
                    </a:cubicBezTo>
                    <a:cubicBezTo>
                      <a:pt x="769" y="581"/>
                      <a:pt x="696" y="610"/>
                      <a:pt x="706" y="631"/>
                    </a:cubicBezTo>
                    <a:cubicBezTo>
                      <a:pt x="715" y="651"/>
                      <a:pt x="805" y="660"/>
                      <a:pt x="814" y="680"/>
                    </a:cubicBezTo>
                    <a:cubicBezTo>
                      <a:pt x="823" y="701"/>
                      <a:pt x="760" y="730"/>
                      <a:pt x="760" y="755"/>
                    </a:cubicBezTo>
                    <a:cubicBezTo>
                      <a:pt x="760" y="780"/>
                      <a:pt x="814" y="809"/>
                      <a:pt x="814" y="830"/>
                    </a:cubicBezTo>
                    <a:cubicBezTo>
                      <a:pt x="814" y="851"/>
                      <a:pt x="751" y="859"/>
                      <a:pt x="760" y="880"/>
                    </a:cubicBezTo>
                    <a:cubicBezTo>
                      <a:pt x="769" y="901"/>
                      <a:pt x="859" y="930"/>
                      <a:pt x="868" y="955"/>
                    </a:cubicBezTo>
                    <a:cubicBezTo>
                      <a:pt x="877" y="980"/>
                      <a:pt x="814" y="1001"/>
                      <a:pt x="814" y="1030"/>
                    </a:cubicBezTo>
                    <a:cubicBezTo>
                      <a:pt x="814" y="1059"/>
                      <a:pt x="868" y="1109"/>
                      <a:pt x="868" y="1129"/>
                    </a:cubicBezTo>
                    <a:cubicBezTo>
                      <a:pt x="868" y="1150"/>
                      <a:pt x="814" y="1138"/>
                      <a:pt x="814" y="1154"/>
                    </a:cubicBezTo>
                    <a:cubicBezTo>
                      <a:pt x="814" y="1171"/>
                      <a:pt x="841" y="1200"/>
                      <a:pt x="868" y="1229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8" name="AutoShape 130"/>
              <p:cNvSpPr/>
              <p:nvPr/>
            </p:nvSpPr>
            <p:spPr>
              <a:xfrm flipH="1">
                <a:off x="6815880" y="458640"/>
                <a:ext cx="357480" cy="782640"/>
              </a:xfrm>
              <a:custGeom>
                <a:avLst/>
                <a:gdLst>
                  <a:gd name="textAreaLeft" fmla="*/ -360 w 357480"/>
                  <a:gd name="textAreaRight" fmla="*/ 357480 w 3574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562" h="1232">
                    <a:moveTo>
                      <a:pt x="0" y="33"/>
                    </a:moveTo>
                    <a:cubicBezTo>
                      <a:pt x="81" y="16"/>
                      <a:pt x="162" y="0"/>
                      <a:pt x="174" y="8"/>
                    </a:cubicBezTo>
                    <a:cubicBezTo>
                      <a:pt x="185" y="16"/>
                      <a:pt x="58" y="70"/>
                      <a:pt x="69" y="83"/>
                    </a:cubicBezTo>
                    <a:cubicBezTo>
                      <a:pt x="81" y="95"/>
                      <a:pt x="232" y="70"/>
                      <a:pt x="243" y="83"/>
                    </a:cubicBezTo>
                    <a:cubicBezTo>
                      <a:pt x="255" y="95"/>
                      <a:pt x="133" y="141"/>
                      <a:pt x="139" y="158"/>
                    </a:cubicBezTo>
                    <a:cubicBezTo>
                      <a:pt x="145" y="174"/>
                      <a:pt x="266" y="170"/>
                      <a:pt x="278" y="183"/>
                    </a:cubicBezTo>
                    <a:cubicBezTo>
                      <a:pt x="290" y="195"/>
                      <a:pt x="197" y="220"/>
                      <a:pt x="208" y="233"/>
                    </a:cubicBezTo>
                    <a:cubicBezTo>
                      <a:pt x="220" y="245"/>
                      <a:pt x="336" y="245"/>
                      <a:pt x="348" y="258"/>
                    </a:cubicBezTo>
                    <a:cubicBezTo>
                      <a:pt x="359" y="270"/>
                      <a:pt x="272" y="295"/>
                      <a:pt x="278" y="308"/>
                    </a:cubicBezTo>
                    <a:cubicBezTo>
                      <a:pt x="284" y="320"/>
                      <a:pt x="371" y="320"/>
                      <a:pt x="382" y="333"/>
                    </a:cubicBezTo>
                    <a:cubicBezTo>
                      <a:pt x="394" y="345"/>
                      <a:pt x="342" y="366"/>
                      <a:pt x="348" y="383"/>
                    </a:cubicBezTo>
                    <a:cubicBezTo>
                      <a:pt x="353" y="399"/>
                      <a:pt x="406" y="416"/>
                      <a:pt x="417" y="433"/>
                    </a:cubicBezTo>
                    <a:cubicBezTo>
                      <a:pt x="429" y="449"/>
                      <a:pt x="406" y="462"/>
                      <a:pt x="417" y="483"/>
                    </a:cubicBezTo>
                    <a:cubicBezTo>
                      <a:pt x="429" y="503"/>
                      <a:pt x="481" y="533"/>
                      <a:pt x="487" y="558"/>
                    </a:cubicBezTo>
                    <a:cubicBezTo>
                      <a:pt x="493" y="583"/>
                      <a:pt x="446" y="612"/>
                      <a:pt x="452" y="633"/>
                    </a:cubicBezTo>
                    <a:cubicBezTo>
                      <a:pt x="458" y="653"/>
                      <a:pt x="516" y="662"/>
                      <a:pt x="522" y="683"/>
                    </a:cubicBezTo>
                    <a:cubicBezTo>
                      <a:pt x="527" y="703"/>
                      <a:pt x="487" y="733"/>
                      <a:pt x="487" y="758"/>
                    </a:cubicBezTo>
                    <a:cubicBezTo>
                      <a:pt x="487" y="782"/>
                      <a:pt x="522" y="812"/>
                      <a:pt x="522" y="832"/>
                    </a:cubicBezTo>
                    <a:cubicBezTo>
                      <a:pt x="522" y="853"/>
                      <a:pt x="481" y="862"/>
                      <a:pt x="487" y="882"/>
                    </a:cubicBezTo>
                    <a:cubicBezTo>
                      <a:pt x="493" y="903"/>
                      <a:pt x="551" y="932"/>
                      <a:pt x="556" y="957"/>
                    </a:cubicBezTo>
                    <a:cubicBezTo>
                      <a:pt x="562" y="982"/>
                      <a:pt x="522" y="1003"/>
                      <a:pt x="522" y="1032"/>
                    </a:cubicBezTo>
                    <a:cubicBezTo>
                      <a:pt x="522" y="1062"/>
                      <a:pt x="556" y="1112"/>
                      <a:pt x="556" y="1132"/>
                    </a:cubicBezTo>
                    <a:cubicBezTo>
                      <a:pt x="556" y="1153"/>
                      <a:pt x="522" y="1141"/>
                      <a:pt x="522" y="1157"/>
                    </a:cubicBezTo>
                    <a:cubicBezTo>
                      <a:pt x="522" y="1174"/>
                      <a:pt x="539" y="1203"/>
                      <a:pt x="556" y="1232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9" name="AutoShape 131"/>
              <p:cNvSpPr/>
              <p:nvPr/>
            </p:nvSpPr>
            <p:spPr>
              <a:xfrm flipH="1">
                <a:off x="7227720" y="225360"/>
                <a:ext cx="214560" cy="78120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200"/>
                  <a:gd name="textAreaBottom" fmla="*/ 781560 h 781200"/>
                </a:gdLst>
                <a:ahLst/>
                <a:rect l="textAreaLeft" t="textAreaTop" r="textAreaRight" b="textAreaBottom"/>
                <a:pathLst>
                  <a:path w="337" h="1230">
                    <a:moveTo>
                      <a:pt x="0" y="33"/>
                    </a:moveTo>
                    <a:cubicBezTo>
                      <a:pt x="47" y="15"/>
                      <a:pt x="96" y="0"/>
                      <a:pt x="103" y="8"/>
                    </a:cubicBezTo>
                    <a:cubicBezTo>
                      <a:pt x="110" y="15"/>
                      <a:pt x="33" y="70"/>
                      <a:pt x="40" y="83"/>
                    </a:cubicBezTo>
                    <a:cubicBezTo>
                      <a:pt x="47" y="95"/>
                      <a:pt x="138" y="70"/>
                      <a:pt x="145" y="83"/>
                    </a:cubicBezTo>
                    <a:cubicBezTo>
                      <a:pt x="152" y="95"/>
                      <a:pt x="79" y="141"/>
                      <a:pt x="82" y="158"/>
                    </a:cubicBezTo>
                    <a:cubicBezTo>
                      <a:pt x="86" y="174"/>
                      <a:pt x="159" y="170"/>
                      <a:pt x="166" y="182"/>
                    </a:cubicBezTo>
                    <a:cubicBezTo>
                      <a:pt x="173" y="195"/>
                      <a:pt x="117" y="220"/>
                      <a:pt x="124" y="232"/>
                    </a:cubicBezTo>
                    <a:cubicBezTo>
                      <a:pt x="131" y="245"/>
                      <a:pt x="201" y="245"/>
                      <a:pt x="208" y="257"/>
                    </a:cubicBezTo>
                    <a:cubicBezTo>
                      <a:pt x="215" y="270"/>
                      <a:pt x="162" y="295"/>
                      <a:pt x="166" y="307"/>
                    </a:cubicBezTo>
                    <a:cubicBezTo>
                      <a:pt x="169" y="320"/>
                      <a:pt x="222" y="320"/>
                      <a:pt x="228" y="332"/>
                    </a:cubicBezTo>
                    <a:cubicBezTo>
                      <a:pt x="235" y="345"/>
                      <a:pt x="204" y="365"/>
                      <a:pt x="208" y="382"/>
                    </a:cubicBezTo>
                    <a:cubicBezTo>
                      <a:pt x="211" y="399"/>
                      <a:pt x="242" y="415"/>
                      <a:pt x="249" y="432"/>
                    </a:cubicBezTo>
                    <a:cubicBezTo>
                      <a:pt x="256" y="449"/>
                      <a:pt x="242" y="461"/>
                      <a:pt x="249" y="482"/>
                    </a:cubicBezTo>
                    <a:cubicBezTo>
                      <a:pt x="256" y="503"/>
                      <a:pt x="288" y="532"/>
                      <a:pt x="291" y="557"/>
                    </a:cubicBezTo>
                    <a:cubicBezTo>
                      <a:pt x="295" y="582"/>
                      <a:pt x="267" y="611"/>
                      <a:pt x="270" y="632"/>
                    </a:cubicBezTo>
                    <a:cubicBezTo>
                      <a:pt x="274" y="652"/>
                      <a:pt x="309" y="661"/>
                      <a:pt x="312" y="681"/>
                    </a:cubicBezTo>
                    <a:cubicBezTo>
                      <a:pt x="316" y="702"/>
                      <a:pt x="291" y="731"/>
                      <a:pt x="291" y="756"/>
                    </a:cubicBezTo>
                    <a:cubicBezTo>
                      <a:pt x="291" y="781"/>
                      <a:pt x="312" y="810"/>
                      <a:pt x="312" y="831"/>
                    </a:cubicBezTo>
                    <a:cubicBezTo>
                      <a:pt x="312" y="852"/>
                      <a:pt x="288" y="860"/>
                      <a:pt x="291" y="881"/>
                    </a:cubicBezTo>
                    <a:cubicBezTo>
                      <a:pt x="295" y="902"/>
                      <a:pt x="330" y="931"/>
                      <a:pt x="333" y="956"/>
                    </a:cubicBezTo>
                    <a:cubicBezTo>
                      <a:pt x="337" y="981"/>
                      <a:pt x="312" y="1002"/>
                      <a:pt x="312" y="1031"/>
                    </a:cubicBezTo>
                    <a:cubicBezTo>
                      <a:pt x="312" y="1060"/>
                      <a:pt x="333" y="1110"/>
                      <a:pt x="333" y="1130"/>
                    </a:cubicBezTo>
                    <a:cubicBezTo>
                      <a:pt x="333" y="1151"/>
                      <a:pt x="312" y="1139"/>
                      <a:pt x="312" y="1155"/>
                    </a:cubicBezTo>
                    <a:cubicBezTo>
                      <a:pt x="312" y="1172"/>
                      <a:pt x="323" y="1201"/>
                      <a:pt x="333" y="1230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30" name="AutoShape 132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>
                  <a:gd name="textAreaLeft" fmla="*/ 0 w 517680"/>
                  <a:gd name="textAreaRight" fmla="*/ 518040 w 517680"/>
                  <a:gd name="textAreaTop" fmla="*/ 0 h 822240"/>
                  <a:gd name="textAreaBottom" fmla="*/ 822600 h 822240"/>
                </a:gdLst>
                <a:ahLst/>
                <a:rect l="textAreaLeft" t="textAreaTop" r="textAreaRight" b="textAreaBottom"/>
                <a:pathLst>
                  <a:path w="815" h="1295">
                    <a:moveTo>
                      <a:pt x="0" y="34"/>
                    </a:moveTo>
                    <a:cubicBezTo>
                      <a:pt x="117" y="17"/>
                      <a:pt x="235" y="0"/>
                      <a:pt x="251" y="8"/>
                    </a:cubicBezTo>
                    <a:cubicBezTo>
                      <a:pt x="268" y="17"/>
                      <a:pt x="83" y="74"/>
                      <a:pt x="100" y="87"/>
                    </a:cubicBezTo>
                    <a:cubicBezTo>
                      <a:pt x="117" y="100"/>
                      <a:pt x="335" y="74"/>
                      <a:pt x="352" y="87"/>
                    </a:cubicBezTo>
                    <a:cubicBezTo>
                      <a:pt x="369" y="100"/>
                      <a:pt x="193" y="148"/>
                      <a:pt x="201" y="166"/>
                    </a:cubicBezTo>
                    <a:cubicBezTo>
                      <a:pt x="209" y="183"/>
                      <a:pt x="386" y="179"/>
                      <a:pt x="402" y="192"/>
                    </a:cubicBezTo>
                    <a:cubicBezTo>
                      <a:pt x="419" y="205"/>
                      <a:pt x="285" y="231"/>
                      <a:pt x="302" y="244"/>
                    </a:cubicBezTo>
                    <a:cubicBezTo>
                      <a:pt x="318" y="258"/>
                      <a:pt x="486" y="258"/>
                      <a:pt x="503" y="271"/>
                    </a:cubicBezTo>
                    <a:cubicBezTo>
                      <a:pt x="520" y="284"/>
                      <a:pt x="394" y="310"/>
                      <a:pt x="402" y="323"/>
                    </a:cubicBezTo>
                    <a:cubicBezTo>
                      <a:pt x="411" y="336"/>
                      <a:pt x="537" y="336"/>
                      <a:pt x="553" y="349"/>
                    </a:cubicBezTo>
                    <a:cubicBezTo>
                      <a:pt x="570" y="363"/>
                      <a:pt x="495" y="384"/>
                      <a:pt x="503" y="402"/>
                    </a:cubicBezTo>
                    <a:cubicBezTo>
                      <a:pt x="511" y="419"/>
                      <a:pt x="587" y="437"/>
                      <a:pt x="604" y="454"/>
                    </a:cubicBezTo>
                    <a:cubicBezTo>
                      <a:pt x="621" y="472"/>
                      <a:pt x="587" y="485"/>
                      <a:pt x="604" y="507"/>
                    </a:cubicBezTo>
                    <a:cubicBezTo>
                      <a:pt x="621" y="529"/>
                      <a:pt x="696" y="559"/>
                      <a:pt x="705" y="586"/>
                    </a:cubicBezTo>
                    <a:cubicBezTo>
                      <a:pt x="713" y="612"/>
                      <a:pt x="646" y="642"/>
                      <a:pt x="654" y="664"/>
                    </a:cubicBezTo>
                    <a:cubicBezTo>
                      <a:pt x="663" y="686"/>
                      <a:pt x="746" y="695"/>
                      <a:pt x="755" y="717"/>
                    </a:cubicBezTo>
                    <a:cubicBezTo>
                      <a:pt x="763" y="739"/>
                      <a:pt x="705" y="769"/>
                      <a:pt x="705" y="796"/>
                    </a:cubicBezTo>
                    <a:cubicBezTo>
                      <a:pt x="705" y="822"/>
                      <a:pt x="755" y="852"/>
                      <a:pt x="755" y="874"/>
                    </a:cubicBezTo>
                    <a:cubicBezTo>
                      <a:pt x="755" y="896"/>
                      <a:pt x="696" y="905"/>
                      <a:pt x="705" y="927"/>
                    </a:cubicBezTo>
                    <a:cubicBezTo>
                      <a:pt x="713" y="949"/>
                      <a:pt x="797" y="979"/>
                      <a:pt x="805" y="1005"/>
                    </a:cubicBezTo>
                    <a:cubicBezTo>
                      <a:pt x="815" y="1032"/>
                      <a:pt x="755" y="1054"/>
                      <a:pt x="755" y="1084"/>
                    </a:cubicBezTo>
                    <a:cubicBezTo>
                      <a:pt x="755" y="1115"/>
                      <a:pt x="805" y="1167"/>
                      <a:pt x="805" y="1189"/>
                    </a:cubicBezTo>
                    <a:cubicBezTo>
                      <a:pt x="805" y="1211"/>
                      <a:pt x="755" y="1198"/>
                      <a:pt x="755" y="1215"/>
                    </a:cubicBezTo>
                    <a:cubicBezTo>
                      <a:pt x="755" y="1233"/>
                      <a:pt x="780" y="1264"/>
                      <a:pt x="805" y="1295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31" name="AutoShape 133"/>
              <p:cNvSpPr/>
              <p:nvPr/>
            </p:nvSpPr>
            <p:spPr>
              <a:xfrm>
                <a:off x="8294760" y="754200"/>
                <a:ext cx="777960" cy="547560"/>
              </a:xfrm>
              <a:custGeom>
                <a:avLst/>
                <a:gdLst>
                  <a:gd name="textAreaLeft" fmla="*/ 0 w 777960"/>
                  <a:gd name="textAreaRight" fmla="*/ 778320 w 7779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224" h="862">
                    <a:moveTo>
                      <a:pt x="0" y="22"/>
                    </a:moveTo>
                    <a:cubicBezTo>
                      <a:pt x="175" y="10"/>
                      <a:pt x="352" y="0"/>
                      <a:pt x="378" y="4"/>
                    </a:cubicBezTo>
                    <a:cubicBezTo>
                      <a:pt x="403" y="10"/>
                      <a:pt x="125" y="48"/>
                      <a:pt x="150" y="57"/>
                    </a:cubicBezTo>
                    <a:cubicBezTo>
                      <a:pt x="175" y="66"/>
                      <a:pt x="504" y="48"/>
                      <a:pt x="529" y="57"/>
                    </a:cubicBezTo>
                    <a:cubicBezTo>
                      <a:pt x="555" y="66"/>
                      <a:pt x="289" y="98"/>
                      <a:pt x="302" y="109"/>
                    </a:cubicBezTo>
                    <a:cubicBezTo>
                      <a:pt x="315" y="121"/>
                      <a:pt x="580" y="118"/>
                      <a:pt x="605" y="127"/>
                    </a:cubicBezTo>
                    <a:cubicBezTo>
                      <a:pt x="631" y="136"/>
                      <a:pt x="428" y="153"/>
                      <a:pt x="454" y="162"/>
                    </a:cubicBezTo>
                    <a:cubicBezTo>
                      <a:pt x="479" y="171"/>
                      <a:pt x="732" y="171"/>
                      <a:pt x="757" y="179"/>
                    </a:cubicBezTo>
                    <a:cubicBezTo>
                      <a:pt x="782" y="188"/>
                      <a:pt x="593" y="206"/>
                      <a:pt x="605" y="214"/>
                    </a:cubicBezTo>
                    <a:cubicBezTo>
                      <a:pt x="618" y="223"/>
                      <a:pt x="808" y="223"/>
                      <a:pt x="833" y="232"/>
                    </a:cubicBezTo>
                    <a:cubicBezTo>
                      <a:pt x="858" y="241"/>
                      <a:pt x="744" y="255"/>
                      <a:pt x="757" y="267"/>
                    </a:cubicBezTo>
                    <a:cubicBezTo>
                      <a:pt x="770" y="279"/>
                      <a:pt x="883" y="290"/>
                      <a:pt x="909" y="302"/>
                    </a:cubicBezTo>
                    <a:cubicBezTo>
                      <a:pt x="934" y="314"/>
                      <a:pt x="883" y="322"/>
                      <a:pt x="909" y="337"/>
                    </a:cubicBezTo>
                    <a:cubicBezTo>
                      <a:pt x="934" y="352"/>
                      <a:pt x="1048" y="372"/>
                      <a:pt x="1060" y="390"/>
                    </a:cubicBezTo>
                    <a:cubicBezTo>
                      <a:pt x="1073" y="407"/>
                      <a:pt x="972" y="427"/>
                      <a:pt x="985" y="442"/>
                    </a:cubicBezTo>
                    <a:cubicBezTo>
                      <a:pt x="997" y="457"/>
                      <a:pt x="1124" y="462"/>
                      <a:pt x="1136" y="477"/>
                    </a:cubicBezTo>
                    <a:cubicBezTo>
                      <a:pt x="1149" y="492"/>
                      <a:pt x="1060" y="512"/>
                      <a:pt x="1060" y="530"/>
                    </a:cubicBezTo>
                    <a:cubicBezTo>
                      <a:pt x="1060" y="547"/>
                      <a:pt x="1136" y="568"/>
                      <a:pt x="1136" y="582"/>
                    </a:cubicBezTo>
                    <a:cubicBezTo>
                      <a:pt x="1136" y="597"/>
                      <a:pt x="1048" y="603"/>
                      <a:pt x="1060" y="617"/>
                    </a:cubicBezTo>
                    <a:cubicBezTo>
                      <a:pt x="1073" y="632"/>
                      <a:pt x="1200" y="652"/>
                      <a:pt x="1212" y="670"/>
                    </a:cubicBezTo>
                    <a:cubicBezTo>
                      <a:pt x="1224" y="687"/>
                      <a:pt x="1136" y="702"/>
                      <a:pt x="1136" y="722"/>
                    </a:cubicBezTo>
                    <a:cubicBezTo>
                      <a:pt x="1136" y="743"/>
                      <a:pt x="1212" y="778"/>
                      <a:pt x="1212" y="792"/>
                    </a:cubicBezTo>
                    <a:cubicBezTo>
                      <a:pt x="1212" y="807"/>
                      <a:pt x="1136" y="798"/>
                      <a:pt x="1136" y="810"/>
                    </a:cubicBezTo>
                    <a:cubicBezTo>
                      <a:pt x="1136" y="821"/>
                      <a:pt x="1174" y="842"/>
                      <a:pt x="1212" y="862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32" name="AutoShape 134"/>
              <p:cNvSpPr/>
              <p:nvPr/>
            </p:nvSpPr>
            <p:spPr>
              <a:xfrm>
                <a:off x="8323200" y="173160"/>
                <a:ext cx="339840" cy="73476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734760"/>
                  <a:gd name="textAreaBottom" fmla="*/ 735120 h 734760"/>
                </a:gdLst>
                <a:ahLst/>
                <a:rect l="textAreaLeft" t="textAreaTop" r="textAreaRight" b="textAreaBottom"/>
                <a:pathLst>
                  <a:path w="534" h="1157">
                    <a:moveTo>
                      <a:pt x="0" y="30"/>
                    </a:moveTo>
                    <a:cubicBezTo>
                      <a:pt x="77" y="14"/>
                      <a:pt x="153" y="0"/>
                      <a:pt x="165" y="6"/>
                    </a:cubicBezTo>
                    <a:cubicBezTo>
                      <a:pt x="176" y="14"/>
                      <a:pt x="55" y="65"/>
                      <a:pt x="66" y="77"/>
                    </a:cubicBezTo>
                    <a:cubicBezTo>
                      <a:pt x="77" y="89"/>
                      <a:pt x="219" y="65"/>
                      <a:pt x="231" y="77"/>
                    </a:cubicBezTo>
                    <a:cubicBezTo>
                      <a:pt x="243" y="89"/>
                      <a:pt x="127" y="132"/>
                      <a:pt x="131" y="147"/>
                    </a:cubicBezTo>
                    <a:cubicBezTo>
                      <a:pt x="137" y="163"/>
                      <a:pt x="254" y="159"/>
                      <a:pt x="264" y="171"/>
                    </a:cubicBezTo>
                    <a:cubicBezTo>
                      <a:pt x="275" y="182"/>
                      <a:pt x="187" y="206"/>
                      <a:pt x="197" y="218"/>
                    </a:cubicBezTo>
                    <a:cubicBezTo>
                      <a:pt x="208" y="229"/>
                      <a:pt x="319" y="229"/>
                      <a:pt x="330" y="241"/>
                    </a:cubicBezTo>
                    <a:cubicBezTo>
                      <a:pt x="342" y="253"/>
                      <a:pt x="258" y="276"/>
                      <a:pt x="264" y="288"/>
                    </a:cubicBezTo>
                    <a:cubicBezTo>
                      <a:pt x="269" y="300"/>
                      <a:pt x="352" y="300"/>
                      <a:pt x="363" y="312"/>
                    </a:cubicBezTo>
                    <a:cubicBezTo>
                      <a:pt x="374" y="323"/>
                      <a:pt x="324" y="343"/>
                      <a:pt x="330" y="359"/>
                    </a:cubicBezTo>
                    <a:cubicBezTo>
                      <a:pt x="335" y="374"/>
                      <a:pt x="385" y="390"/>
                      <a:pt x="396" y="406"/>
                    </a:cubicBezTo>
                    <a:cubicBezTo>
                      <a:pt x="407" y="421"/>
                      <a:pt x="385" y="433"/>
                      <a:pt x="396" y="453"/>
                    </a:cubicBezTo>
                    <a:cubicBezTo>
                      <a:pt x="407" y="472"/>
                      <a:pt x="457" y="500"/>
                      <a:pt x="463" y="523"/>
                    </a:cubicBezTo>
                    <a:cubicBezTo>
                      <a:pt x="468" y="546"/>
                      <a:pt x="424" y="574"/>
                      <a:pt x="429" y="593"/>
                    </a:cubicBezTo>
                    <a:cubicBezTo>
                      <a:pt x="435" y="613"/>
                      <a:pt x="490" y="621"/>
                      <a:pt x="496" y="640"/>
                    </a:cubicBezTo>
                    <a:cubicBezTo>
                      <a:pt x="501" y="660"/>
                      <a:pt x="463" y="687"/>
                      <a:pt x="463" y="711"/>
                    </a:cubicBezTo>
                    <a:cubicBezTo>
                      <a:pt x="463" y="734"/>
                      <a:pt x="496" y="762"/>
                      <a:pt x="496" y="781"/>
                    </a:cubicBezTo>
                    <a:cubicBezTo>
                      <a:pt x="496" y="801"/>
                      <a:pt x="457" y="809"/>
                      <a:pt x="463" y="828"/>
                    </a:cubicBezTo>
                    <a:cubicBezTo>
                      <a:pt x="468" y="848"/>
                      <a:pt x="523" y="875"/>
                      <a:pt x="529" y="899"/>
                    </a:cubicBezTo>
                    <a:cubicBezTo>
                      <a:pt x="534" y="922"/>
                      <a:pt x="496" y="942"/>
                      <a:pt x="496" y="969"/>
                    </a:cubicBezTo>
                    <a:cubicBezTo>
                      <a:pt x="496" y="997"/>
                      <a:pt x="529" y="1044"/>
                      <a:pt x="529" y="1063"/>
                    </a:cubicBezTo>
                    <a:cubicBezTo>
                      <a:pt x="529" y="1083"/>
                      <a:pt x="496" y="1071"/>
                      <a:pt x="496" y="1087"/>
                    </a:cubicBezTo>
                    <a:cubicBezTo>
                      <a:pt x="496" y="1102"/>
                      <a:pt x="512" y="1130"/>
                      <a:pt x="529" y="1157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33" name="AutoShape 135"/>
              <p:cNvSpPr/>
              <p:nvPr/>
            </p:nvSpPr>
            <p:spPr>
              <a:xfrm rot="20253000">
                <a:off x="7986600" y="783720"/>
                <a:ext cx="228600" cy="4302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59" h="677">
                    <a:moveTo>
                      <a:pt x="0" y="17"/>
                    </a:moveTo>
                    <a:cubicBezTo>
                      <a:pt x="51" y="8"/>
                      <a:pt x="103" y="0"/>
                      <a:pt x="110" y="3"/>
                    </a:cubicBezTo>
                    <a:cubicBezTo>
                      <a:pt x="118" y="8"/>
                      <a:pt x="36" y="37"/>
                      <a:pt x="44" y="44"/>
                    </a:cubicBezTo>
                    <a:cubicBezTo>
                      <a:pt x="51" y="51"/>
                      <a:pt x="147" y="37"/>
                      <a:pt x="155" y="44"/>
                    </a:cubicBezTo>
                    <a:cubicBezTo>
                      <a:pt x="162" y="51"/>
                      <a:pt x="85" y="76"/>
                      <a:pt x="88" y="86"/>
                    </a:cubicBezTo>
                    <a:cubicBezTo>
                      <a:pt x="92" y="95"/>
                      <a:pt x="170" y="92"/>
                      <a:pt x="177" y="99"/>
                    </a:cubicBezTo>
                    <a:cubicBezTo>
                      <a:pt x="185" y="106"/>
                      <a:pt x="125" y="120"/>
                      <a:pt x="133" y="127"/>
                    </a:cubicBezTo>
                    <a:cubicBezTo>
                      <a:pt x="140" y="134"/>
                      <a:pt x="215" y="134"/>
                      <a:pt x="222" y="141"/>
                    </a:cubicBezTo>
                    <a:cubicBezTo>
                      <a:pt x="230" y="147"/>
                      <a:pt x="173" y="161"/>
                      <a:pt x="177" y="168"/>
                    </a:cubicBezTo>
                    <a:cubicBezTo>
                      <a:pt x="182" y="175"/>
                      <a:pt x="237" y="175"/>
                      <a:pt x="245" y="182"/>
                    </a:cubicBezTo>
                    <a:cubicBezTo>
                      <a:pt x="252" y="189"/>
                      <a:pt x="219" y="200"/>
                      <a:pt x="222" y="209"/>
                    </a:cubicBezTo>
                    <a:cubicBezTo>
                      <a:pt x="226" y="218"/>
                      <a:pt x="259" y="228"/>
                      <a:pt x="267" y="237"/>
                    </a:cubicBezTo>
                    <a:cubicBezTo>
                      <a:pt x="274" y="246"/>
                      <a:pt x="259" y="253"/>
                      <a:pt x="267" y="264"/>
                    </a:cubicBezTo>
                    <a:cubicBezTo>
                      <a:pt x="274" y="276"/>
                      <a:pt x="307" y="292"/>
                      <a:pt x="311" y="306"/>
                    </a:cubicBezTo>
                    <a:cubicBezTo>
                      <a:pt x="315" y="319"/>
                      <a:pt x="285" y="335"/>
                      <a:pt x="289" y="347"/>
                    </a:cubicBezTo>
                    <a:cubicBezTo>
                      <a:pt x="293" y="358"/>
                      <a:pt x="330" y="363"/>
                      <a:pt x="333" y="374"/>
                    </a:cubicBezTo>
                    <a:cubicBezTo>
                      <a:pt x="337" y="386"/>
                      <a:pt x="311" y="402"/>
                      <a:pt x="311" y="416"/>
                    </a:cubicBezTo>
                    <a:cubicBezTo>
                      <a:pt x="311" y="429"/>
                      <a:pt x="333" y="445"/>
                      <a:pt x="333" y="457"/>
                    </a:cubicBezTo>
                    <a:cubicBezTo>
                      <a:pt x="333" y="468"/>
                      <a:pt x="307" y="473"/>
                      <a:pt x="311" y="484"/>
                    </a:cubicBezTo>
                    <a:cubicBezTo>
                      <a:pt x="315" y="496"/>
                      <a:pt x="352" y="512"/>
                      <a:pt x="355" y="526"/>
                    </a:cubicBezTo>
                    <a:cubicBezTo>
                      <a:pt x="360" y="539"/>
                      <a:pt x="333" y="551"/>
                      <a:pt x="333" y="567"/>
                    </a:cubicBezTo>
                    <a:cubicBezTo>
                      <a:pt x="333" y="583"/>
                      <a:pt x="355" y="610"/>
                      <a:pt x="355" y="622"/>
                    </a:cubicBezTo>
                    <a:cubicBezTo>
                      <a:pt x="355" y="633"/>
                      <a:pt x="333" y="626"/>
                      <a:pt x="333" y="636"/>
                    </a:cubicBezTo>
                    <a:cubicBezTo>
                      <a:pt x="333" y="645"/>
                      <a:pt x="344" y="661"/>
                      <a:pt x="355" y="677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34" name="AutoShape 136"/>
              <p:cNvSpPr/>
              <p:nvPr/>
            </p:nvSpPr>
            <p:spPr>
              <a:xfrm flipH="1" rot="1347000">
                <a:off x="7178040" y="773280"/>
                <a:ext cx="225360" cy="429840"/>
              </a:xfrm>
              <a:custGeom>
                <a:avLst/>
                <a:gdLst>
                  <a:gd name="textAreaLeft" fmla="*/ 360 w 225360"/>
                  <a:gd name="textAreaRight" fmla="*/ 226080 w 225360"/>
                  <a:gd name="textAreaTop" fmla="*/ 0 h 429840"/>
                  <a:gd name="textAreaBottom" fmla="*/ 430200 h 429840"/>
                </a:gdLst>
                <a:ahLst/>
                <a:rect l="textAreaLeft" t="textAreaTop" r="textAreaRight" b="textAreaBottom"/>
                <a:pathLst>
                  <a:path w="355" h="677">
                    <a:moveTo>
                      <a:pt x="0" y="17"/>
                    </a:moveTo>
                    <a:cubicBezTo>
                      <a:pt x="50" y="8"/>
                      <a:pt x="101" y="0"/>
                      <a:pt x="109" y="3"/>
                    </a:cubicBezTo>
                    <a:cubicBezTo>
                      <a:pt x="116" y="8"/>
                      <a:pt x="35" y="37"/>
                      <a:pt x="43" y="44"/>
                    </a:cubicBezTo>
                    <a:cubicBezTo>
                      <a:pt x="50" y="51"/>
                      <a:pt x="146" y="37"/>
                      <a:pt x="153" y="44"/>
                    </a:cubicBezTo>
                    <a:cubicBezTo>
                      <a:pt x="160" y="51"/>
                      <a:pt x="83" y="76"/>
                      <a:pt x="87" y="86"/>
                    </a:cubicBezTo>
                    <a:cubicBezTo>
                      <a:pt x="90" y="95"/>
                      <a:pt x="168" y="92"/>
                      <a:pt x="175" y="99"/>
                    </a:cubicBezTo>
                    <a:cubicBezTo>
                      <a:pt x="182" y="106"/>
                      <a:pt x="123" y="120"/>
                      <a:pt x="131" y="127"/>
                    </a:cubicBezTo>
                    <a:cubicBezTo>
                      <a:pt x="138" y="134"/>
                      <a:pt x="212" y="134"/>
                      <a:pt x="219" y="141"/>
                    </a:cubicBezTo>
                    <a:cubicBezTo>
                      <a:pt x="226" y="147"/>
                      <a:pt x="171" y="161"/>
                      <a:pt x="175" y="168"/>
                    </a:cubicBezTo>
                    <a:cubicBezTo>
                      <a:pt x="179" y="175"/>
                      <a:pt x="234" y="175"/>
                      <a:pt x="241" y="182"/>
                    </a:cubicBezTo>
                    <a:cubicBezTo>
                      <a:pt x="248" y="189"/>
                      <a:pt x="215" y="200"/>
                      <a:pt x="219" y="209"/>
                    </a:cubicBezTo>
                    <a:cubicBezTo>
                      <a:pt x="223" y="218"/>
                      <a:pt x="256" y="228"/>
                      <a:pt x="263" y="237"/>
                    </a:cubicBezTo>
                    <a:cubicBezTo>
                      <a:pt x="271" y="246"/>
                      <a:pt x="256" y="253"/>
                      <a:pt x="263" y="264"/>
                    </a:cubicBezTo>
                    <a:cubicBezTo>
                      <a:pt x="271" y="276"/>
                      <a:pt x="304" y="292"/>
                      <a:pt x="307" y="306"/>
                    </a:cubicBezTo>
                    <a:cubicBezTo>
                      <a:pt x="311" y="319"/>
                      <a:pt x="282" y="335"/>
                      <a:pt x="285" y="347"/>
                    </a:cubicBezTo>
                    <a:cubicBezTo>
                      <a:pt x="289" y="358"/>
                      <a:pt x="326" y="363"/>
                      <a:pt x="329" y="374"/>
                    </a:cubicBezTo>
                    <a:cubicBezTo>
                      <a:pt x="333" y="386"/>
                      <a:pt x="307" y="402"/>
                      <a:pt x="307" y="416"/>
                    </a:cubicBezTo>
                    <a:cubicBezTo>
                      <a:pt x="307" y="429"/>
                      <a:pt x="329" y="445"/>
                      <a:pt x="329" y="457"/>
                    </a:cubicBezTo>
                    <a:cubicBezTo>
                      <a:pt x="329" y="468"/>
                      <a:pt x="304" y="473"/>
                      <a:pt x="307" y="484"/>
                    </a:cubicBezTo>
                    <a:cubicBezTo>
                      <a:pt x="311" y="496"/>
                      <a:pt x="348" y="512"/>
                      <a:pt x="351" y="526"/>
                    </a:cubicBezTo>
                    <a:cubicBezTo>
                      <a:pt x="355" y="539"/>
                      <a:pt x="329" y="551"/>
                      <a:pt x="329" y="567"/>
                    </a:cubicBezTo>
                    <a:cubicBezTo>
                      <a:pt x="329" y="583"/>
                      <a:pt x="351" y="610"/>
                      <a:pt x="351" y="622"/>
                    </a:cubicBezTo>
                    <a:cubicBezTo>
                      <a:pt x="351" y="633"/>
                      <a:pt x="329" y="626"/>
                      <a:pt x="329" y="636"/>
                    </a:cubicBezTo>
                    <a:cubicBezTo>
                      <a:pt x="329" y="645"/>
                      <a:pt x="340" y="661"/>
                      <a:pt x="351" y="677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8f5fd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A4BA-9E93-4D44-A7B2-57D1BCA8EF8A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141"/>
          <p:cNvGrpSpPr/>
          <p:nvPr/>
        </p:nvGrpSpPr>
        <p:grpSpPr>
          <a:xfrm>
            <a:off x="7331040" y="227160"/>
            <a:ext cx="1790640" cy="520560"/>
            <a:chOff x="7331040" y="227160"/>
            <a:chExt cx="1790640" cy="520560"/>
          </a:xfrm>
        </p:grpSpPr>
        <p:pic>
          <p:nvPicPr>
            <p:cNvPr id="140" name="image1.png" descr=""/>
            <p:cNvPicPr/>
            <p:nvPr/>
          </p:nvPicPr>
          <p:blipFill>
            <a:blip r:embed="rId2"/>
            <a:stretch/>
          </p:blipFill>
          <p:spPr>
            <a:xfrm>
              <a:off x="7840800" y="227160"/>
              <a:ext cx="61740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image2.png" descr=""/>
            <p:cNvPicPr/>
            <p:nvPr/>
          </p:nvPicPr>
          <p:blipFill>
            <a:blip r:embed="rId3"/>
            <a:stretch/>
          </p:blipFill>
          <p:spPr>
            <a:xfrm>
              <a:off x="7331040" y="508320"/>
              <a:ext cx="1790640" cy="23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直接连接符 46"/>
          <p:cNvSpPr/>
          <p:nvPr/>
        </p:nvSpPr>
        <p:spPr>
          <a:xfrm flipH="1">
            <a:off x="641160" y="771480"/>
            <a:ext cx="8351640" cy="0"/>
          </a:xfrm>
          <a:prstGeom prst="line">
            <a:avLst/>
          </a:prstGeom>
          <a:ln w="158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矩形 145"/>
          <p:cNvSpPr/>
          <p:nvPr/>
        </p:nvSpPr>
        <p:spPr>
          <a:xfrm>
            <a:off x="174600" y="152280"/>
            <a:ext cx="372960" cy="373320"/>
          </a:xfrm>
          <a:prstGeom prst="rect">
            <a:avLst/>
          </a:prstGeom>
          <a:solidFill>
            <a:srgbClr val="a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矩形 146"/>
          <p:cNvSpPr/>
          <p:nvPr/>
        </p:nvSpPr>
        <p:spPr>
          <a:xfrm>
            <a:off x="358920" y="352440"/>
            <a:ext cx="249120" cy="247680"/>
          </a:xfrm>
          <a:prstGeom prst="rect">
            <a:avLst/>
          </a:prstGeom>
          <a:solidFill>
            <a:srgbClr val="ffa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CF55-5B5A-4A05-A27E-7C6A328C63A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3640" y="2781000"/>
            <a:ext cx="633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主题</a:t>
            </a:r>
            <a:r>
              <a:rPr b="0" lang="en-US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7  </a:t>
            </a:r>
            <a:r>
              <a:rPr b="0" lang="zh-CN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物质的检验与鉴别 </a:t>
            </a: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23" name="标题 1"/>
          <p:cNvSpPr/>
          <p:nvPr/>
        </p:nvSpPr>
        <p:spPr>
          <a:xfrm>
            <a:off x="4284720" y="4221000"/>
            <a:ext cx="41036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解题技巧提升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Object 2"/>
          <p:cNvGraphicFramePr/>
          <p:nvPr/>
        </p:nvGraphicFramePr>
        <p:xfrm>
          <a:off x="42840" y="1197000"/>
          <a:ext cx="9032760" cy="505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0" y="1197000"/>
                    <a:ext cx="9032760" cy="50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Rectangle 3"/>
          <p:cNvSpPr/>
          <p:nvPr/>
        </p:nvSpPr>
        <p:spPr>
          <a:xfrm>
            <a:off x="6000480" y="292824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变蓝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6112440" y="357588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H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大于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6055560" y="428076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变红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6289560" y="500148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有蓝色沉淀生成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Object 2"/>
          <p:cNvGraphicFramePr/>
          <p:nvPr/>
        </p:nvGraphicFramePr>
        <p:xfrm>
          <a:off x="55440" y="1222200"/>
          <a:ext cx="903312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40" y="1222200"/>
                    <a:ext cx="903312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Rectangle 3"/>
          <p:cNvSpPr/>
          <p:nvPr/>
        </p:nvSpPr>
        <p:spPr>
          <a:xfrm>
            <a:off x="7820280" y="21931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变浑浊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6622200" y="284076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有白色沉淀产生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Object 2"/>
          <p:cNvGraphicFramePr/>
          <p:nvPr/>
        </p:nvGraphicFramePr>
        <p:xfrm>
          <a:off x="0" y="879480"/>
          <a:ext cx="9010800" cy="64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79480"/>
                    <a:ext cx="9010800" cy="64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Rectangle 3"/>
          <p:cNvSpPr/>
          <p:nvPr/>
        </p:nvSpPr>
        <p:spPr>
          <a:xfrm>
            <a:off x="6175800" y="2121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刺激性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6063840" y="328860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蓝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6909120" y="392184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蓝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6316560" y="451224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有蓝色沉淀生成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Object 2"/>
          <p:cNvGraphicFramePr/>
          <p:nvPr/>
        </p:nvGraphicFramePr>
        <p:xfrm>
          <a:off x="55440" y="1243080"/>
          <a:ext cx="9033120" cy="43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40" y="1243080"/>
                    <a:ext cx="903312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Object 2"/>
          <p:cNvGraphicFramePr/>
          <p:nvPr/>
        </p:nvGraphicFramePr>
        <p:xfrm>
          <a:off x="0" y="790560"/>
          <a:ext cx="903276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0560"/>
                    <a:ext cx="903276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Rectangle 3"/>
          <p:cNvSpPr/>
          <p:nvPr/>
        </p:nvSpPr>
        <p:spPr>
          <a:xfrm>
            <a:off x="7339320" y="220896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软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5634360" y="291384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硬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Object 2"/>
          <p:cNvGraphicFramePr/>
          <p:nvPr/>
        </p:nvGraphicFramePr>
        <p:xfrm>
          <a:off x="0" y="1398600"/>
          <a:ext cx="9010800" cy="505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98600"/>
                    <a:ext cx="9010800" cy="50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Rectangle 3"/>
          <p:cNvSpPr/>
          <p:nvPr/>
        </p:nvSpPr>
        <p:spPr>
          <a:xfrm>
            <a:off x="3212280" y="28263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铵态氮肥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5334840" y="284076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尿素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6332400" y="350424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棉花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4060080" y="415188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羊毛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4008600" y="48726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合成纤维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Object 6"/>
          <p:cNvGraphicFramePr/>
          <p:nvPr/>
        </p:nvGraphicFramePr>
        <p:xfrm>
          <a:off x="0" y="1228680"/>
          <a:ext cx="9032760" cy="64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28680"/>
                    <a:ext cx="9032760" cy="64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733680" y="1268280"/>
            <a:ext cx="213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鉴别的依据：</a:t>
            </a:r>
            <a:r>
              <a:rPr b="1" i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468360" y="2565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0014f"/>
                </a:solidFill>
                <a:latin typeface="Tahoma"/>
                <a:ea typeface="楷体_GB2312"/>
              </a:rPr>
              <a:t>物质的性质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733680" y="3803760"/>
            <a:ext cx="213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鉴别的原则：</a:t>
            </a:r>
            <a:r>
              <a:rPr b="1" i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250920" y="364500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0014f"/>
                </a:solidFill>
                <a:latin typeface="Tahoma"/>
                <a:ea typeface="楷体_GB2312"/>
              </a:rPr>
              <a:t>      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808200" y="4950000"/>
            <a:ext cx="213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鉴别的步骤：</a:t>
            </a:r>
            <a:r>
              <a:rPr b="1" i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3492360" y="155736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 Black"/>
              </a:rPr>
              <a:t>依据物质特殊的性质进行鉴别，如颜色、状态、气味、溶解性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95" name="Group 8"/>
          <p:cNvGrpSpPr/>
          <p:nvPr/>
        </p:nvGrpSpPr>
        <p:grpSpPr>
          <a:xfrm>
            <a:off x="2124000" y="1773360"/>
            <a:ext cx="1353600" cy="1977840"/>
            <a:chOff x="2124000" y="1773360"/>
            <a:chExt cx="1353600" cy="1977840"/>
          </a:xfrm>
        </p:grpSpPr>
        <p:sp>
          <p:nvSpPr>
            <p:cNvPr id="296" name="AutoShape 9"/>
            <p:cNvSpPr/>
            <p:nvPr/>
          </p:nvSpPr>
          <p:spPr>
            <a:xfrm>
              <a:off x="2124000" y="2062080"/>
              <a:ext cx="432000" cy="1511280"/>
            </a:xfrm>
            <a:custGeom>
              <a:avLst/>
              <a:gdLst>
                <a:gd name="textAreaLeft" fmla="*/ 276120 w 432000"/>
                <a:gd name="textAreaRight" fmla="*/ 432360 w 432000"/>
                <a:gd name="textAreaTop" fmla="*/ 39240 h 1511280"/>
                <a:gd name="textAreaBottom" fmla="*/ 1472040 h 15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1001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7" name="Text Box 10"/>
            <p:cNvSpPr/>
            <p:nvPr/>
          </p:nvSpPr>
          <p:spPr>
            <a:xfrm>
              <a:off x="2748240" y="177336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0014f"/>
                  </a:solidFill>
                  <a:latin typeface="Arial Black"/>
                </a:rPr>
                <a:t>物理</a:t>
              </a: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0014f"/>
                  </a:solidFill>
                  <a:latin typeface="Arial Black"/>
                </a:rPr>
                <a:t>性质：</a:t>
              </a: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8" name="Text Box 11"/>
            <p:cNvSpPr/>
            <p:nvPr/>
          </p:nvSpPr>
          <p:spPr>
            <a:xfrm>
              <a:off x="2748240" y="292572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0014f"/>
                  </a:solidFill>
                  <a:latin typeface="Arial Black"/>
                </a:rPr>
                <a:t>化学</a:t>
              </a: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0014f"/>
                  </a:solidFill>
                  <a:latin typeface="Arial Black"/>
                </a:rPr>
                <a:t>性质：</a:t>
              </a: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99" name="Text Box 12"/>
          <p:cNvSpPr/>
          <p:nvPr/>
        </p:nvSpPr>
        <p:spPr>
          <a:xfrm>
            <a:off x="3924360" y="2852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 Black"/>
              </a:rPr>
              <a:t>依据物质反应时产生的特殊现象进行鉴别，如燃烧、变色、放出气体、产生沉淀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Text Box 13"/>
          <p:cNvSpPr/>
          <p:nvPr/>
        </p:nvSpPr>
        <p:spPr>
          <a:xfrm>
            <a:off x="1332000" y="449568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0014f"/>
                </a:solidFill>
                <a:latin typeface="Arial Black"/>
              </a:rPr>
              <a:t>安全、环保、简便易行、便于观察、现象明显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Text Box 14"/>
          <p:cNvSpPr/>
          <p:nvPr/>
        </p:nvSpPr>
        <p:spPr>
          <a:xfrm>
            <a:off x="1547640" y="5157720"/>
            <a:ext cx="1922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Text Box 15"/>
          <p:cNvSpPr/>
          <p:nvPr/>
        </p:nvSpPr>
        <p:spPr>
          <a:xfrm>
            <a:off x="3138480" y="541512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0014f"/>
                </a:solidFill>
                <a:latin typeface="Arial Black"/>
              </a:rPr>
              <a:t>先取样后操作，先现象后结论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Text Box 16"/>
          <p:cNvSpPr/>
          <p:nvPr/>
        </p:nvSpPr>
        <p:spPr>
          <a:xfrm>
            <a:off x="351000" y="57780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14f"/>
                </a:solidFill>
                <a:latin typeface="Arial Black"/>
              </a:rPr>
              <a:t>(</a:t>
            </a:r>
            <a:r>
              <a:rPr b="1" lang="zh-CN" sz="3600" spc="-1" strike="noStrike">
                <a:solidFill>
                  <a:srgbClr val="10014f"/>
                </a:solidFill>
                <a:latin typeface="Arial Black"/>
              </a:rPr>
              <a:t>一</a:t>
            </a:r>
            <a:r>
              <a:rPr b="1" lang="en-US" sz="3600" spc="-1" strike="noStrike">
                <a:solidFill>
                  <a:srgbClr val="10014f"/>
                </a:solidFill>
                <a:latin typeface="Arial Black"/>
              </a:rPr>
              <a:t>)</a:t>
            </a:r>
            <a:r>
              <a:rPr b="1" lang="zh-CN" sz="3600" spc="-1" strike="noStrike">
                <a:solidFill>
                  <a:srgbClr val="10014f"/>
                </a:solidFill>
                <a:latin typeface="Arial Black"/>
              </a:rPr>
              <a:t>、物质鉴别的要素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468360" y="549360"/>
            <a:ext cx="54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二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、物质鉴别的方法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5" name="Group 3"/>
          <p:cNvGrpSpPr/>
          <p:nvPr/>
        </p:nvGrpSpPr>
        <p:grpSpPr>
          <a:xfrm>
            <a:off x="131760" y="1763640"/>
            <a:ext cx="2376000" cy="1224000"/>
            <a:chOff x="131760" y="1763640"/>
            <a:chExt cx="2376000" cy="1224000"/>
          </a:xfrm>
        </p:grpSpPr>
        <p:sp>
          <p:nvSpPr>
            <p:cNvPr id="306" name="Text Box 4"/>
            <p:cNvSpPr/>
            <p:nvPr/>
          </p:nvSpPr>
          <p:spPr>
            <a:xfrm>
              <a:off x="131760" y="2052720"/>
              <a:ext cx="2160360" cy="520560"/>
            </a:xfrm>
            <a:prstGeom prst="rect">
              <a:avLst/>
            </a:prstGeom>
            <a:noFill/>
            <a:ln w="9360">
              <a:solidFill>
                <a:srgbClr val="1001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 Black"/>
                </a:rPr>
                <a:t>①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 Black"/>
                </a:rPr>
                <a:t>用水鉴别</a:t>
              </a: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7" name="AutoShape 5"/>
            <p:cNvSpPr/>
            <p:nvPr/>
          </p:nvSpPr>
          <p:spPr>
            <a:xfrm>
              <a:off x="2076120" y="1763640"/>
              <a:ext cx="431640" cy="1224000"/>
            </a:xfrm>
            <a:custGeom>
              <a:avLst/>
              <a:gdLst>
                <a:gd name="textAreaLeft" fmla="*/ 275760 w 431640"/>
                <a:gd name="textAreaRight" fmla="*/ 432000 w 43164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1001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08" name="Text Box 6"/>
          <p:cNvSpPr/>
          <p:nvPr/>
        </p:nvSpPr>
        <p:spPr>
          <a:xfrm>
            <a:off x="2508120" y="163512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0014f"/>
                </a:solidFill>
                <a:latin typeface="Arial Black"/>
              </a:rPr>
              <a:t>溶解性差异较大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2413080" y="211464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0014f"/>
                </a:solidFill>
                <a:latin typeface="Arial Black"/>
              </a:rPr>
              <a:t>溶于水颜色发生明显变化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2508120" y="2662200"/>
            <a:ext cx="36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0014f"/>
                </a:solidFill>
                <a:latin typeface="Arial Black"/>
              </a:rPr>
              <a:t>溶于水温度发生明显变化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6877080" y="3429000"/>
            <a:ext cx="43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10920" y="3428640"/>
            <a:ext cx="80010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例：用水不能鉴别的一组物质是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(       )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A. N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和 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Cu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  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B.Ca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 Black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N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 Black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C.Ba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和 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K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 Black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     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浓硫酸和稀硫酸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13" name="TextBox 1"/>
          <p:cNvSpPr/>
          <p:nvPr/>
        </p:nvSpPr>
        <p:spPr>
          <a:xfrm>
            <a:off x="6084720" y="2314440"/>
            <a:ext cx="36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放热：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CaO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NaOH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浓硫酸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684360" y="76500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 Black"/>
              </a:rPr>
              <a:t>②</a:t>
            </a:r>
            <a:r>
              <a:rPr b="1" lang="zh-CN" sz="2800" spc="-1" strike="noStrike">
                <a:solidFill>
                  <a:srgbClr val="c00000"/>
                </a:solidFill>
                <a:latin typeface="Arial Black"/>
              </a:rPr>
              <a:t>用酸碱指示剂鉴别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539640" y="2349360"/>
            <a:ext cx="763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例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：只用一种试剂鉴别  </a:t>
            </a:r>
            <a:r>
              <a:rPr b="1" lang="en-US" sz="2800" spc="-1" strike="noStrike">
                <a:solidFill>
                  <a:srgbClr val="00007b"/>
                </a:solidFill>
                <a:latin typeface="宋体"/>
              </a:rPr>
              <a:t>HCl</a:t>
            </a:r>
            <a:r>
              <a:rPr b="1" lang="zh-CN" sz="2800" spc="-1" strike="noStrike">
                <a:solidFill>
                  <a:srgbClr val="00007b"/>
                </a:solidFill>
                <a:latin typeface="宋体"/>
              </a:rPr>
              <a:t>、 </a:t>
            </a:r>
            <a:r>
              <a:rPr b="1" lang="en-US" sz="2800" spc="-1" strike="noStrike">
                <a:solidFill>
                  <a:srgbClr val="00007b"/>
                </a:solidFill>
                <a:latin typeface="宋体"/>
              </a:rPr>
              <a:t>NaCl</a:t>
            </a:r>
            <a:r>
              <a:rPr b="1" lang="zh-CN" sz="2800" spc="-1" strike="noStrike">
                <a:solidFill>
                  <a:srgbClr val="00007b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7b"/>
                </a:solidFill>
                <a:latin typeface="宋体"/>
              </a:rPr>
              <a:t>Na</a:t>
            </a:r>
            <a:r>
              <a:rPr b="1" lang="en-US" sz="2800" spc="-1" strike="noStrike" baseline="-25000">
                <a:solidFill>
                  <a:srgbClr val="00007b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7b"/>
                </a:solidFill>
                <a:latin typeface="宋体"/>
              </a:rPr>
              <a:t>CO</a:t>
            </a:r>
            <a:r>
              <a:rPr b="1" lang="en-US" sz="2800" spc="-1" strike="noStrike" baseline="-25000">
                <a:solidFill>
                  <a:srgbClr val="00007b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三种无色溶液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TextBox 1"/>
          <p:cNvSpPr/>
          <p:nvPr/>
        </p:nvSpPr>
        <p:spPr>
          <a:xfrm>
            <a:off x="1042920" y="148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90279"/>
                </a:solidFill>
                <a:latin typeface="Arial"/>
              </a:rPr>
              <a:t>鉴别酸碱性明显不同的物质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圆角矩形标注 2"/>
          <p:cNvSpPr/>
          <p:nvPr/>
        </p:nvSpPr>
        <p:spPr>
          <a:xfrm>
            <a:off x="4162320" y="2979720"/>
            <a:ext cx="793800" cy="1033560"/>
          </a:xfrm>
          <a:prstGeom prst="wedgeRoundRectCallout">
            <a:avLst>
              <a:gd name="adj1" fmla="val 72444"/>
              <a:gd name="adj2" fmla="val -63731"/>
              <a:gd name="adj3" fmla="val 16667"/>
            </a:avLst>
          </a:prstGeom>
          <a:solidFill>
            <a:srgbClr val="dada00"/>
          </a:solidFill>
          <a:ln w="38160">
            <a:solidFill>
              <a:srgbClr val="fff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0014f"/>
                </a:solidFill>
                <a:latin typeface="Arial"/>
              </a:rPr>
              <a:t>酸性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圆角矩形标注 6"/>
          <p:cNvSpPr/>
          <p:nvPr/>
        </p:nvSpPr>
        <p:spPr>
          <a:xfrm>
            <a:off x="5727600" y="2992320"/>
            <a:ext cx="793800" cy="1035000"/>
          </a:xfrm>
          <a:prstGeom prst="wedgeRoundRectCallout">
            <a:avLst>
              <a:gd name="adj1" fmla="val 5120"/>
              <a:gd name="adj2" fmla="val -71763"/>
              <a:gd name="adj3" fmla="val 16667"/>
            </a:avLst>
          </a:prstGeom>
          <a:solidFill>
            <a:srgbClr val="dada00"/>
          </a:solidFill>
          <a:ln w="38160">
            <a:solidFill>
              <a:srgbClr val="fff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0014f"/>
                </a:solidFill>
                <a:latin typeface="Arial"/>
              </a:rPr>
              <a:t>中性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圆角矩形标注 7"/>
          <p:cNvSpPr/>
          <p:nvPr/>
        </p:nvSpPr>
        <p:spPr>
          <a:xfrm>
            <a:off x="7354800" y="2968560"/>
            <a:ext cx="793800" cy="1035000"/>
          </a:xfrm>
          <a:prstGeom prst="wedgeRoundRectCallout">
            <a:avLst>
              <a:gd name="adj1" fmla="val -48740"/>
              <a:gd name="adj2" fmla="val -72912"/>
              <a:gd name="adj3" fmla="val 16667"/>
            </a:avLst>
          </a:prstGeom>
          <a:solidFill>
            <a:srgbClr val="dada00"/>
          </a:solidFill>
          <a:ln w="38160">
            <a:solidFill>
              <a:srgbClr val="fff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0014f"/>
                </a:solidFill>
                <a:latin typeface="Arial"/>
              </a:rPr>
              <a:t>碱性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66560" y="4149720"/>
          <a:ext cx="8569440" cy="1967040"/>
        </p:xfrm>
        <a:graphic>
          <a:graphicData uri="http://schemas.openxmlformats.org/drawingml/2006/table">
            <a:tbl>
              <a:tblPr/>
              <a:tblGrid>
                <a:gridCol w="1224000"/>
                <a:gridCol w="3384720"/>
                <a:gridCol w="3960720"/>
              </a:tblGrid>
              <a:tr h="503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0014f"/>
                          </a:solidFill>
                          <a:latin typeface="Arial Black"/>
                        </a:rPr>
                        <a:t>试剂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0014f"/>
                          </a:solidFill>
                          <a:latin typeface="Arial Black"/>
                        </a:rPr>
                        <a:t>操作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0014f"/>
                          </a:solidFill>
                          <a:latin typeface="Arial Black"/>
                        </a:rPr>
                        <a:t>现象及结论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TextBox 5"/>
          <p:cNvSpPr/>
          <p:nvPr/>
        </p:nvSpPr>
        <p:spPr>
          <a:xfrm>
            <a:off x="628560" y="4727520"/>
            <a:ext cx="109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石蕊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溶液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TextBox 8"/>
          <p:cNvSpPr/>
          <p:nvPr/>
        </p:nvSpPr>
        <p:spPr>
          <a:xfrm>
            <a:off x="1757520" y="4727520"/>
            <a:ext cx="345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分别取三种待测液于试管中，再往试管中分别滴入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滴石蕊溶液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TextBox 12"/>
          <p:cNvSpPr/>
          <p:nvPr/>
        </p:nvSpPr>
        <p:spPr>
          <a:xfrm>
            <a:off x="5286240" y="4727520"/>
            <a:ext cx="37497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溶液变红的是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HCl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盐酸）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溶液不变色的是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NaCl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溶液变蓝的是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N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宋体"/>
              </a:rPr>
              <a:t>3</a:t>
            </a:r>
            <a:r>
              <a:rPr b="1" lang="en-US" sz="2400" spc="-1" strike="noStrike" baseline="-25000">
                <a:solidFill>
                  <a:srgbClr val="00007b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1763640" y="33336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10014f"/>
                </a:solidFill>
                <a:latin typeface="Tahoma"/>
                <a:ea typeface="黑体"/>
              </a:rPr>
              <a:t>交警在检查司机是否酒后驾车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5580000" y="1557360"/>
            <a:ext cx="331164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10014f"/>
                </a:solidFill>
                <a:latin typeface="Tahoma"/>
                <a:ea typeface="黑体"/>
              </a:rPr>
              <a:t>酒中的乙醇分子可以使橙红色的重铬酸钾（</a:t>
            </a:r>
            <a:r>
              <a:rPr b="1" i="1" lang="en-US" sz="3600" spc="-1" strike="noStrike">
                <a:solidFill>
                  <a:srgbClr val="ff6600"/>
                </a:solidFill>
                <a:latin typeface="Tahoma"/>
                <a:ea typeface="黑体"/>
              </a:rPr>
              <a:t>k</a:t>
            </a:r>
            <a:r>
              <a:rPr b="1" i="1" lang="en-US" sz="3600" spc="-1" strike="noStrike" baseline="-25000">
                <a:solidFill>
                  <a:srgbClr val="ff6600"/>
                </a:solidFill>
                <a:latin typeface="Tahoma"/>
                <a:ea typeface="黑体"/>
              </a:rPr>
              <a:t>2</a:t>
            </a:r>
            <a:r>
              <a:rPr b="1" i="1" lang="en-US" sz="3600" spc="-1" strike="noStrike">
                <a:solidFill>
                  <a:srgbClr val="ff6600"/>
                </a:solidFill>
                <a:latin typeface="Tahoma"/>
                <a:ea typeface="黑体"/>
              </a:rPr>
              <a:t>Cr</a:t>
            </a:r>
            <a:r>
              <a:rPr b="1" i="1" lang="en-US" sz="3600" spc="-1" strike="noStrike" baseline="-25000">
                <a:solidFill>
                  <a:srgbClr val="ff6600"/>
                </a:solidFill>
                <a:latin typeface="Tahoma"/>
                <a:ea typeface="黑体"/>
              </a:rPr>
              <a:t>2</a:t>
            </a:r>
            <a:r>
              <a:rPr b="1" i="1" lang="en-US" sz="3600" spc="-1" strike="noStrike">
                <a:solidFill>
                  <a:srgbClr val="ff6600"/>
                </a:solidFill>
                <a:latin typeface="Tahoma"/>
                <a:ea typeface="黑体"/>
              </a:rPr>
              <a:t>O</a:t>
            </a:r>
            <a:r>
              <a:rPr b="1" i="1" lang="en-US" sz="3600" spc="-1" strike="noStrike" baseline="-25000">
                <a:solidFill>
                  <a:srgbClr val="ff6600"/>
                </a:solidFill>
                <a:latin typeface="Tahoma"/>
                <a:ea typeface="黑体"/>
              </a:rPr>
              <a:t>7</a:t>
            </a:r>
            <a:r>
              <a:rPr b="1" i="1" lang="zh-CN" sz="3600" spc="-1" strike="noStrike">
                <a:solidFill>
                  <a:srgbClr val="10014f"/>
                </a:solidFill>
                <a:latin typeface="Tahoma"/>
                <a:ea typeface="黑体"/>
              </a:rPr>
              <a:t>）变为绿色的硫酸铬</a:t>
            </a:r>
            <a:r>
              <a:rPr b="1" i="1" lang="en-US" sz="3600" spc="-1" strike="noStrike">
                <a:solidFill>
                  <a:srgbClr val="10014f"/>
                </a:solidFill>
                <a:latin typeface="Tahoma"/>
                <a:ea typeface="黑体"/>
              </a:rPr>
              <a:t>[</a:t>
            </a:r>
            <a:r>
              <a:rPr b="1" i="1" lang="en-US" sz="3600" spc="-1" strike="noStrike">
                <a:solidFill>
                  <a:srgbClr val="00cc00"/>
                </a:solidFill>
                <a:latin typeface="Tahoma"/>
                <a:ea typeface="黑体"/>
              </a:rPr>
              <a:t>Cr</a:t>
            </a:r>
            <a:r>
              <a:rPr b="1" i="1" lang="en-US" sz="3600" spc="-1" strike="noStrike" baseline="-25000">
                <a:solidFill>
                  <a:srgbClr val="00cc00"/>
                </a:solidFill>
                <a:latin typeface="Tahoma"/>
                <a:ea typeface="黑体"/>
              </a:rPr>
              <a:t>2</a:t>
            </a:r>
            <a:r>
              <a:rPr b="1" i="1" lang="en-US" sz="3600" spc="-1" strike="noStrike">
                <a:solidFill>
                  <a:srgbClr val="00cc00"/>
                </a:solidFill>
                <a:latin typeface="Tahoma"/>
                <a:ea typeface="黑体"/>
              </a:rPr>
              <a:t>(SO</a:t>
            </a:r>
            <a:r>
              <a:rPr b="1" i="1" lang="en-US" sz="3600" spc="-1" strike="noStrike" baseline="-25000">
                <a:solidFill>
                  <a:srgbClr val="00cc00"/>
                </a:solidFill>
                <a:latin typeface="Tahoma"/>
                <a:ea typeface="黑体"/>
              </a:rPr>
              <a:t>4</a:t>
            </a:r>
            <a:r>
              <a:rPr b="1" i="1" lang="en-US" sz="3600" spc="-1" strike="noStrike">
                <a:solidFill>
                  <a:srgbClr val="00cc00"/>
                </a:solidFill>
                <a:latin typeface="Tahoma"/>
                <a:ea typeface="黑体"/>
              </a:rPr>
              <a:t>)</a:t>
            </a:r>
            <a:r>
              <a:rPr b="1" i="1" lang="en-US" sz="3600" spc="-1" strike="noStrike" baseline="-25000">
                <a:solidFill>
                  <a:srgbClr val="00cc00"/>
                </a:solidFill>
                <a:latin typeface="Tahoma"/>
                <a:ea typeface="黑体"/>
              </a:rPr>
              <a:t>3</a:t>
            </a:r>
            <a:r>
              <a:rPr b="1" i="1" lang="en-US" sz="3600" spc="-1" strike="noStrike">
                <a:solidFill>
                  <a:srgbClr val="10014f"/>
                </a:solidFill>
                <a:latin typeface="Tahoma"/>
                <a:ea typeface="黑体"/>
              </a:rPr>
              <a:t>]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6" name="Picture 4" descr="-7806151037614674160.jpg"/>
          <p:cNvPicPr/>
          <p:nvPr/>
        </p:nvPicPr>
        <p:blipFill>
          <a:blip r:embed="rId1"/>
          <a:stretch/>
        </p:blipFill>
        <p:spPr>
          <a:xfrm>
            <a:off x="228600" y="1179360"/>
            <a:ext cx="501480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328680" y="73188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 Black"/>
              </a:rPr>
              <a:t>③</a:t>
            </a:r>
            <a:r>
              <a:rPr b="1" lang="zh-CN" sz="2800" spc="-1" strike="noStrike">
                <a:solidFill>
                  <a:srgbClr val="c00000"/>
                </a:solidFill>
                <a:latin typeface="Arial Black"/>
              </a:rPr>
              <a:t>用一种试剂与待测物之间相互反应而鉴别 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328680" y="1262160"/>
            <a:ext cx="78483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现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种无色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液，请用一种试剂一次鉴别出来，则该试剂应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稀硝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NaO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稀盐酸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TextBox 2"/>
          <p:cNvSpPr/>
          <p:nvPr/>
        </p:nvSpPr>
        <p:spPr>
          <a:xfrm>
            <a:off x="363600" y="3211560"/>
            <a:ext cx="8273880" cy="23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行楷"/>
                <a:ea typeface="华文行楷"/>
              </a:rPr>
              <a:t>【课堂练习】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b050"/>
                </a:solidFill>
                <a:latin typeface="Arial"/>
              </a:rPr>
              <a:t>．只用一种试剂就能将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Na</a:t>
            </a:r>
            <a:r>
              <a:rPr b="0" lang="en-US" sz="2800" spc="-1" strike="noStrike" baseline="-25000">
                <a:solidFill>
                  <a:srgbClr val="00b05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b05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b05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00b05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Cl </a:t>
            </a:r>
            <a:r>
              <a:rPr b="0" lang="zh-CN" sz="2800" spc="-1" strike="noStrike">
                <a:solidFill>
                  <a:srgbClr val="00b05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NaCl</a:t>
            </a:r>
            <a:r>
              <a:rPr b="0" lang="zh-CN" sz="2800" spc="-1" strike="noStrike">
                <a:solidFill>
                  <a:srgbClr val="00b050"/>
                </a:solidFill>
                <a:latin typeface="Arial"/>
              </a:rPr>
              <a:t>三种溶液区分开来的是（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b050"/>
                </a:solidFill>
                <a:latin typeface="Arial"/>
              </a:rPr>
              <a:t> ）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b050"/>
                </a:solidFill>
                <a:latin typeface="Arial"/>
              </a:rPr>
              <a:t>．澄清石灰水</a:t>
            </a: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b050"/>
                </a:solidFill>
                <a:latin typeface="Arial"/>
              </a:rPr>
              <a:t>．</a:t>
            </a: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CaCl</a:t>
            </a:r>
            <a:r>
              <a:rPr b="0" lang="en-US" sz="2400" spc="-1" strike="noStrike" baseline="-25000">
                <a:solidFill>
                  <a:srgbClr val="00b05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b050"/>
                </a:solidFill>
                <a:latin typeface="Arial"/>
              </a:rPr>
              <a:t>溶液  </a:t>
            </a: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b050"/>
                </a:solidFill>
                <a:latin typeface="Arial"/>
              </a:rPr>
              <a:t>．</a:t>
            </a: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NaOH</a:t>
            </a:r>
            <a:r>
              <a:rPr b="0" lang="zh-CN" sz="2400" spc="-1" strike="noStrike">
                <a:solidFill>
                  <a:srgbClr val="00b050"/>
                </a:solidFill>
                <a:latin typeface="Arial"/>
              </a:rPr>
              <a:t>溶液</a:t>
            </a: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b050"/>
                </a:solidFill>
                <a:latin typeface="Arial"/>
              </a:rPr>
              <a:t>．稀盐酸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只用一种试剂鉴别下列三种溶液：氯化钠、硝酸银、碳酸钠，这种试剂是</a:t>
            </a:r>
            <a:r>
              <a:rPr b="0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             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4098960" y="4149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14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TextBox 5"/>
          <p:cNvSpPr/>
          <p:nvPr/>
        </p:nvSpPr>
        <p:spPr>
          <a:xfrm>
            <a:off x="4570560" y="537372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0014f"/>
                </a:solidFill>
                <a:latin typeface="Arial"/>
              </a:rPr>
              <a:t>稀盐酸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3"/>
          <p:cNvSpPr/>
          <p:nvPr/>
        </p:nvSpPr>
        <p:spPr>
          <a:xfrm>
            <a:off x="544680" y="227664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0014f"/>
                </a:solidFill>
                <a:latin typeface="华文行楷"/>
                <a:ea typeface="华文行楷"/>
              </a:rPr>
              <a:t>选择的鉴别试剂和待测液之间反应时的现象有什么共同特点吗？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30" name="矩形 6" descr=""/>
          <p:cNvPicPr/>
          <p:nvPr/>
        </p:nvPicPr>
        <p:blipFill>
          <a:blip r:embed="rId1"/>
          <a:stretch/>
        </p:blipFill>
        <p:spPr>
          <a:xfrm>
            <a:off x="890640" y="1127160"/>
            <a:ext cx="2376360" cy="920880"/>
          </a:xfrm>
          <a:prstGeom prst="rect">
            <a:avLst/>
          </a:prstGeom>
          <a:ln w="0">
            <a:noFill/>
          </a:ln>
        </p:spPr>
      </p:pic>
      <p:sp>
        <p:nvSpPr>
          <p:cNvPr id="331" name="矩形标注 7"/>
          <p:cNvSpPr/>
          <p:nvPr/>
        </p:nvSpPr>
        <p:spPr>
          <a:xfrm>
            <a:off x="465120" y="3573360"/>
            <a:ext cx="8275680" cy="1656000"/>
          </a:xfrm>
          <a:prstGeom prst="wedgeRectCallout">
            <a:avLst>
              <a:gd name="adj1" fmla="val -19319"/>
              <a:gd name="adj2" fmla="val -71152"/>
            </a:avLst>
          </a:prstGeom>
          <a:solidFill>
            <a:srgbClr val="b3d5ef"/>
          </a:solidFill>
          <a:ln w="25560">
            <a:solidFill>
              <a:srgbClr val="839c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0014f"/>
                </a:solidFill>
                <a:latin typeface="楷体"/>
                <a:ea typeface="楷体"/>
              </a:rPr>
              <a:t>规律总结：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选择的试剂与待测液之间反应时伴随的现象：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有气体产生；有沉淀产生；无明显现象。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Box 5"/>
          <p:cNvSpPr/>
          <p:nvPr/>
        </p:nvSpPr>
        <p:spPr>
          <a:xfrm>
            <a:off x="468360" y="907920"/>
            <a:ext cx="40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不用其他试剂的鉴别：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TextBox 6"/>
          <p:cNvSpPr/>
          <p:nvPr/>
        </p:nvSpPr>
        <p:spPr>
          <a:xfrm>
            <a:off x="755640" y="1739880"/>
            <a:ext cx="76582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有四种溶液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Fe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Mg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NaO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KC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液在不用其他试剂的情况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，鉴别顺序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___        __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TextBox 3"/>
          <p:cNvSpPr/>
          <p:nvPr/>
        </p:nvSpPr>
        <p:spPr>
          <a:xfrm>
            <a:off x="4427640" y="90792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先观察鉴别出有色物质，再利用该物质鉴别其他物质。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TextBox 7"/>
          <p:cNvSpPr/>
          <p:nvPr/>
        </p:nvSpPr>
        <p:spPr>
          <a:xfrm>
            <a:off x="658800" y="4437000"/>
            <a:ext cx="76582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练习：有四种溶液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Cu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Mg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KO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K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液在不用其他试剂的情况下，鉴别顺序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___        __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Box 5"/>
          <p:cNvSpPr/>
          <p:nvPr/>
        </p:nvSpPr>
        <p:spPr>
          <a:xfrm>
            <a:off x="468360" y="907920"/>
            <a:ext cx="40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不用其他试剂的鉴别：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TextBox 2"/>
          <p:cNvSpPr/>
          <p:nvPr/>
        </p:nvSpPr>
        <p:spPr>
          <a:xfrm>
            <a:off x="291960" y="1438200"/>
            <a:ext cx="8569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7b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00007b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7b"/>
                </a:solidFill>
                <a:latin typeface="Arial"/>
              </a:rPr>
              <a:t>：有四种无色溶液：不外加试剂将其鉴别开。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b"/>
                </a:solidFill>
                <a:latin typeface="Arial"/>
              </a:rPr>
              <a:t>Na</a:t>
            </a:r>
            <a:r>
              <a:rPr b="0" lang="en-US" sz="3200" spc="-1" strike="noStrike" baseline="-25000">
                <a:solidFill>
                  <a:srgbClr val="00007b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7b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7b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7b"/>
                </a:solidFill>
                <a:latin typeface="Arial"/>
              </a:rPr>
              <a:t>  Na</a:t>
            </a:r>
            <a:r>
              <a:rPr b="0" lang="en-US" sz="3200" spc="-1" strike="noStrike" baseline="-25000">
                <a:solidFill>
                  <a:srgbClr val="00007b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7b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7b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7b"/>
                </a:solidFill>
                <a:latin typeface="Arial"/>
              </a:rPr>
              <a:t>   BaCl</a:t>
            </a:r>
            <a:r>
              <a:rPr b="0" lang="en-US" sz="3200" spc="-1" strike="noStrike" baseline="-25000">
                <a:solidFill>
                  <a:srgbClr val="00007b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7b"/>
                </a:solidFill>
                <a:latin typeface="Arial"/>
              </a:rPr>
              <a:t>   HNO</a:t>
            </a:r>
            <a:r>
              <a:rPr b="0" lang="en-US" sz="3200" spc="-1" strike="noStrike" baseline="-25000">
                <a:solidFill>
                  <a:srgbClr val="00007b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4576680" y="97632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无色溶液：两两互滴法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Box 1"/>
          <p:cNvSpPr/>
          <p:nvPr/>
        </p:nvSpPr>
        <p:spPr>
          <a:xfrm>
            <a:off x="324000" y="1268280"/>
            <a:ext cx="6624360" cy="45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b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7b"/>
                </a:solidFill>
                <a:latin typeface="Arial"/>
              </a:rPr>
              <a:t>下列各组物质的溶液，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7b"/>
                </a:solidFill>
                <a:latin typeface="Arial"/>
              </a:rPr>
              <a:t>不用其他试剂就能一一鉴别的是</a:t>
            </a:r>
            <a:r>
              <a:rPr b="0" lang="en-US" sz="2800" spc="-1" strike="noStrike">
                <a:solidFill>
                  <a:srgbClr val="00007b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b"/>
                </a:solidFill>
                <a:latin typeface="Arial"/>
              </a:rPr>
              <a:t>A.NaCl   AgNO</a:t>
            </a:r>
            <a:r>
              <a:rPr b="0" lang="en-US" sz="2800" spc="-1" strike="noStrike" baseline="-25000">
                <a:solidFill>
                  <a:srgbClr val="00007b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7b"/>
                </a:solidFill>
                <a:latin typeface="Arial"/>
              </a:rPr>
              <a:t>  CaCl</a:t>
            </a:r>
            <a:r>
              <a:rPr b="0" lang="en-US" sz="2800" spc="-1" strike="noStrike" baseline="-25000">
                <a:solidFill>
                  <a:srgbClr val="00007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7b"/>
                </a:solidFill>
                <a:latin typeface="Arial"/>
              </a:rPr>
              <a:t>   NaNO</a:t>
            </a:r>
            <a:r>
              <a:rPr b="0" lang="en-US" sz="2800" spc="-1" strike="noStrike" baseline="-25000">
                <a:solidFill>
                  <a:srgbClr val="00007b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7b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b"/>
                </a:solidFill>
                <a:latin typeface="Arial"/>
              </a:rPr>
              <a:t>B. Na</a:t>
            </a:r>
            <a:r>
              <a:rPr b="0" lang="en-US" sz="2800" spc="-1" strike="noStrike" baseline="-25000">
                <a:solidFill>
                  <a:srgbClr val="00007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7b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7b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7b"/>
                </a:solidFill>
                <a:latin typeface="Arial"/>
              </a:rPr>
              <a:t>  BaCl</a:t>
            </a:r>
            <a:r>
              <a:rPr b="0" lang="en-US" sz="2800" spc="-1" strike="noStrike" baseline="-25000">
                <a:solidFill>
                  <a:srgbClr val="00007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7b"/>
                </a:solidFill>
                <a:latin typeface="Arial"/>
              </a:rPr>
              <a:t>   K</a:t>
            </a:r>
            <a:r>
              <a:rPr b="0" lang="en-US" sz="2800" spc="-1" strike="noStrike" baseline="-25000">
                <a:solidFill>
                  <a:srgbClr val="00007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7b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7b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7b"/>
                </a:solidFill>
                <a:latin typeface="Arial"/>
              </a:rPr>
              <a:t>   KNO</a:t>
            </a:r>
            <a:r>
              <a:rPr b="0" lang="en-US" sz="2800" spc="-1" strike="noStrike" baseline="-25000">
                <a:solidFill>
                  <a:srgbClr val="00007b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7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b"/>
                </a:solidFill>
                <a:latin typeface="Arial"/>
              </a:rPr>
              <a:t>C. CuSO</a:t>
            </a:r>
            <a:r>
              <a:rPr b="0" lang="en-US" sz="2800" spc="-1" strike="noStrike" baseline="-25000">
                <a:solidFill>
                  <a:srgbClr val="00007b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7b"/>
                </a:solidFill>
                <a:latin typeface="Arial"/>
              </a:rPr>
              <a:t>   BaCl</a:t>
            </a:r>
            <a:r>
              <a:rPr b="0" lang="en-US" sz="2800" spc="-1" strike="noStrike" baseline="-25000">
                <a:solidFill>
                  <a:srgbClr val="00007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7b"/>
                </a:solidFill>
                <a:latin typeface="Arial"/>
              </a:rPr>
              <a:t>   NaOH   NaCl    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b"/>
                </a:solidFill>
                <a:latin typeface="Arial"/>
              </a:rPr>
              <a:t>D. HCl   Na</a:t>
            </a:r>
            <a:r>
              <a:rPr b="0" lang="en-US" sz="2800" spc="-1" strike="noStrike" baseline="-25000">
                <a:solidFill>
                  <a:srgbClr val="00007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7b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7b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7b"/>
                </a:solidFill>
                <a:latin typeface="Arial"/>
              </a:rPr>
              <a:t>  BaCl</a:t>
            </a:r>
            <a:r>
              <a:rPr b="0" lang="en-US" sz="2800" spc="-1" strike="noStrike" baseline="-25000">
                <a:solidFill>
                  <a:srgbClr val="00007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7b"/>
                </a:solidFill>
                <a:latin typeface="Arial"/>
              </a:rPr>
              <a:t>   H</a:t>
            </a:r>
            <a:r>
              <a:rPr b="0" lang="en-US" sz="2800" spc="-1" strike="noStrike" baseline="-25000">
                <a:solidFill>
                  <a:srgbClr val="00007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7b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7b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TextBox 2"/>
          <p:cNvSpPr/>
          <p:nvPr/>
        </p:nvSpPr>
        <p:spPr>
          <a:xfrm>
            <a:off x="684360" y="33336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华文行楷"/>
                <a:ea typeface="华文行楷"/>
              </a:rPr>
              <a:t>课堂练习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TextBox 4"/>
          <p:cNvSpPr/>
          <p:nvPr/>
        </p:nvSpPr>
        <p:spPr>
          <a:xfrm>
            <a:off x="5396040" y="1773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C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Box 6"/>
          <p:cNvSpPr/>
          <p:nvPr/>
        </p:nvSpPr>
        <p:spPr>
          <a:xfrm>
            <a:off x="658800" y="476280"/>
            <a:ext cx="20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隶书"/>
                <a:ea typeface="华文隶书"/>
              </a:rPr>
              <a:t>课堂小结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TextBox 10"/>
          <p:cNvSpPr/>
          <p:nvPr/>
        </p:nvSpPr>
        <p:spPr>
          <a:xfrm>
            <a:off x="658800" y="1000080"/>
            <a:ext cx="7585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一、物质（离子）的检验：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H</a:t>
            </a:r>
            <a:r>
              <a:rPr b="1" lang="en-US" sz="2400" spc="-1" strike="noStrike" baseline="30000">
                <a:solidFill>
                  <a:srgbClr val="ff0066"/>
                </a:solidFill>
                <a:latin typeface="宋体"/>
              </a:rPr>
              <a:t>+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OH</a:t>
            </a:r>
            <a:r>
              <a:rPr b="0" lang="en-US" sz="24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l</a:t>
            </a:r>
            <a:r>
              <a:rPr b="0" lang="en-US" sz="2400" spc="-1" strike="noStrike" baseline="30000">
                <a:solidFill>
                  <a:srgbClr val="ff0066"/>
                </a:solidFill>
                <a:latin typeface="Arial"/>
              </a:rPr>
              <a:t>—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,  SO</a:t>
            </a:r>
            <a:r>
              <a:rPr b="0" lang="en-US" sz="24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0066"/>
                </a:solidFill>
                <a:latin typeface="Arial"/>
              </a:rPr>
              <a:t>2-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, CO</a:t>
            </a:r>
            <a:r>
              <a:rPr b="0" lang="en-US" sz="24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0066"/>
                </a:solidFill>
                <a:latin typeface="Arial"/>
              </a:rPr>
              <a:t>2-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,  NH</a:t>
            </a:r>
            <a:r>
              <a:rPr b="0" lang="en-US" sz="24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TextBox 11"/>
          <p:cNvSpPr/>
          <p:nvPr/>
        </p:nvSpPr>
        <p:spPr>
          <a:xfrm>
            <a:off x="449280" y="2444760"/>
            <a:ext cx="73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二、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质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的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鉴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别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左大括号 12"/>
          <p:cNvSpPr/>
          <p:nvPr/>
        </p:nvSpPr>
        <p:spPr>
          <a:xfrm>
            <a:off x="1042920" y="2200320"/>
            <a:ext cx="936720" cy="3244680"/>
          </a:xfrm>
          <a:custGeom>
            <a:avLst/>
            <a:gdLst>
              <a:gd name="textAreaLeft" fmla="*/ 598680 w 936720"/>
              <a:gd name="textAreaRight" fmla="*/ 937080 w 936720"/>
              <a:gd name="textAreaTop" fmla="*/ 24120 h 3244680"/>
              <a:gd name="textAreaBottom" fmla="*/ 3220560 h 324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0"/>
                  <a:pt x="10800" y="520"/>
                </a:cubicBezTo>
                <a:lnTo>
                  <a:pt x="10800" y="10280"/>
                </a:lnTo>
                <a:cubicBezTo>
                  <a:pt x="10800" y="10540"/>
                  <a:pt x="5400" y="10800"/>
                  <a:pt x="0" y="10800"/>
                </a:cubicBezTo>
                <a:cubicBezTo>
                  <a:pt x="5400" y="10800"/>
                  <a:pt x="10800" y="11060"/>
                  <a:pt x="10800" y="11320"/>
                </a:cubicBezTo>
                <a:lnTo>
                  <a:pt x="10800" y="21080"/>
                </a:lnTo>
                <a:cubicBezTo>
                  <a:pt x="10800" y="2134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TextBox 14"/>
          <p:cNvSpPr/>
          <p:nvPr/>
        </p:nvSpPr>
        <p:spPr>
          <a:xfrm>
            <a:off x="1979640" y="2232000"/>
            <a:ext cx="218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 Black"/>
              </a:rPr>
              <a:t>①</a:t>
            </a:r>
            <a:r>
              <a:rPr b="1" lang="zh-CN" sz="2800" spc="-1" strike="noStrike">
                <a:solidFill>
                  <a:srgbClr val="c00000"/>
                </a:solidFill>
                <a:latin typeface="Arial Black"/>
              </a:rPr>
              <a:t>用水鉴别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Rectangle 2"/>
          <p:cNvSpPr/>
          <p:nvPr/>
        </p:nvSpPr>
        <p:spPr>
          <a:xfrm>
            <a:off x="1967040" y="3137040"/>
            <a:ext cx="31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 Black"/>
              </a:rPr>
              <a:t>②</a:t>
            </a:r>
            <a:r>
              <a:rPr b="1" lang="zh-CN" sz="2400" spc="-1" strike="noStrike">
                <a:solidFill>
                  <a:srgbClr val="c00000"/>
                </a:solidFill>
                <a:latin typeface="Arial Black"/>
              </a:rPr>
              <a:t>用酸碱指示剂鉴别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Text Box 2"/>
          <p:cNvSpPr/>
          <p:nvPr/>
        </p:nvSpPr>
        <p:spPr>
          <a:xfrm>
            <a:off x="2095560" y="3727440"/>
            <a:ext cx="522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 Black"/>
              </a:rPr>
              <a:t>③</a:t>
            </a:r>
            <a:r>
              <a:rPr b="1" lang="zh-CN" sz="2400" spc="-1" strike="noStrike">
                <a:solidFill>
                  <a:srgbClr val="c00000"/>
                </a:solidFill>
                <a:latin typeface="Arial Black"/>
              </a:rPr>
              <a:t>一种试剂与待测物间相互反应鉴别   </a:t>
            </a:r>
            <a:r>
              <a:rPr b="1" lang="zh-CN" sz="2800" spc="-1" strike="noStrike">
                <a:solidFill>
                  <a:srgbClr val="c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TextBox 17"/>
          <p:cNvSpPr/>
          <p:nvPr/>
        </p:nvSpPr>
        <p:spPr>
          <a:xfrm>
            <a:off x="1967040" y="5089680"/>
            <a:ext cx="40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④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不用其他试剂的鉴别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左大括号 18"/>
          <p:cNvSpPr/>
          <p:nvPr/>
        </p:nvSpPr>
        <p:spPr>
          <a:xfrm>
            <a:off x="3780000" y="1916280"/>
            <a:ext cx="569880" cy="968040"/>
          </a:xfrm>
          <a:custGeom>
            <a:avLst/>
            <a:gdLst>
              <a:gd name="textAreaLeft" fmla="*/ 364320 w 569880"/>
              <a:gd name="textAreaRight" fmla="*/ 570240 w 569880"/>
              <a:gd name="textAreaTop" fmla="*/ 14760 h 968040"/>
              <a:gd name="textAreaBottom" fmla="*/ 953280 h 96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0"/>
                  <a:pt x="10800" y="1059"/>
                </a:cubicBezTo>
                <a:lnTo>
                  <a:pt x="10800" y="9741"/>
                </a:lnTo>
                <a:cubicBezTo>
                  <a:pt x="10800" y="10271"/>
                  <a:pt x="5400" y="10800"/>
                  <a:pt x="0" y="10800"/>
                </a:cubicBezTo>
                <a:cubicBezTo>
                  <a:pt x="5400" y="10800"/>
                  <a:pt x="10800" y="11330"/>
                  <a:pt x="10800" y="11859"/>
                </a:cubicBezTo>
                <a:lnTo>
                  <a:pt x="10800" y="20541"/>
                </a:lnTo>
                <a:cubicBezTo>
                  <a:pt x="10800" y="2107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左大括号 19"/>
          <p:cNvSpPr/>
          <p:nvPr/>
        </p:nvSpPr>
        <p:spPr>
          <a:xfrm>
            <a:off x="5175360" y="4917960"/>
            <a:ext cx="336600" cy="1054080"/>
          </a:xfrm>
          <a:custGeom>
            <a:avLst/>
            <a:gdLst>
              <a:gd name="textAreaLeft" fmla="*/ 215280 w 336600"/>
              <a:gd name="textAreaRight" fmla="*/ 336960 w 336600"/>
              <a:gd name="textAreaTop" fmla="*/ 8640 h 1054080"/>
              <a:gd name="textAreaBottom" fmla="*/ 1045440 h 105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8"/>
                  <a:pt x="10800" y="575"/>
                </a:cubicBezTo>
                <a:lnTo>
                  <a:pt x="10800" y="10225"/>
                </a:lnTo>
                <a:cubicBezTo>
                  <a:pt x="10800" y="10513"/>
                  <a:pt x="5400" y="10800"/>
                  <a:pt x="0" y="10800"/>
                </a:cubicBezTo>
                <a:cubicBezTo>
                  <a:pt x="5400" y="10800"/>
                  <a:pt x="10800" y="11088"/>
                  <a:pt x="10800" y="11375"/>
                </a:cubicBezTo>
                <a:lnTo>
                  <a:pt x="10800" y="21025"/>
                </a:lnTo>
                <a:cubicBezTo>
                  <a:pt x="10800" y="2131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4343400" y="183024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0014f"/>
                </a:solidFill>
                <a:latin typeface="Arial Black"/>
              </a:rPr>
              <a:t>溶解性差异较大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4349880" y="228276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0014f"/>
                </a:solidFill>
                <a:latin typeface="Arial Black"/>
              </a:rPr>
              <a:t>溶于水颜色发生明显变化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4349880" y="2684520"/>
            <a:ext cx="39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0014f"/>
                </a:solidFill>
                <a:latin typeface="Arial Black"/>
              </a:rPr>
              <a:t>溶于水温度发生明显变化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TextBox 23"/>
          <p:cNvSpPr/>
          <p:nvPr/>
        </p:nvSpPr>
        <p:spPr>
          <a:xfrm>
            <a:off x="4981680" y="3143160"/>
            <a:ext cx="38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90279"/>
                </a:solidFill>
                <a:latin typeface="Arial"/>
              </a:rPr>
              <a:t>酸碱性明显不同的物质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TextBox 24"/>
          <p:cNvSpPr/>
          <p:nvPr/>
        </p:nvSpPr>
        <p:spPr>
          <a:xfrm>
            <a:off x="2498760" y="414972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楷体"/>
                <a:ea typeface="楷体"/>
              </a:rPr>
              <a:t>有气体产生；有沉淀产生；无明显现象。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TextBox 25"/>
          <p:cNvSpPr/>
          <p:nvPr/>
        </p:nvSpPr>
        <p:spPr>
          <a:xfrm>
            <a:off x="5502240" y="4753080"/>
            <a:ext cx="363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先观察鉴别出有色物质，再利用该物质鉴别其他物质。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TextBox 26"/>
          <p:cNvSpPr/>
          <p:nvPr/>
        </p:nvSpPr>
        <p:spPr>
          <a:xfrm>
            <a:off x="5551560" y="562752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两两互滴法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Box 6"/>
          <p:cNvSpPr/>
          <p:nvPr/>
        </p:nvSpPr>
        <p:spPr>
          <a:xfrm>
            <a:off x="658800" y="476280"/>
            <a:ext cx="20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隶书"/>
                <a:ea typeface="华文隶书"/>
              </a:rPr>
              <a:t>课堂检测：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TextBox 2"/>
          <p:cNvSpPr/>
          <p:nvPr/>
        </p:nvSpPr>
        <p:spPr>
          <a:xfrm>
            <a:off x="395280" y="968400"/>
            <a:ext cx="8569440" cy="42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2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52"/>
                </a:solidFill>
                <a:latin typeface="Arial"/>
              </a:rPr>
              <a:t>．现有</a:t>
            </a:r>
            <a:r>
              <a:rPr b="0" lang="en-US" sz="2400" spc="-1" strike="noStrike">
                <a:solidFill>
                  <a:srgbClr val="000052"/>
                </a:solidFill>
                <a:latin typeface="Arial"/>
              </a:rPr>
              <a:t>Na</a:t>
            </a:r>
            <a:r>
              <a:rPr b="0" lang="en-US" sz="2400" spc="-1" strike="noStrike" baseline="-25000">
                <a:solidFill>
                  <a:srgbClr val="000052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52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000052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52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52"/>
                </a:solidFill>
                <a:latin typeface="Arial"/>
              </a:rPr>
              <a:t>Na</a:t>
            </a:r>
            <a:r>
              <a:rPr b="0" lang="en-US" sz="2400" spc="-1" strike="noStrike" baseline="-25000">
                <a:solidFill>
                  <a:srgbClr val="000052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52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52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52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52"/>
                </a:solidFill>
                <a:latin typeface="Arial"/>
              </a:rPr>
              <a:t>AgNO</a:t>
            </a:r>
            <a:r>
              <a:rPr b="0" lang="en-US" sz="2400" spc="-1" strike="noStrike" baseline="-25000">
                <a:solidFill>
                  <a:srgbClr val="000052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52"/>
                </a:solidFill>
                <a:latin typeface="Arial"/>
              </a:rPr>
              <a:t>三种无色溶液，请用一种试剂一次鉴别出来，则该试剂应选（</a:t>
            </a:r>
            <a:r>
              <a:rPr b="0" lang="en-US" sz="2400" spc="-1" strike="noStrike">
                <a:solidFill>
                  <a:srgbClr val="000052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52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52"/>
                </a:solidFill>
                <a:latin typeface="Arial"/>
              </a:rPr>
              <a:t>A. BaCl</a:t>
            </a:r>
            <a:r>
              <a:rPr b="0" lang="en-US" sz="2400" spc="-1" strike="noStrike" baseline="-25000">
                <a:solidFill>
                  <a:srgbClr val="000052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52"/>
                </a:solidFill>
                <a:latin typeface="Arial"/>
              </a:rPr>
              <a:t>溶液</a:t>
            </a:r>
            <a:r>
              <a:rPr b="0" lang="en-US" sz="2400" spc="-1" strike="noStrike">
                <a:solidFill>
                  <a:srgbClr val="000052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52"/>
                </a:solidFill>
                <a:latin typeface="Arial"/>
              </a:rPr>
              <a:t>B.</a:t>
            </a:r>
            <a:r>
              <a:rPr b="0" lang="zh-CN" sz="2400" spc="-1" strike="noStrike">
                <a:solidFill>
                  <a:srgbClr val="000052"/>
                </a:solidFill>
                <a:latin typeface="Arial"/>
              </a:rPr>
              <a:t>稀硝酸</a:t>
            </a:r>
            <a:r>
              <a:rPr b="0" lang="en-US" sz="2400" spc="-1" strike="noStrike">
                <a:solidFill>
                  <a:srgbClr val="000052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52"/>
                </a:solidFill>
                <a:latin typeface="Arial"/>
              </a:rPr>
              <a:t>C.NaOH</a:t>
            </a:r>
            <a:r>
              <a:rPr b="0" lang="zh-CN" sz="2400" spc="-1" strike="noStrike">
                <a:solidFill>
                  <a:srgbClr val="000052"/>
                </a:solidFill>
                <a:latin typeface="Arial"/>
              </a:rPr>
              <a:t>溶液</a:t>
            </a:r>
            <a:r>
              <a:rPr b="0" lang="en-US" sz="2400" spc="-1" strike="noStrike">
                <a:solidFill>
                  <a:srgbClr val="000052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52"/>
                </a:solidFill>
                <a:latin typeface="Arial"/>
              </a:rPr>
              <a:t>D.</a:t>
            </a:r>
            <a:r>
              <a:rPr b="0" lang="zh-CN" sz="2400" spc="-1" strike="noStrike">
                <a:solidFill>
                  <a:srgbClr val="000052"/>
                </a:solidFill>
                <a:latin typeface="Arial"/>
              </a:rPr>
              <a:t>稀盐酸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2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52"/>
                </a:solidFill>
                <a:latin typeface="Arial"/>
              </a:rPr>
              <a:t>．只用水就能直接鉴别的一组物质是（</a:t>
            </a:r>
            <a:r>
              <a:rPr b="0" lang="en-US" sz="2400" spc="-1" strike="noStrike">
                <a:solidFill>
                  <a:srgbClr val="000052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52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2"/>
                </a:solidFill>
                <a:latin typeface="Arial"/>
              </a:rPr>
              <a:t>A. NaCl</a:t>
            </a:r>
            <a:r>
              <a:rPr b="0" lang="zh-CN" sz="2400" spc="-1" strike="noStrike">
                <a:solidFill>
                  <a:srgbClr val="000052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52"/>
                </a:solidFill>
                <a:latin typeface="Arial"/>
              </a:rPr>
              <a:t>CaCl</a:t>
            </a:r>
            <a:r>
              <a:rPr b="0" lang="en-US" sz="2400" spc="-1" strike="noStrike" baseline="-25000">
                <a:solidFill>
                  <a:srgbClr val="000052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52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52"/>
                </a:solidFill>
                <a:latin typeface="Arial"/>
              </a:rPr>
              <a:t>BaCl</a:t>
            </a:r>
            <a:r>
              <a:rPr b="0" lang="en-US" sz="2400" spc="-1" strike="noStrike" baseline="-25000">
                <a:solidFill>
                  <a:srgbClr val="000052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52"/>
                </a:solidFill>
                <a:latin typeface="Arial"/>
              </a:rPr>
              <a:t>       B. AgCl</a:t>
            </a:r>
            <a:r>
              <a:rPr b="0" lang="zh-CN" sz="2400" spc="-1" strike="noStrike">
                <a:solidFill>
                  <a:srgbClr val="000052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52"/>
                </a:solidFill>
                <a:latin typeface="Arial"/>
              </a:rPr>
              <a:t>BaSO</a:t>
            </a:r>
            <a:r>
              <a:rPr b="0" lang="en-US" sz="2400" spc="-1" strike="noStrike" baseline="-25000">
                <a:solidFill>
                  <a:srgbClr val="000052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52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52"/>
                </a:solidFill>
                <a:latin typeface="Arial"/>
              </a:rPr>
              <a:t>CuSO</a:t>
            </a:r>
            <a:r>
              <a:rPr b="0" lang="en-US" sz="2400" spc="-1" strike="noStrike" baseline="-25000">
                <a:solidFill>
                  <a:srgbClr val="000052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5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2"/>
                </a:solidFill>
                <a:latin typeface="Arial"/>
              </a:rPr>
              <a:t>C. CuSO</a:t>
            </a:r>
            <a:r>
              <a:rPr b="0" lang="en-US" sz="2400" spc="-1" strike="noStrike" baseline="-25000">
                <a:solidFill>
                  <a:srgbClr val="000052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52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52"/>
                </a:solidFill>
                <a:latin typeface="Arial"/>
              </a:rPr>
              <a:t>Na</a:t>
            </a:r>
            <a:r>
              <a:rPr b="0" lang="en-US" sz="2400" spc="-1" strike="noStrike" baseline="-25000">
                <a:solidFill>
                  <a:srgbClr val="000052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52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52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52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52"/>
                </a:solidFill>
                <a:latin typeface="Arial"/>
              </a:rPr>
              <a:t>CaCO</a:t>
            </a:r>
            <a:r>
              <a:rPr b="0" lang="en-US" sz="2400" spc="-1" strike="noStrike" baseline="-25000">
                <a:solidFill>
                  <a:srgbClr val="000052"/>
                </a:solidFill>
                <a:latin typeface="Arial"/>
              </a:rPr>
              <a:t>3     </a:t>
            </a:r>
            <a:r>
              <a:rPr b="0" lang="en-US" sz="2400" spc="-1" strike="noStrike">
                <a:solidFill>
                  <a:srgbClr val="000052"/>
                </a:solidFill>
                <a:latin typeface="Arial"/>
              </a:rPr>
              <a:t>D. AgCl</a:t>
            </a:r>
            <a:r>
              <a:rPr b="0" lang="zh-CN" sz="2400" spc="-1" strike="noStrike">
                <a:solidFill>
                  <a:srgbClr val="000052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52"/>
                </a:solidFill>
                <a:latin typeface="Arial"/>
              </a:rPr>
              <a:t>BaSO</a:t>
            </a:r>
            <a:r>
              <a:rPr b="0" lang="en-US" sz="2400" spc="-1" strike="noStrike" baseline="-25000">
                <a:solidFill>
                  <a:srgbClr val="000052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52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52"/>
                </a:solidFill>
                <a:latin typeface="Arial"/>
              </a:rPr>
              <a:t>CaCO</a:t>
            </a:r>
            <a:r>
              <a:rPr b="0" lang="en-US" sz="2400" spc="-1" strike="noStrike" baseline="-25000">
                <a:solidFill>
                  <a:srgbClr val="000052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2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52"/>
                </a:solidFill>
                <a:latin typeface="Arial"/>
              </a:rPr>
              <a:t>．下列四瓶溶液：</a:t>
            </a:r>
            <a:r>
              <a:rPr b="0" lang="en-US" sz="2400" spc="-1" strike="noStrike">
                <a:solidFill>
                  <a:srgbClr val="000052"/>
                </a:solidFill>
                <a:latin typeface="Arial"/>
              </a:rPr>
              <a:t>①</a:t>
            </a:r>
            <a:r>
              <a:rPr b="0" lang="zh-CN" sz="2400" spc="-1" strike="noStrike">
                <a:solidFill>
                  <a:srgbClr val="000052"/>
                </a:solidFill>
                <a:latin typeface="Arial"/>
              </a:rPr>
              <a:t>硫酸铜；</a:t>
            </a:r>
            <a:r>
              <a:rPr b="0" lang="en-US" sz="2400" spc="-1" strike="noStrike">
                <a:solidFill>
                  <a:srgbClr val="000052"/>
                </a:solidFill>
                <a:latin typeface="Arial"/>
              </a:rPr>
              <a:t>②</a:t>
            </a:r>
            <a:r>
              <a:rPr b="0" lang="zh-CN" sz="2400" spc="-1" strike="noStrike">
                <a:solidFill>
                  <a:srgbClr val="000052"/>
                </a:solidFill>
                <a:latin typeface="Arial"/>
              </a:rPr>
              <a:t>氯化镁；</a:t>
            </a:r>
            <a:r>
              <a:rPr b="0" lang="en-US" sz="2400" spc="-1" strike="noStrike">
                <a:solidFill>
                  <a:srgbClr val="000052"/>
                </a:solidFill>
                <a:latin typeface="Arial"/>
              </a:rPr>
              <a:t>③</a:t>
            </a:r>
            <a:r>
              <a:rPr b="0" lang="zh-CN" sz="2400" spc="-1" strike="noStrike">
                <a:solidFill>
                  <a:srgbClr val="000052"/>
                </a:solidFill>
                <a:latin typeface="Arial"/>
              </a:rPr>
              <a:t>氯化钠；</a:t>
            </a:r>
            <a:r>
              <a:rPr b="0" lang="en-US" sz="2400" spc="-1" strike="noStrike">
                <a:solidFill>
                  <a:srgbClr val="000052"/>
                </a:solidFill>
                <a:latin typeface="Arial"/>
              </a:rPr>
              <a:t>④</a:t>
            </a:r>
            <a:r>
              <a:rPr b="0" lang="zh-CN" sz="2400" spc="-1" strike="noStrike">
                <a:solidFill>
                  <a:srgbClr val="000052"/>
                </a:solidFill>
                <a:latin typeface="Arial"/>
              </a:rPr>
              <a:t>氢氧化钾。不用任何其他试剂，将其鉴别出来的顺序为（</a:t>
            </a:r>
            <a:r>
              <a:rPr b="0" lang="en-US" sz="2400" spc="-1" strike="noStrike">
                <a:solidFill>
                  <a:srgbClr val="000052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52"/>
                </a:solidFill>
                <a:latin typeface="Arial"/>
              </a:rPr>
              <a:t>）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2"/>
                </a:solidFill>
                <a:latin typeface="Arial"/>
              </a:rPr>
              <a:t>A. ①②③④     B. ①④②③   C. ①③②④   D. ③②④①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TextBox 7"/>
          <p:cNvSpPr/>
          <p:nvPr/>
        </p:nvSpPr>
        <p:spPr>
          <a:xfrm>
            <a:off x="5292720" y="162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TextBox 8"/>
          <p:cNvSpPr/>
          <p:nvPr/>
        </p:nvSpPr>
        <p:spPr>
          <a:xfrm>
            <a:off x="5769000" y="2708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TextBox 9"/>
          <p:cNvSpPr/>
          <p:nvPr/>
        </p:nvSpPr>
        <p:spPr>
          <a:xfrm>
            <a:off x="7451640" y="494172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矩形 1" descr=""/>
          <p:cNvPicPr/>
          <p:nvPr/>
        </p:nvPicPr>
        <p:blipFill>
          <a:blip r:embed="rId1"/>
          <a:stretch/>
        </p:blipFill>
        <p:spPr>
          <a:xfrm>
            <a:off x="1328760" y="3139920"/>
            <a:ext cx="6450120" cy="21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611280" y="981000"/>
            <a:ext cx="76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【学习目标】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知识与技能：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巩固酸和碱的化学性质；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初步学会常见离子的检验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学会鉴别物质常用的四种方法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过程与方法：通过物质检验与鉴别知识的讨论、归纳总结，培养将知识系统化的能力。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情感态度价值观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在学习中感悟化学的科学魅力，体验掌握知识的快乐。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15"/>
          <p:cNvGrpSpPr/>
          <p:nvPr/>
        </p:nvGrpSpPr>
        <p:grpSpPr>
          <a:xfrm>
            <a:off x="3575160" y="728640"/>
            <a:ext cx="2660040" cy="863640"/>
            <a:chOff x="3575160" y="728640"/>
            <a:chExt cx="2660040" cy="863640"/>
          </a:xfrm>
        </p:grpSpPr>
        <p:sp>
          <p:nvSpPr>
            <p:cNvPr id="229" name="横卷形 1"/>
            <p:cNvSpPr/>
            <p:nvPr/>
          </p:nvSpPr>
          <p:spPr>
            <a:xfrm>
              <a:off x="3575160" y="728640"/>
              <a:ext cx="2660040" cy="863640"/>
            </a:xfrm>
            <a:prstGeom prst="horizontalScroll">
              <a:avLst>
                <a:gd name="adj" fmla="val 125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0" name="Rectangle 17"/>
            <p:cNvSpPr/>
            <p:nvPr/>
          </p:nvSpPr>
          <p:spPr>
            <a:xfrm>
              <a:off x="4436280" y="78408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</a:rPr>
                <a:t>考点解读</a:t>
              </a:r>
              <a:endParaRPr b="0" lang="en-US" sz="4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aphicFrame>
        <p:nvGraphicFramePr>
          <p:cNvPr id="231" name="Object 18"/>
          <p:cNvGraphicFramePr/>
          <p:nvPr/>
        </p:nvGraphicFramePr>
        <p:xfrm>
          <a:off x="111240" y="1197000"/>
          <a:ext cx="8923320" cy="277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2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40" y="1197000"/>
                    <a:ext cx="8923320" cy="27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19"/>
          <p:cNvGraphicFramePr/>
          <p:nvPr/>
        </p:nvGraphicFramePr>
        <p:xfrm>
          <a:off x="0" y="3913200"/>
          <a:ext cx="9010800" cy="2971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34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913200"/>
                    <a:ext cx="9010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Rectangle 20"/>
          <p:cNvSpPr/>
          <p:nvPr/>
        </p:nvSpPr>
        <p:spPr>
          <a:xfrm>
            <a:off x="4359600" y="500148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蓝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Object 8"/>
          <p:cNvGraphicFramePr/>
          <p:nvPr/>
        </p:nvGraphicFramePr>
        <p:xfrm>
          <a:off x="111240" y="1527120"/>
          <a:ext cx="9032760" cy="507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40" y="1527120"/>
                    <a:ext cx="903276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Rectangle 9"/>
          <p:cNvSpPr/>
          <p:nvPr/>
        </p:nvSpPr>
        <p:spPr>
          <a:xfrm>
            <a:off x="5621760" y="26247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变浑浊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4740840" y="363276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复燃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5510520" y="435348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蓝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Object 7"/>
          <p:cNvGraphicFramePr/>
          <p:nvPr/>
        </p:nvGraphicFramePr>
        <p:xfrm>
          <a:off x="0" y="765000"/>
          <a:ext cx="9032760" cy="575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5000"/>
                    <a:ext cx="9032760" cy="57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Rectangle 8"/>
          <p:cNvSpPr/>
          <p:nvPr/>
        </p:nvSpPr>
        <p:spPr>
          <a:xfrm>
            <a:off x="4947480" y="148824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淡蓝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4900680" y="356148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蓝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5546880" y="56491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变浑浊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Object 9"/>
          <p:cNvGraphicFramePr/>
          <p:nvPr/>
        </p:nvGraphicFramePr>
        <p:xfrm>
          <a:off x="55440" y="1509840"/>
          <a:ext cx="9033120" cy="436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40" y="1509840"/>
                    <a:ext cx="903312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10"/>
          <p:cNvSpPr/>
          <p:nvPr/>
        </p:nvSpPr>
        <p:spPr>
          <a:xfrm>
            <a:off x="4929840" y="32169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出现水雾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5221440" y="39344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变浑浊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Object 2"/>
          <p:cNvGraphicFramePr/>
          <p:nvPr/>
        </p:nvGraphicFramePr>
        <p:xfrm>
          <a:off x="111240" y="1011240"/>
          <a:ext cx="8897760" cy="522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40" y="1011240"/>
                    <a:ext cx="8897760" cy="52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Object 2"/>
          <p:cNvGraphicFramePr/>
          <p:nvPr/>
        </p:nvGraphicFramePr>
        <p:xfrm>
          <a:off x="55440" y="631800"/>
          <a:ext cx="9033120" cy="574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40" y="631800"/>
                    <a:ext cx="9033120" cy="57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Rectangle 3"/>
          <p:cNvSpPr/>
          <p:nvPr/>
        </p:nvSpPr>
        <p:spPr>
          <a:xfrm>
            <a:off x="6182280" y="305676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变红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6278400" y="372024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H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小于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6361560" y="444096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有气泡产生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6307560" y="51458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有气泡产生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01:55:01Z</dcterms:created>
  <dc:creator>user</dc:creator>
  <dc:description/>
  <dc:language>en-US</dc:language>
  <cp:lastModifiedBy>Windows User</cp:lastModifiedBy>
  <dcterms:modified xsi:type="dcterms:W3CDTF">2020-04-08T09:45:01Z</dcterms:modified>
  <cp:revision>230</cp:revision>
  <dc:subject/>
  <dc:title>初三化学总复习 物质的鉴别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